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9.gif" ContentType="image/gif"/>
  <Override PartName="/ppt/media/image1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17.png" ContentType="image/png"/>
  <Override PartName="/ppt/media/image2.png" ContentType="image/png"/>
  <Override PartName="/ppt/media/image9.jpeg" ContentType="image/jpeg"/>
  <Override PartName="/ppt/media/image5.png" ContentType="image/png"/>
  <Override PartName="/ppt/media/image8.jpeg" ContentType="image/jpeg"/>
  <Override PartName="/ppt/media/image20.gif" ContentType="image/gif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C4D4-DC38-49FC-BCF5-97E5F330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9667-4B49-4532-87EC-B836731A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4922-78BC-4684-A99D-0E0883F6A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0440-CC82-47AC-8427-90A4C019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4838-4F9A-41E8-AD89-62CA4E4B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FA77-015A-4349-9D7C-857758B4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67EB-63B9-4B87-A149-FE2AA9C1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610B-7B6B-4BF9-B53F-D9316AA9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802F-51F4-4176-B1FA-CC710116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016F-448D-4FDD-B63B-636EE05F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B5F3-BDD3-4909-B01A-9421FC43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B2B0-8A85-475F-9BC3-63D6B8C0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D48E-9225-46AB-B4F6-327539EF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6F5F-E903-4869-BCE8-0136055A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17B4-A2FA-4F60-9376-17C147CC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FDF1-4812-42D7-8B78-81C62B4D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EC60-6CA4-4D3B-B33F-D83BDA09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9D07E-5D5A-49B5-8A83-6762A0E0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4646E-DB69-49F9-8563-68AAD929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7B78A-6641-407D-A753-2A4B130E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8AA14-ABFD-4D1B-B25C-466AFDC9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7579A-3EA5-4896-8C32-B4F104E9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9DC0-599B-418C-BD7F-B0E7A6BE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2685E-67B1-45E1-A8D6-920B4D8B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C1142-839A-49A5-BA6E-535EC30C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791EE-3248-4E2F-89F8-E8305DF1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AEC38-C398-41E4-B606-FCF0E092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50C06-A527-4C4D-9996-46B1BFD3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849E6-2594-443B-B45F-3E3DEB21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490C4-AB98-462D-9A72-EA2D62E2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04A38-31E3-4FD2-B3D8-0930125E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5F3C8-F025-44BE-A0B2-ABAF52BE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24322-78F8-4E81-89EE-CACC0C91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FE62-25B3-4ACB-9FDD-D20A6B97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F5EB1-B35F-459C-8AAA-1BCF1A18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2C844-AFCD-47D8-9379-7FA368C9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64170-2366-4AB8-9345-70025223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24F2C-06D6-4EFC-B139-E95682C7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05BA8-A9F3-4898-A06E-E1AE04E2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B4433-E01C-48EE-8F18-115090E3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700DD-52C6-4DA5-B99E-AFC63906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7B1F5-BF28-4ACA-8979-F3BBB4B4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688D5-DEBF-429A-A15A-A7F2AD04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926BA-DE99-41CA-AE2D-8A508A019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39F8-735E-483E-86AC-9688CBE0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97831-404A-4B31-A6DD-3287DD0A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9C0FE-D2C7-4290-8564-A1EC0FE3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99B16-C0B8-45B0-88F0-5D3300C3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23A92-CD85-49C2-8831-A4ACE129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CB638-D68D-47BD-B513-492ADE41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B196D-9190-416C-B5E5-FAB23E29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319FC-6E9D-4602-AAF2-A1E3E115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C946F-70BB-4449-9512-66B53048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E9D09-AB0A-4802-B177-B9A07D2B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F35BB-E710-4A8C-83F5-78F2E2FF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F680-6DB9-4A36-9F0D-A275FE4E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B2529-C44C-4D56-8A74-3612255A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99BA2-C0DB-4D5A-98FE-438A1300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7FC5E-775B-4457-8E8A-752E81C5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6E619-A937-44C8-A444-CBDB95B0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FEA5B-FA34-4312-8195-8D2AEF68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ED5AC-CF9B-47E7-9AD0-6F7D2535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8533B-B781-4E77-95FB-0ADCCA0A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D38ED-2402-4F93-897C-7BC4064A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94523-99BD-44AE-A5F7-9EB3112C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22779-783C-4319-A504-A47C2C7A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955C-AB6D-4F60-8BFA-C1A52581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FCB3A-3DD0-4FD5-999D-F106030C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B069E-8039-4DA5-9C24-0D4C8E73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29B2F-A68C-4654-8800-426C9C9B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47FAC-45DE-493D-8D57-FD1B2C18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DC1A5-8BDB-47D6-8CA6-9ABE017E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9EA0A-7C27-4074-B208-D9569732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97775-FC6A-415E-88E9-11F8195B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DF96E-32BB-4DFA-9CDA-D2D555CD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3BB8E-5477-4475-95D0-2772A304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08D57-4EDE-4603-A28E-A216822A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8289-4469-40BA-B19B-3CD3A824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B6CA9-4C92-48A2-9381-3AEA4BB7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DAC5D-280D-4D00-88BE-87DA8B2F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7ACF2-B608-42DA-8E99-6353FF6E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CEDCE-1E44-47A7-B175-82E0B51F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64D0C-A49B-41F9-9350-F36F57A4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7DAE-8C4E-4504-A34F-FFD789E9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9BCB-CC17-41F0-A617-9DADE42770C8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8FAD-F8A2-4906-A6A0-AC55E93F1BEB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326B-8F3E-41AD-BF35-61B812FA99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9DDB-F8F3-45B6-967D-8D5BC2D301DE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84A6-E7F8-4A07-B04C-3D299DAC8878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-219240" y="666720"/>
            <a:ext cx="8678520" cy="6191280"/>
            <a:chOff x="-219240" y="666720"/>
            <a:chExt cx="8678520" cy="6191280"/>
          </a:xfrm>
        </p:grpSpPr>
        <p:sp>
          <p:nvSpPr>
            <p:cNvPr id="222" name=""/>
            <p:cNvSpPr/>
            <p:nvPr/>
          </p:nvSpPr>
          <p:spPr>
            <a:xfrm>
              <a:off x="694080" y="666720"/>
              <a:ext cx="776520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237240" y="3733920"/>
              <a:ext cx="124776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3"/>
            <a:stretch/>
          </p:blipFill>
          <p:spPr>
            <a:xfrm>
              <a:off x="-219240" y="4916520"/>
              <a:ext cx="377856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7E16-AA5D-44BD-9C12-C172E7EEBD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267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3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PlaceHolder 1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718A-66C7-4C6D-AFF8-FA45847C7B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-22320" y="0"/>
            <a:ext cx="912816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矩形 4"/>
          <p:cNvSpPr/>
          <p:nvPr/>
        </p:nvSpPr>
        <p:spPr>
          <a:xfrm>
            <a:off x="5003640" y="450864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ff"/>
                </a:solidFill>
                <a:latin typeface="华文隶书"/>
                <a:ea typeface="华文隶书"/>
              </a:rPr>
              <a:t>安庆市外国语学校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" name="矩形 3"/>
          <p:cNvSpPr/>
          <p:nvPr/>
        </p:nvSpPr>
        <p:spPr>
          <a:xfrm>
            <a:off x="34920" y="-12600"/>
            <a:ext cx="7010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初中数学八年级上册（沪科版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00880" y="5486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聂林芳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 rot="21252000">
            <a:off x="466560" y="907920"/>
            <a:ext cx="7612200" cy="30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12.2.2</a:t>
            </a: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一次函数的图像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762120" y="0"/>
            <a:ext cx="2514600" cy="2057400"/>
          </a:xfrm>
          <a:prstGeom prst="smileyFace">
            <a:avLst>
              <a:gd name="adj" fmla="val 4653"/>
            </a:avLst>
          </a:prstGeom>
          <a:solidFill>
            <a:srgbClr val="00cc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9640" y="1413000"/>
            <a:ext cx="8382240" cy="4724280"/>
          </a:xfrm>
          <a:prstGeom prst="wedgeEllipseCallout">
            <a:avLst>
              <a:gd name="adj1" fmla="val -30833"/>
              <a:gd name="adj2" fmla="val -45361"/>
            </a:avLst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次函数的图像是什么形状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画一次函数图像时，只要取几个点？怎样取比较简单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个一次函数图像，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怎么样时</a:t>
            </a:r>
            <a:r>
              <a:rPr b="1" lang="en-US" sz="3200" spc="-1" strike="noStrike">
                <a:solidFill>
                  <a:srgbClr val="3c1e08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图像平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ｙ＝ｋｘ＋ｂ（ｋ≠０）的图象经过哪几个象限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09880" y="38088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990033"/>
                </a:solidFill>
                <a:latin typeface="Times New Roman"/>
                <a:ea typeface="幼圆"/>
              </a:rPr>
              <a:t>回顾小结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5977080" cy="4491000"/>
          </a:xfrm>
          <a:prstGeom prst="rect">
            <a:avLst/>
          </a:prstGeom>
          <a:ln w="0">
            <a:noFill/>
          </a:ln>
        </p:spPr>
      </p:pic>
      <p:grpSp>
        <p:nvGrpSpPr>
          <p:cNvPr id="417" name=""/>
          <p:cNvGrpSpPr/>
          <p:nvPr/>
        </p:nvGrpSpPr>
        <p:grpSpPr>
          <a:xfrm>
            <a:off x="3924360" y="3933720"/>
            <a:ext cx="1799640" cy="1599840"/>
            <a:chOff x="3924360" y="3933720"/>
            <a:chExt cx="1799640" cy="1599840"/>
          </a:xfrm>
        </p:grpSpPr>
        <p:pic>
          <p:nvPicPr>
            <p:cNvPr id="418" name="" descr=""/>
            <p:cNvPicPr/>
            <p:nvPr/>
          </p:nvPicPr>
          <p:blipFill>
            <a:blip r:embed="rId3"/>
            <a:stretch/>
          </p:blipFill>
          <p:spPr>
            <a:xfrm>
              <a:off x="3924360" y="3933720"/>
              <a:ext cx="684000" cy="159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4"/>
            <a:stretch/>
          </p:blipFill>
          <p:spPr>
            <a:xfrm>
              <a:off x="5064480" y="4027320"/>
              <a:ext cx="659520" cy="142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0" name=""/>
          <p:cNvSpPr txBox="1"/>
          <p:nvPr/>
        </p:nvSpPr>
        <p:spPr>
          <a:xfrm>
            <a:off x="5508720" y="4581360"/>
            <a:ext cx="28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9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琥珀"/>
              </a:rPr>
              <a:t>同学们再见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187280" y="692280"/>
            <a:ext cx="4321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20644"/>
                <a:gd name="adj2" fmla="val -1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同学们，本课结束！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348241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533520" y="10666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如何画出函数图像？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295280" y="2057400"/>
            <a:ext cx="5943240" cy="3733920"/>
            <a:chOff x="1295280" y="2057400"/>
            <a:chExt cx="5943240" cy="3733920"/>
          </a:xfrm>
        </p:grpSpPr>
        <p:sp>
          <p:nvSpPr>
            <p:cNvPr id="317" name=""/>
            <p:cNvSpPr/>
            <p:nvPr/>
          </p:nvSpPr>
          <p:spPr>
            <a:xfrm>
              <a:off x="1295280" y="2057400"/>
              <a:ext cx="5943240" cy="3733920"/>
            </a:xfrm>
            <a:prstGeom prst="flowChartPunchedTap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dcfedc"/>
                </a:gs>
              </a:gsLst>
              <a:lin ang="5400000"/>
            </a:gra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59120" y="2716200"/>
              <a:ext cx="2815200" cy="255744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dcfe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66"/>
                  </a:solidFill>
                  <a:latin typeface="Times New Roman"/>
                </a:rPr>
                <a:t>1.</a:t>
              </a:r>
              <a:r>
                <a:rPr b="1" i="1" lang="zh-CN" sz="4000" spc="-1" strike="noStrike">
                  <a:solidFill>
                    <a:srgbClr val="ff0066"/>
                  </a:solidFill>
                  <a:latin typeface="Times New Roman"/>
                </a:rPr>
                <a:t>列表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66"/>
                  </a:solidFill>
                  <a:latin typeface="Times New Roman"/>
                </a:rPr>
                <a:t>2.</a:t>
              </a:r>
              <a:r>
                <a:rPr b="1" i="1" lang="zh-CN" sz="4000" spc="-1" strike="noStrike">
                  <a:solidFill>
                    <a:srgbClr val="ff0066"/>
                  </a:solidFill>
                  <a:latin typeface="Times New Roman"/>
                </a:rPr>
                <a:t>描点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66"/>
                  </a:solidFill>
                  <a:latin typeface="Times New Roman"/>
                </a:rPr>
                <a:t>3.</a:t>
              </a:r>
              <a:r>
                <a:rPr b="1" i="1" lang="zh-CN" sz="4000" spc="-1" strike="noStrike">
                  <a:solidFill>
                    <a:srgbClr val="ff0066"/>
                  </a:solidFill>
                  <a:latin typeface="Times New Roman"/>
                </a:rPr>
                <a:t>连线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 txBox="1"/>
          <p:nvPr/>
        </p:nvSpPr>
        <p:spPr>
          <a:xfrm rot="1528200">
            <a:off x="609120" y="685440"/>
            <a:ext cx="1295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回忆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457200" y="0"/>
            <a:ext cx="3505320" cy="1447920"/>
            <a:chOff x="457200" y="0"/>
            <a:chExt cx="3505320" cy="1447920"/>
          </a:xfrm>
        </p:grpSpPr>
        <p:sp>
          <p:nvSpPr>
            <p:cNvPr id="321" name=""/>
            <p:cNvSpPr/>
            <p:nvPr/>
          </p:nvSpPr>
          <p:spPr>
            <a:xfrm>
              <a:off x="457200" y="0"/>
              <a:ext cx="3429000" cy="1447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2120" y="228600"/>
              <a:ext cx="3200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c24c22"/>
                  </a:solidFill>
                  <a:latin typeface="Times New Roman"/>
                  <a:ea typeface="华文彩云"/>
                </a:rPr>
                <a:t>做一做</a:t>
              </a:r>
              <a:endParaRPr b="0" lang="en-US" sz="6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1066680" y="198108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80880" y="1676520"/>
            <a:ext cx="7543800" cy="2225520"/>
            <a:chOff x="380880" y="1676520"/>
            <a:chExt cx="7543800" cy="2225520"/>
          </a:xfrm>
        </p:grpSpPr>
        <p:sp>
          <p:nvSpPr>
            <p:cNvPr id="325" name=""/>
            <p:cNvSpPr/>
            <p:nvPr/>
          </p:nvSpPr>
          <p:spPr>
            <a:xfrm>
              <a:off x="1371600" y="3200400"/>
              <a:ext cx="55623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0880" y="1676520"/>
              <a:ext cx="7543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660066"/>
                  </a:solidFill>
                  <a:latin typeface="Times New Roman"/>
                  <a:ea typeface="楷体_GB2312"/>
                </a:rPr>
                <a:t>画出一次函数</a:t>
              </a:r>
              <a:r>
                <a:rPr b="0" lang="zh-CN" sz="4400" spc="-1" strike="noStrike">
                  <a:solidFill>
                    <a:srgbClr val="660066"/>
                  </a:solidFill>
                  <a:latin typeface="Times New Roman"/>
                  <a:ea typeface="楷体_GB2312"/>
                </a:rPr>
                <a:t>y=2x+3</a:t>
              </a:r>
              <a:r>
                <a:rPr b="0" lang="zh-CN" sz="4400" spc="-1" strike="noStrike">
                  <a:solidFill>
                    <a:srgbClr val="660066"/>
                  </a:solidFill>
                  <a:latin typeface="Times New Roman"/>
                  <a:ea typeface="楷体_GB2312"/>
                </a:rPr>
                <a:t>的图象</a:t>
              </a:r>
              <a:endParaRPr b="0" lang="en-US" sz="4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aphicFrame>
        <p:nvGraphicFramePr>
          <p:cNvPr id="327" name=""/>
          <p:cNvGraphicFramePr/>
          <p:nvPr/>
        </p:nvGraphicFramePr>
        <p:xfrm>
          <a:off x="457200" y="3124080"/>
          <a:ext cx="6095880" cy="1600200"/>
        </p:xfrm>
        <a:graphic>
          <a:graphicData uri="http://schemas.openxmlformats.org/drawingml/2006/table">
            <a:tbl>
              <a:tblPr/>
              <a:tblGrid>
                <a:gridCol w="1371600"/>
                <a:gridCol w="685800"/>
                <a:gridCol w="685800"/>
                <a:gridCol w="685800"/>
                <a:gridCol w="609480"/>
                <a:gridCol w="685800"/>
                <a:gridCol w="685800"/>
                <a:gridCol w="68580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2x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3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609480" y="2362320"/>
            <a:ext cx="44960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列表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4114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-1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52680" y="41292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1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62520" y="4114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3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16360" y="407664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5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92720" y="4149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7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295280" y="533412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cc0099"/>
                </a:solidFill>
                <a:latin typeface="Times New Roman"/>
              </a:rPr>
              <a:t>）把由（</a:t>
            </a:r>
            <a:r>
              <a:rPr b="0" lang="zh-CN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cc0099"/>
                </a:solidFill>
                <a:latin typeface="Times New Roman"/>
              </a:rPr>
              <a:t>）得到的点依次连结起来，就得到</a:t>
            </a:r>
            <a:r>
              <a:rPr b="0" lang="zh-CN" sz="3200" spc="-1" strike="noStrike">
                <a:solidFill>
                  <a:srgbClr val="cc0099"/>
                </a:solidFill>
                <a:latin typeface="Times New Roman"/>
              </a:rPr>
              <a:t>y=2x+3</a:t>
            </a:r>
            <a:r>
              <a:rPr b="0" lang="zh-CN" sz="3200" spc="-1" strike="noStrike">
                <a:solidFill>
                  <a:srgbClr val="cc0099"/>
                </a:solidFill>
                <a:latin typeface="Times New Roman"/>
              </a:rPr>
              <a:t>的图像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908000" y="981000"/>
            <a:ext cx="6172200" cy="42674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4267080" y="3048120"/>
            <a:ext cx="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51280" y="242100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11640" y="17002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640400" y="9810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629080" y="549360"/>
            <a:ext cx="2304720" cy="4176720"/>
          </a:xfrm>
          <a:prstGeom prst="line">
            <a:avLst/>
          </a:prstGeom>
          <a:ln w="414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92360" y="30686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3640" y="357336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2917800" y="2987640"/>
            <a:ext cx="112680" cy="2160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851280" y="993600"/>
            <a:ext cx="438120" cy="113832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4788000" y="2492280"/>
            <a:ext cx="4038480" cy="2895480"/>
            <a:chOff x="4788000" y="2492280"/>
            <a:chExt cx="4038480" cy="2895480"/>
          </a:xfrm>
        </p:grpSpPr>
        <p:sp>
          <p:nvSpPr>
            <p:cNvPr id="346" name=""/>
            <p:cNvSpPr/>
            <p:nvPr/>
          </p:nvSpPr>
          <p:spPr>
            <a:xfrm>
              <a:off x="4788000" y="2492280"/>
              <a:ext cx="4038480" cy="2895480"/>
            </a:xfrm>
            <a:prstGeom prst="cloudCallout">
              <a:avLst>
                <a:gd name="adj1" fmla="val -63009"/>
                <a:gd name="adj2" fmla="val -45504"/>
              </a:avLst>
            </a:prstGeom>
            <a:solidFill>
              <a:srgbClr val="00ff00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3254400"/>
              <a:ext cx="3581280" cy="10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c1e08"/>
                  </a:solidFill>
                  <a:latin typeface="Times New Roman"/>
                  <a:ea typeface="幼圆"/>
                </a:rPr>
                <a:t>你取的是哪几个点？和同学比较一下，怎样取比较简单</a:t>
              </a:r>
              <a:r>
                <a:rPr b="0" lang="zh-CN" sz="2400" spc="-1" strike="noStrike">
                  <a:solidFill>
                    <a:srgbClr val="3c1e08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1116000" y="220500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取</a:t>
            </a:r>
            <a:r>
              <a:rPr b="0" lang="zh-CN" sz="4000" spc="-1" strike="noStrike" u="sng">
                <a:solidFill>
                  <a:srgbClr val="990033"/>
                </a:solidFill>
                <a:uFillTx/>
                <a:latin typeface="Times New Roman"/>
              </a:rPr>
              <a:t>坐标轴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上的点或是</a:t>
            </a:r>
            <a:r>
              <a:rPr b="0" lang="zh-CN" sz="4000" spc="-1" strike="noStrike" u="sng">
                <a:solidFill>
                  <a:srgbClr val="990033"/>
                </a:solidFill>
                <a:uFillTx/>
                <a:latin typeface="Times New Roman"/>
              </a:rPr>
              <a:t>坐标是整数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的点比较简单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8000" y="76464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例：画出直线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=    x+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并求它的截距</a:t>
            </a: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66320" y="4227120"/>
            <a:ext cx="381492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024520" y="4227120"/>
            <a:ext cx="381456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-27000" y="3573360"/>
            <a:ext cx="90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幼圆"/>
              </a:rPr>
              <a:t>问题</a:t>
            </a:r>
            <a:r>
              <a:rPr b="1" lang="zh-CN" sz="3600" spc="-1" strike="noStrike">
                <a:solidFill>
                  <a:srgbClr val="441ade"/>
                </a:solidFill>
                <a:latin typeface="Times New Roman"/>
                <a:ea typeface="幼圆"/>
              </a:rPr>
              <a:t>：对于直线</a:t>
            </a:r>
            <a:r>
              <a:rPr b="1" lang="zh-CN" sz="3600" spc="-1" strike="noStrike">
                <a:solidFill>
                  <a:srgbClr val="441ade"/>
                </a:solidFill>
                <a:latin typeface="Times New Roman"/>
                <a:ea typeface="幼圆"/>
              </a:rPr>
              <a:t>y=kx+b(k,b</a:t>
            </a:r>
            <a:r>
              <a:rPr b="1" lang="zh-CN" sz="3600" spc="-1" strike="noStrike">
                <a:solidFill>
                  <a:srgbClr val="441ade"/>
                </a:solidFill>
                <a:latin typeface="Times New Roman"/>
                <a:ea typeface="幼圆"/>
              </a:rPr>
              <a:t>是常数，</a:t>
            </a:r>
            <a:r>
              <a:rPr b="1" lang="zh-CN" sz="3600" spc="-1" strike="noStrike">
                <a:solidFill>
                  <a:srgbClr val="441ade"/>
                </a:solidFill>
                <a:latin typeface="Times New Roman"/>
                <a:ea typeface="幼圆"/>
              </a:rPr>
              <a:t>k≠0)</a:t>
            </a:r>
            <a:r>
              <a:rPr b="1" lang="zh-CN" sz="3600" spc="-1" strike="noStrike">
                <a:solidFill>
                  <a:srgbClr val="441ade"/>
                </a:solidFill>
                <a:latin typeface="Times New Roman"/>
                <a:ea typeface="幼圆"/>
              </a:rPr>
              <a:t>，常数</a:t>
            </a:r>
            <a:r>
              <a:rPr b="1" lang="zh-CN" sz="3600" spc="-1" strike="noStrike">
                <a:solidFill>
                  <a:srgbClr val="441ade"/>
                </a:solidFill>
                <a:latin typeface="Times New Roman"/>
                <a:ea typeface="幼圆"/>
              </a:rPr>
              <a:t>k</a:t>
            </a:r>
            <a:r>
              <a:rPr b="1" lang="zh-CN" sz="3600" spc="-1" strike="noStrike">
                <a:solidFill>
                  <a:srgbClr val="441ade"/>
                </a:solidFill>
                <a:latin typeface="Times New Roman"/>
                <a:ea typeface="幼圆"/>
              </a:rPr>
              <a:t>的取值对于直线的位置有什么影响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0"/>
            <a:ext cx="838188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1ade"/>
                </a:solidFill>
                <a:latin typeface="Times New Roman"/>
                <a:ea typeface="幼圆"/>
              </a:rPr>
              <a:t> </a:t>
            </a:r>
            <a:r>
              <a:rPr b="1" lang="zh-CN" sz="3600" spc="-1" strike="noStrike">
                <a:solidFill>
                  <a:srgbClr val="441ade"/>
                </a:solidFill>
                <a:latin typeface="Times New Roman"/>
                <a:ea typeface="幼圆"/>
              </a:rPr>
              <a:t>画出下面两组函数图像，比较下列每组一次函数的图像有什么位置关系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幼圆"/>
              </a:rPr>
              <a:t>1)y=x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幼圆"/>
              </a:rPr>
              <a:t>与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幼圆"/>
              </a:rPr>
              <a:t>y=x+2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幼圆"/>
              </a:rPr>
              <a:t>2)y= -x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幼圆"/>
              </a:rPr>
              <a:t>与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幼圆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幼圆"/>
              </a:rPr>
              <a:t>y= -x-3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44720" y="515772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细黑"/>
              </a:rPr>
              <a:t>.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细黑"/>
              </a:rPr>
              <a:t>当</a:t>
            </a:r>
            <a:r>
              <a:rPr b="1" lang="en-US" sz="4000" spc="-1" strike="noStrike">
                <a:solidFill>
                  <a:srgbClr val="ff33cc"/>
                </a:solidFill>
                <a:latin typeface="Times New Roman"/>
                <a:ea typeface="华文细黑"/>
              </a:rPr>
              <a:t>k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细黑"/>
              </a:rPr>
              <a:t>相同，</a:t>
            </a:r>
            <a:r>
              <a:rPr b="1" lang="en-US" sz="4000" spc="-1" strike="noStrike">
                <a:solidFill>
                  <a:srgbClr val="ff33cc"/>
                </a:solidFill>
                <a:latin typeface="Times New Roman"/>
                <a:ea typeface="华文细黑"/>
              </a:rPr>
              <a:t>b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细黑"/>
              </a:rPr>
              <a:t>不相同时</a:t>
            </a:r>
            <a:r>
              <a:rPr b="1" lang="en-US" sz="4000" spc="-1" strike="noStrike">
                <a:solidFill>
                  <a:srgbClr val="ff33cc"/>
                </a:solidFill>
                <a:latin typeface="Times New Roman"/>
                <a:ea typeface="华文细黑"/>
              </a:rPr>
              <a:t>: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细黑"/>
              </a:rPr>
              <a:t>图像平行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-27000" y="4654440"/>
            <a:ext cx="10573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99"/>
            </a:gs>
            <a:gs pos="100000">
              <a:srgbClr val="e2fe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228600" y="0"/>
            <a:ext cx="870120" cy="1981080"/>
            <a:chOff x="228600" y="0"/>
            <a:chExt cx="870120" cy="1981080"/>
          </a:xfrm>
        </p:grpSpPr>
        <p:sp>
          <p:nvSpPr>
            <p:cNvPr id="357" name=""/>
            <p:cNvSpPr/>
            <p:nvPr/>
          </p:nvSpPr>
          <p:spPr>
            <a:xfrm>
              <a:off x="228600" y="0"/>
              <a:ext cx="838080" cy="1981080"/>
            </a:xfrm>
            <a:prstGeom prst="ellipse">
              <a:avLst/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48040" y="304920"/>
              <a:ext cx="85068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400" spc="-1" strike="noStrike">
                  <a:solidFill>
                    <a:srgbClr val="ff0000"/>
                  </a:solidFill>
                  <a:latin typeface="Times New Roman"/>
                  <a:ea typeface="华文彩云"/>
                </a:rPr>
                <a:t>练习</a:t>
              </a:r>
              <a:endParaRPr b="0" lang="en-US" sz="4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295280" y="457200"/>
            <a:ext cx="7315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1.</a:t>
            </a:r>
            <a:r>
              <a:rPr b="1" lang="zh-CN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将直线</a:t>
            </a:r>
            <a:r>
              <a:rPr b="1" lang="en-US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y=3x</a:t>
            </a:r>
            <a:r>
              <a:rPr b="1" lang="zh-CN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向下平移</a:t>
            </a:r>
            <a:r>
              <a:rPr b="1" lang="en-US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2</a:t>
            </a:r>
            <a:r>
              <a:rPr b="1" lang="zh-CN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个单位得到直线</a:t>
            </a:r>
            <a:r>
              <a:rPr b="1" lang="en-US" sz="3200" spc="-1" strike="noStrike">
                <a:solidFill>
                  <a:srgbClr val="3c1e08"/>
                </a:solidFill>
                <a:latin typeface="Times New Roman"/>
                <a:ea typeface="幼圆"/>
              </a:rPr>
              <a:t>_____________</a:t>
            </a:r>
            <a:r>
              <a:rPr b="0" lang="zh-CN" sz="3200" spc="-1" strike="noStrike">
                <a:solidFill>
                  <a:srgbClr val="3c1e08"/>
                </a:solidFill>
                <a:latin typeface="幼圆"/>
                <a:ea typeface="幼圆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990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y=3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2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19320" y="19810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2.</a:t>
            </a:r>
            <a:r>
              <a:rPr b="1" lang="zh-CN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将直线</a:t>
            </a:r>
            <a:r>
              <a:rPr b="1" lang="en-US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y=</a:t>
            </a:r>
            <a:r>
              <a:rPr b="1" lang="zh-CN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－</a:t>
            </a:r>
            <a:r>
              <a:rPr b="1" lang="en-US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x</a:t>
            </a:r>
            <a:r>
              <a:rPr b="1" lang="zh-CN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－</a:t>
            </a:r>
            <a:r>
              <a:rPr b="1" lang="en-US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5</a:t>
            </a:r>
            <a:r>
              <a:rPr b="1" lang="zh-CN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向上平移</a:t>
            </a:r>
            <a:r>
              <a:rPr b="1" lang="en-US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5</a:t>
            </a:r>
            <a:r>
              <a:rPr b="1" lang="zh-CN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个单位</a:t>
            </a:r>
            <a:r>
              <a:rPr b="1" lang="en-US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,</a:t>
            </a:r>
            <a:r>
              <a:rPr b="1" lang="zh-CN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得到直线</a:t>
            </a:r>
            <a:r>
              <a:rPr b="1" lang="en-US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____________</a:t>
            </a:r>
            <a:r>
              <a:rPr b="1" lang="zh-CN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81280" y="24382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y=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x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76520" y="3886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c1e0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23880" y="411480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19320" y="3505320"/>
            <a:ext cx="7315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3.</a:t>
            </a:r>
            <a:r>
              <a:rPr b="1" lang="zh-CN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函数</a:t>
            </a:r>
            <a:r>
              <a:rPr b="1" lang="en-US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y=kx</a:t>
            </a:r>
            <a:r>
              <a:rPr b="1" lang="zh-CN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+b</a:t>
            </a:r>
            <a:r>
              <a:rPr b="1" lang="zh-CN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的图像平行于直线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y=</a:t>
            </a:r>
            <a:r>
              <a:rPr b="1" lang="zh-CN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－</a:t>
            </a:r>
            <a:r>
              <a:rPr b="1" lang="en-US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2x</a:t>
            </a:r>
            <a:r>
              <a:rPr b="1" lang="zh-CN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，且经过点（</a:t>
            </a:r>
            <a:r>
              <a:rPr b="1" lang="zh-CN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1</a:t>
            </a:r>
            <a:r>
              <a:rPr b="1" lang="zh-CN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，</a:t>
            </a:r>
            <a:r>
              <a:rPr b="1" lang="zh-CN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4</a:t>
            </a:r>
            <a:r>
              <a:rPr b="1" lang="zh-CN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），则其函数的表达式为</a:t>
            </a:r>
            <a:r>
              <a:rPr b="1" lang="en-US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______________</a:t>
            </a:r>
            <a:r>
              <a:rPr b="1" lang="zh-CN" sz="3600" spc="-1" strike="noStrike">
                <a:solidFill>
                  <a:srgbClr val="3c1e08"/>
                </a:solidFill>
                <a:latin typeface="Times New Roman"/>
                <a:ea typeface="幼圆"/>
              </a:rPr>
              <a:t>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181480" y="48006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62520" y="4794120"/>
            <a:ext cx="210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y=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2x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+6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75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75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75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75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75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75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75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71640" y="1486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k &gt; 0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00000" y="285444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k &lt; 0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4920" y="379440"/>
          <a:ext cx="8651880" cy="326700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60560"/>
              </a:tblGrid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符号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符号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图象经过象限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"/>
          <p:cNvSpPr/>
          <p:nvPr/>
        </p:nvSpPr>
        <p:spPr>
          <a:xfrm>
            <a:off x="5940360" y="981000"/>
            <a:ext cx="24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一、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40360" y="1628640"/>
            <a:ext cx="24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一、三、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四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12000" y="2205000"/>
            <a:ext cx="24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一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二、四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12000" y="3070080"/>
            <a:ext cx="24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二、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四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946080" y="9144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k &gt; 0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190520" y="220500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k &lt; 0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27600" y="292572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 &lt; 0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52720" y="155736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 &lt; 0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51280" y="220500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 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&gt;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0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54520" y="91440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 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&gt;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0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228240" y="4267080"/>
            <a:ext cx="1066680" cy="198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895480" y="4648320"/>
            <a:ext cx="1067040" cy="198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952880" y="4267080"/>
            <a:ext cx="1447920" cy="190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81680" y="4800600"/>
            <a:ext cx="1447920" cy="190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152280" y="3611520"/>
            <a:ext cx="2133720" cy="3017880"/>
            <a:chOff x="152280" y="3611520"/>
            <a:chExt cx="2133720" cy="3017880"/>
          </a:xfrm>
        </p:grpSpPr>
        <p:sp>
          <p:nvSpPr>
            <p:cNvPr id="386" name=""/>
            <p:cNvSpPr/>
            <p:nvPr/>
          </p:nvSpPr>
          <p:spPr>
            <a:xfrm>
              <a:off x="152280" y="54100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990360" y="3962520"/>
              <a:ext cx="0" cy="266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76160" y="4876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b5249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14400" y="3611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b5249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38080" y="52880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781680" y="3611520"/>
            <a:ext cx="2133720" cy="3017880"/>
            <a:chOff x="6781680" y="3611520"/>
            <a:chExt cx="2133720" cy="3017880"/>
          </a:xfrm>
        </p:grpSpPr>
        <p:sp>
          <p:nvSpPr>
            <p:cNvPr id="392" name=""/>
            <p:cNvSpPr/>
            <p:nvPr/>
          </p:nvSpPr>
          <p:spPr>
            <a:xfrm>
              <a:off x="6781680" y="54100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7619760" y="3962520"/>
              <a:ext cx="0" cy="266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305560" y="4876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b5249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43800" y="3611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b5249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467480" y="52880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362320" y="3611520"/>
            <a:ext cx="2133000" cy="3017880"/>
            <a:chOff x="2362320" y="3611520"/>
            <a:chExt cx="2133000" cy="3017880"/>
          </a:xfrm>
        </p:grpSpPr>
        <p:sp>
          <p:nvSpPr>
            <p:cNvPr id="398" name=""/>
            <p:cNvSpPr/>
            <p:nvPr/>
          </p:nvSpPr>
          <p:spPr>
            <a:xfrm>
              <a:off x="2362320" y="5410080"/>
              <a:ext cx="182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3200040" y="3962520"/>
              <a:ext cx="0" cy="266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85840" y="4876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b5249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24080" y="361152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b5249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742840" y="52880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572000" y="3611520"/>
            <a:ext cx="2133720" cy="3017880"/>
            <a:chOff x="4572000" y="3611520"/>
            <a:chExt cx="2133720" cy="3017880"/>
          </a:xfrm>
        </p:grpSpPr>
        <p:sp>
          <p:nvSpPr>
            <p:cNvPr id="404" name=""/>
            <p:cNvSpPr/>
            <p:nvPr/>
          </p:nvSpPr>
          <p:spPr>
            <a:xfrm>
              <a:off x="4572000" y="54100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5410080" y="3962520"/>
              <a:ext cx="0" cy="266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95880" y="4876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b5249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34120" y="3611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b5249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952880" y="528804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8639280" y="0"/>
            <a:ext cx="504720" cy="334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13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回答下列各函数经过哪几个象限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y=3x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－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(2)y= -x+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(3)y=3x+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(4)y= -x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－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01:24:33Z</dcterms:created>
  <dc:creator>dmt</dc:creator>
  <dc:description/>
  <dc:language>en-US</dc:language>
  <cp:lastModifiedBy>微软用户</cp:lastModifiedBy>
  <dcterms:modified xsi:type="dcterms:W3CDTF">2013-09-24T02:33:10Z</dcterms:modified>
  <cp:revision>5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</Properties>
</file>