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282-B218-4E0A-AF76-F68F393F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8B4-5369-4D81-B970-B48537F3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398-AF0A-428E-AF95-B86E3B68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DF5-1AC8-4887-9386-2BEB33B8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798-076E-457B-85B7-0E2C2FFB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AE0-62F8-4EF4-9B20-B868C987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E84-E42A-4160-959F-68F102A7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7AE-7AA8-4A52-AE66-1CE74C19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5C2-35CE-46CA-8DF0-CAA1B616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E51-C94C-4223-BE88-6AE8E01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8E0-F635-469D-B36D-A201075D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1AD-45B2-4FC1-9C6A-A789FA19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1617-D732-429B-9295-40FFDC3AD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 rot="20605800">
            <a:off x="533160" y="3200040"/>
            <a:ext cx="5149800" cy="293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990720"/>
            <a:ext cx="8458200" cy="1922760"/>
          </a:xfrm>
          <a:prstGeom prst="rect">
            <a:avLst/>
          </a:prstGeom>
          <a:noFill/>
          <a:ln w="158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知识与认知并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谈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2014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年高考第一轮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04760" y="5013360"/>
            <a:ext cx="10951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张燕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 rot="16200000">
            <a:off x="3922560" y="-2260440"/>
            <a:ext cx="72720" cy="69850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dfd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42372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了解高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533520"/>
            <a:ext cx="41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影响考试结果的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09480" y="2057400"/>
            <a:ext cx="1142640" cy="3196440"/>
            <a:chOff x="609480" y="2057400"/>
            <a:chExt cx="1142640" cy="3196440"/>
          </a:xfrm>
        </p:grpSpPr>
        <p:sp>
          <p:nvSpPr>
            <p:cNvPr id="49" name=""/>
            <p:cNvSpPr/>
            <p:nvPr/>
          </p:nvSpPr>
          <p:spPr>
            <a:xfrm>
              <a:off x="609480" y="2617920"/>
              <a:ext cx="357120" cy="2313720"/>
            </a:xfrm>
            <a:custGeom>
              <a:avLst/>
              <a:gdLst>
                <a:gd name="textAreaLeft" fmla="*/ 228240 w 357120"/>
                <a:gd name="textAreaRight" fmla="*/ 357480 w 357120"/>
                <a:gd name="textAreaTop" fmla="*/ 60120 h 2313720"/>
                <a:gd name="textAreaBottom" fmla="*/ 225360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66600" y="430668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竞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状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66600" y="2057400"/>
              <a:ext cx="7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学习水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447920" y="1981080"/>
            <a:ext cx="2514240" cy="2081520"/>
            <a:chOff x="1447920" y="1981080"/>
            <a:chExt cx="2514240" cy="2081520"/>
          </a:xfrm>
        </p:grpSpPr>
        <p:sp>
          <p:nvSpPr>
            <p:cNvPr id="53" name=""/>
            <p:cNvSpPr/>
            <p:nvPr/>
          </p:nvSpPr>
          <p:spPr>
            <a:xfrm>
              <a:off x="1447920" y="2202120"/>
              <a:ext cx="412200" cy="1526760"/>
            </a:xfrm>
            <a:custGeom>
              <a:avLst/>
              <a:gdLst>
                <a:gd name="textAreaLeft" fmla="*/ 263520 w 412200"/>
                <a:gd name="textAreaRight" fmla="*/ 412560 w 412200"/>
                <a:gd name="textAreaTop" fmla="*/ 39600 h 1526760"/>
                <a:gd name="textAreaBottom" fmla="*/ 1487160 h 152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79200" y="1981080"/>
              <a:ext cx="208296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具体知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79200" y="3542040"/>
              <a:ext cx="208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答题素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733920" y="3352680"/>
            <a:ext cx="3199320" cy="1369440"/>
            <a:chOff x="3733920" y="3352680"/>
            <a:chExt cx="3199320" cy="1369440"/>
          </a:xfrm>
        </p:grpSpPr>
        <p:sp>
          <p:nvSpPr>
            <p:cNvPr id="57" name=""/>
            <p:cNvSpPr/>
            <p:nvPr/>
          </p:nvSpPr>
          <p:spPr>
            <a:xfrm>
              <a:off x="3733920" y="3542760"/>
              <a:ext cx="484200" cy="839880"/>
            </a:xfrm>
            <a:custGeom>
              <a:avLst/>
              <a:gdLst>
                <a:gd name="textAreaLeft" fmla="*/ 309240 w 484200"/>
                <a:gd name="textAreaRight" fmla="*/ 484560 w 484200"/>
                <a:gd name="textAreaTop" fmla="*/ 21600 h 839880"/>
                <a:gd name="textAreaBottom" fmla="*/ 818280 h 83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49320" y="3352680"/>
              <a:ext cx="238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解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49320" y="4030920"/>
              <a:ext cx="238392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表达（规范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410080" y="2819520"/>
            <a:ext cx="4952160" cy="1538280"/>
            <a:chOff x="5410080" y="2819520"/>
            <a:chExt cx="4952160" cy="1538280"/>
          </a:xfrm>
        </p:grpSpPr>
        <p:sp>
          <p:nvSpPr>
            <p:cNvPr id="61" name=""/>
            <p:cNvSpPr/>
            <p:nvPr/>
          </p:nvSpPr>
          <p:spPr>
            <a:xfrm>
              <a:off x="5410080" y="2918160"/>
              <a:ext cx="716400" cy="1175760"/>
            </a:xfrm>
            <a:custGeom>
              <a:avLst/>
              <a:gdLst>
                <a:gd name="textAreaLeft" fmla="*/ 457920 w 716400"/>
                <a:gd name="textAreaRight" fmla="*/ 716760 w 716400"/>
                <a:gd name="textAreaTop" fmla="*/ 30600 h 1175760"/>
                <a:gd name="textAreaBottom" fmla="*/ 1145160 h 117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87040" y="2819520"/>
              <a:ext cx="2716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审题（多指点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87040" y="3376440"/>
              <a:ext cx="27169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求解（重通法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87040" y="3880080"/>
              <a:ext cx="40752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审视答案（习惯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809880" y="1447920"/>
            <a:ext cx="5180760" cy="1385640"/>
            <a:chOff x="3809880" y="1447920"/>
            <a:chExt cx="5180760" cy="1385640"/>
          </a:xfrm>
        </p:grpSpPr>
        <p:sp>
          <p:nvSpPr>
            <p:cNvPr id="66" name=""/>
            <p:cNvSpPr/>
            <p:nvPr/>
          </p:nvSpPr>
          <p:spPr>
            <a:xfrm>
              <a:off x="3809880" y="1842840"/>
              <a:ext cx="510120" cy="932040"/>
            </a:xfrm>
            <a:custGeom>
              <a:avLst/>
              <a:gdLst>
                <a:gd name="textAreaLeft" fmla="*/ 325800 w 510120"/>
                <a:gd name="textAreaRight" fmla="*/ 510480 w 510120"/>
                <a:gd name="textAreaTop" fmla="*/ 24120 h 932040"/>
                <a:gd name="textAreaBottom" fmla="*/ 90792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88480" y="1447920"/>
              <a:ext cx="450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概念和规律（学生总结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88480" y="2441160"/>
              <a:ext cx="45021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思路和方法（教师归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447920" y="4419720"/>
            <a:ext cx="2818800" cy="1672560"/>
            <a:chOff x="1447920" y="4419720"/>
            <a:chExt cx="2818800" cy="1672560"/>
          </a:xfrm>
        </p:grpSpPr>
        <p:sp>
          <p:nvSpPr>
            <p:cNvPr id="70" name=""/>
            <p:cNvSpPr/>
            <p:nvPr/>
          </p:nvSpPr>
          <p:spPr>
            <a:xfrm>
              <a:off x="1447920" y="4803840"/>
              <a:ext cx="402840" cy="959400"/>
            </a:xfrm>
            <a:custGeom>
              <a:avLst/>
              <a:gdLst>
                <a:gd name="textAreaLeft" fmla="*/ 257400 w 402840"/>
                <a:gd name="textAreaRight" fmla="*/ 403200 w 402840"/>
                <a:gd name="textAreaTop" fmla="*/ 24840 h 959400"/>
                <a:gd name="textAreaBottom" fmla="*/ 934560 h 95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52800" y="4419720"/>
              <a:ext cx="2113920" cy="5205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体能储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52800" y="5571720"/>
              <a:ext cx="2113920" cy="5205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心理素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343400" y="5029200"/>
            <a:ext cx="4572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非智力因素（陪伴教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 rot="16200000">
            <a:off x="3922560" y="-2259000"/>
            <a:ext cx="73080" cy="69850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dfd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457200"/>
            <a:ext cx="78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三学生第一轮常见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6765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029ac"/>
                </a:solidFill>
                <a:latin typeface="黑体"/>
                <a:ea typeface="黑体"/>
              </a:rPr>
              <a:t>基础知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断</a:t>
            </a:r>
            <a:r>
              <a:rPr b="1" lang="zh-CN" sz="3200" spc="-1" strike="noStrike">
                <a:solidFill>
                  <a:srgbClr val="0029ac"/>
                </a:solidFill>
                <a:latin typeface="黑体"/>
                <a:ea typeface="黑体"/>
              </a:rPr>
              <a:t>  系统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盲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失分点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4495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029ac"/>
                </a:solidFill>
                <a:latin typeface="黑体"/>
                <a:ea typeface="黑体"/>
              </a:rPr>
              <a:t>审题能力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足</a:t>
            </a:r>
            <a:r>
              <a:rPr b="1" lang="zh-CN" sz="3200" spc="-1" strike="noStrike">
                <a:solidFill>
                  <a:srgbClr val="0029ac"/>
                </a:solidFill>
                <a:latin typeface="黑体"/>
                <a:ea typeface="黑体"/>
              </a:rPr>
              <a:t>  分析能力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有限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3623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029ac"/>
                </a:solidFill>
                <a:latin typeface="黑体"/>
                <a:ea typeface="黑体"/>
              </a:rPr>
              <a:t>方法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单一</a:t>
            </a:r>
            <a:r>
              <a:rPr b="1" lang="zh-CN" sz="3200" spc="-1" strike="noStrike">
                <a:solidFill>
                  <a:srgbClr val="0029ac"/>
                </a:solidFill>
                <a:latin typeface="黑体"/>
                <a:ea typeface="黑体"/>
              </a:rPr>
              <a:t>  不够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灵活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3809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029ac"/>
                </a:solidFill>
                <a:latin typeface="黑体"/>
                <a:ea typeface="黑体"/>
              </a:rPr>
              <a:t>计算能力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弱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愿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深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1240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029ac"/>
                </a:solidFill>
                <a:latin typeface="黑体"/>
                <a:ea typeface="黑体"/>
              </a:rPr>
              <a:t>思维习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差</a:t>
            </a:r>
            <a:r>
              <a:rPr b="1" lang="zh-CN" sz="3200" spc="-1" strike="noStrike">
                <a:solidFill>
                  <a:srgbClr val="0029ac"/>
                </a:solidFill>
                <a:latin typeface="黑体"/>
                <a:ea typeface="黑体"/>
              </a:rPr>
              <a:t>  表达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不规范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28600"/>
            <a:ext cx="83059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第一轮复习的四项基本教学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第一项：复习所有的知识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覆盖所有知识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知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身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还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有联系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知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第二项：完成记忆任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记忆“一次到位”，决不可把记忆推到第二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必须以能“默背”为合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第三项：初步掌握各单元的知识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记忆、理解各单元知识结构图（表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本单元知识能“单元过关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第四项：着力培养初步的综合能力和学科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大部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，小部分中档综合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搞高档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般是本单元内的综合练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低档题的学科能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关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档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科能力基本过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rot="16200000">
            <a:off x="3995640" y="-2259000"/>
            <a:ext cx="73080" cy="69850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dfd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539640" cy="6885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09480"/>
            <a:ext cx="79250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六个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备课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教辅要增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教案不强求形式统一，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能随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课堂教学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要三讲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讲规律、讲思路、讲方法，不讲偏题、不讲不典型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作业布置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要明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——一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布置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必须掌握的，二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拓展视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超负荷的不布置，偏怪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过难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布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矫正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错误要及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矫正的越快，学生提高的越快；矫正的越多，学生知识基础的缺漏就越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平时跟踪要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抓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既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做好“尖子生”拔优工作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更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“边缘生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做好跟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转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讲评练习要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到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讲必互动，有发必收，有收必批，有批必评，有评必补；凡练必讲，凡练必选，凡选必精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16200000">
            <a:off x="3995640" y="-2259000"/>
            <a:ext cx="73080" cy="69850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dfd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539640" cy="6885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627120"/>
            <a:ext cx="79250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盯盘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学生的断点、盲点、难点、容易失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整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断点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系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盲点 过关性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炒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容易失分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剪刀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口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刀就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掉一些难题、旧题、偏题和怪题；口袋就是要求教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主动关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考信息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下沉上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沉就是注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要把着眼点放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得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增分操作上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移就是要适当地向第二轮专题备考进行渗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防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该拔高的没有上去，该淡化的却在强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小题大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抓好小专题复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思维能力与应试能力的关键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尤其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抓住稳定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变化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研究发展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悟出轮考的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16200000">
            <a:off x="3995640" y="-2259000"/>
            <a:ext cx="73080" cy="69850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dfd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539640" cy="6885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04920"/>
            <a:ext cx="7924680" cy="47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六个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争分意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多出妙手不如减少失误（基础题全做对，一般题一分不浪费，较难题留时间争拔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夺秒意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绕过拦路虎   再杀回马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纠错意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题不二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团体赛意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差的学科要补上来   好学科的要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争赢意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“想赢”是我们追求的“上限”   不想输是我们的“下限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查漏补缺意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翻烙饼  捡“渣子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838080"/>
            <a:ext cx="784872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特别提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905120"/>
            <a:ext cx="8001000" cy="58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避免“三高”：高起点、高难度、高密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200400"/>
            <a:ext cx="8458200" cy="58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摒弃“三做”：陈题死做、活题呆做、难题大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525920"/>
            <a:ext cx="8382240" cy="58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倡“三解”：陈题新解、难题精解、活题巧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1-05T15:50:4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