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0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525-CC92-43E4-9DC8-7EE0742A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C4F-30F0-4EB6-9B81-83F3BD0A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817-239E-4127-ADF8-43871B11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1FF-A1BE-41E7-8CE0-BCBBB8ED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EDC-39BF-405D-8B6E-92C1FE69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785-86BD-48C1-90B4-9E64C23D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3EE-14B0-4399-9D29-AF7D211F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434-9E5E-4AFC-9A5C-4F593725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46D-A2DE-4510-923E-E7A90187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7699-3787-4977-BC7B-DBF6AA6D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630-CFF4-4940-AF4A-A50BE488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471-0968-4252-9746-2B4E8E8B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6420-095A-441E-B207-8F3C998F60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772400" cy="4246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04000" y="0"/>
            <a:ext cx="2057400" cy="1666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2057400" cy="166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2209680"/>
            <a:ext cx="54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§8.2-1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整式的</a:t>
            </a:r>
            <a:r>
              <a:rPr b="1" lang="zh-CN" sz="4800" spc="-1" strike="noStrike">
                <a:solidFill>
                  <a:srgbClr val="000000"/>
                </a:solidFill>
                <a:latin typeface="MS Outlook"/>
                <a:ea typeface="MS Outlook"/>
              </a:rPr>
              <a:t>乘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5960" y="3200400"/>
            <a:ext cx="21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MS Outlook"/>
                <a:ea typeface="MS Outlook"/>
              </a:rPr>
              <a:t>单项式与单项式相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4419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执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 兆 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620640"/>
            <a:ext cx="7372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完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课本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:P57   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练习 第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P58   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练习  第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3520" y="2590920"/>
            <a:ext cx="46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单项式乘以单项式的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3520" y="3276720"/>
            <a:ext cx="36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单项式乘以单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387600" y="2819520"/>
            <a:ext cx="3546360" cy="1210680"/>
            <a:chOff x="3387600" y="2819520"/>
            <a:chExt cx="3546360" cy="1210680"/>
          </a:xfrm>
        </p:grpSpPr>
        <p:grpSp>
          <p:nvGrpSpPr>
            <p:cNvPr id="198" name=""/>
            <p:cNvGrpSpPr/>
            <p:nvPr/>
          </p:nvGrpSpPr>
          <p:grpSpPr>
            <a:xfrm>
              <a:off x="3553920" y="2819520"/>
              <a:ext cx="3074760" cy="649440"/>
              <a:chOff x="3553920" y="2819520"/>
              <a:chExt cx="3074760" cy="649440"/>
            </a:xfrm>
          </p:grpSpPr>
          <p:sp>
            <p:nvSpPr>
              <p:cNvPr id="199" name=""/>
              <p:cNvSpPr/>
              <p:nvPr/>
            </p:nvSpPr>
            <p:spPr>
              <a:xfrm>
                <a:off x="3553920" y="3468960"/>
                <a:ext cx="307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92880" y="28195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转化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387600" y="3631320"/>
              <a:ext cx="354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运用乘法的交换律、结合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451560" y="2438280"/>
            <a:ext cx="2015280" cy="1808280"/>
            <a:chOff x="6451560" y="2438280"/>
            <a:chExt cx="2015280" cy="1808280"/>
          </a:xfrm>
        </p:grpSpPr>
        <p:sp>
          <p:nvSpPr>
            <p:cNvPr id="203" name=""/>
            <p:cNvSpPr/>
            <p:nvPr/>
          </p:nvSpPr>
          <p:spPr>
            <a:xfrm>
              <a:off x="6451560" y="2722680"/>
              <a:ext cx="304920" cy="15238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8840" y="2438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有理数的乘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7265160" y="3886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幂的乘法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3520" y="4419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可以用单项式乘以单项式来解决现实生活中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83808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回顾交流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24000" y="620640"/>
            <a:ext cx="7372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课本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:P65   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习题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8.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第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71600" y="1219320"/>
            <a:ext cx="22096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0666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指出下列公式的名称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 , n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正整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523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066680" y="1523880"/>
                <a:ext cx="42674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14400" y="2362320"/>
                <a:ext cx="38926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38080" y="3048120"/>
                <a:ext cx="4496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557440" y="3863880"/>
                <a:ext cx="4478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4920" y="4721400"/>
                <a:ext cx="55180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523880" y="3822840"/>
                <a:ext cx="258948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867280" y="1752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同底数幂的乘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438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幂的乘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3200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积的乘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886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乘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46483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乘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0492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复习回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858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00664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1035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338120" y="1701720"/>
          <a:ext cx="277668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8120" y="1701720"/>
                    <a:ext cx="27766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231920" y="2971800"/>
          <a:ext cx="295920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1920" y="2971800"/>
                    <a:ext cx="2959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553080" y="1752480"/>
          <a:ext cx="144792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1752480"/>
                    <a:ext cx="1447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7315200" y="2971800"/>
          <a:ext cx="121932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5200" y="2971800"/>
                    <a:ext cx="1219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371600" y="43434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项式             的系数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430524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064040" y="1676520"/>
                <a:ext cx="8888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775040" y="1676520"/>
                <a:ext cx="17780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114800" y="2895480"/>
                <a:ext cx="8888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60920" y="2895480"/>
                <a:ext cx="2730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278000" y="609480"/>
                <a:ext cx="3844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181480" y="609480"/>
                <a:ext cx="8766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19520" y="4191120"/>
                <a:ext cx="175248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400800" y="4191120"/>
                <a:ext cx="8762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119700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光的速度约为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3×1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千米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秒，太阳光照射到地球上需要的时间大约是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5×1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秒，你知道地球与太阳的距离约是多少千米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280" y="2781360"/>
            <a:ext cx="90727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9280" y="404640"/>
            <a:ext cx="2592360" cy="6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宋体"/>
              </a:rPr>
              <a:t>问题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27672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地球与太阳的距离约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×1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×1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8200" y="2743200"/>
            <a:ext cx="45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分析</a:t>
            </a:r>
            <a:r>
              <a:rPr b="1" lang="zh-CN" sz="2800" spc="-1" strike="noStrike">
                <a:solidFill>
                  <a:srgbClr val="463634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距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3520" y="4776840"/>
                <a:ext cx="4367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33520" y="541008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09480" y="6046920"/>
                <a:ext cx="37339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千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92120" y="4172040"/>
                <a:ext cx="40035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5410080" y="4267080"/>
            <a:ext cx="2819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乘法交换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952880"/>
            <a:ext cx="2819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乘法结合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5562720"/>
            <a:ext cx="43434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理数乘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底数幂的乘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6172200"/>
            <a:ext cx="2819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科学记数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429000" y="3276720"/>
          <a:ext cx="3505320" cy="89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276720"/>
                    <a:ext cx="35053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086600" y="3200400"/>
          <a:ext cx="1600200" cy="10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3200400"/>
                    <a:ext cx="16002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"/>
          <p:cNvGrpSpPr/>
          <p:nvPr/>
        </p:nvGrpSpPr>
        <p:grpSpPr>
          <a:xfrm>
            <a:off x="76320" y="3352680"/>
            <a:ext cx="3733560" cy="2057400"/>
            <a:chOff x="76320" y="3352680"/>
            <a:chExt cx="3733560" cy="2057400"/>
          </a:xfrm>
        </p:grpSpPr>
        <p:sp>
          <p:nvSpPr>
            <p:cNvPr id="102" name=""/>
            <p:cNvSpPr/>
            <p:nvPr/>
          </p:nvSpPr>
          <p:spPr>
            <a:xfrm>
              <a:off x="76320" y="342900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(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9560" y="464832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(3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762120" y="3352680"/>
            <a:ext cx="2361960" cy="80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2120" y="3352680"/>
                      <a:ext cx="236196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685800" y="4495680"/>
            <a:ext cx="3124080" cy="91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5800" y="4495680"/>
                      <a:ext cx="31240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8" name=""/>
          <p:cNvGraphicFramePr/>
          <p:nvPr/>
        </p:nvGraphicFramePr>
        <p:xfrm>
          <a:off x="3962520" y="4495680"/>
          <a:ext cx="358128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4495680"/>
                    <a:ext cx="3581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7670880" y="4495680"/>
          <a:ext cx="1473120" cy="95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70880" y="4495680"/>
                    <a:ext cx="14731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76320" y="22860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×1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×1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962520" y="533520"/>
                <a:ext cx="43671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-76320" y="1905120"/>
            <a:ext cx="1863720" cy="806400"/>
            <a:chOff x="-76320" y="1905120"/>
            <a:chExt cx="1863720" cy="806400"/>
          </a:xfrm>
        </p:grpSpPr>
        <p:sp>
          <p:nvSpPr>
            <p:cNvPr id="116" name=""/>
            <p:cNvSpPr/>
            <p:nvPr/>
          </p:nvSpPr>
          <p:spPr>
            <a:xfrm>
              <a:off x="-76320" y="1981080"/>
              <a:ext cx="1695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(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762120" y="1905120"/>
                  <a:ext cx="102528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1219320" y="14479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13716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43400" y="2017800"/>
                <a:ext cx="14479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" name=""/>
          <p:cNvGrpSpPr/>
          <p:nvPr/>
        </p:nvGrpSpPr>
        <p:grpSpPr>
          <a:xfrm>
            <a:off x="2209680" y="1905120"/>
            <a:ext cx="2285640" cy="761760"/>
            <a:chOff x="2209680" y="1905120"/>
            <a:chExt cx="2285640" cy="761760"/>
          </a:xfrm>
        </p:grpSpPr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2972520" y="1905120"/>
                  <a:ext cx="15228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2209680" y="2234880"/>
                  <a:ext cx="30492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943600" y="1941480"/>
                <a:ext cx="19908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848720" y="1981080"/>
                <a:ext cx="1371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1752480"/>
            <a:ext cx="7848360" cy="48006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565360"/>
            <a:ext cx="7250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单项式相乘，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系数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隶书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同底数幂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分别相乘，作为积的因式，对于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只在一个单项式里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含有的字母，则连同它的指数作为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积的一个因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单项式的乘法法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404640"/>
            <a:ext cx="1224000" cy="64800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04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例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77336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5120" y="1646280"/>
            <a:ext cx="3851280" cy="84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98560" y="2838600"/>
            <a:ext cx="208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2138400" cy="698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348000" y="3573360"/>
            <a:ext cx="1366920" cy="703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276720" y="609588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87280" y="4632480"/>
            <a:ext cx="3930840" cy="884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87280" y="5661000"/>
            <a:ext cx="2702160" cy="784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8360" y="1052640"/>
            <a:ext cx="2303280" cy="72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762200" y="2720880"/>
            <a:ext cx="3890880" cy="852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4788000" y="3502080"/>
            <a:ext cx="1655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248520" y="4844880"/>
            <a:ext cx="522000" cy="642600"/>
            <a:chOff x="6248520" y="4844880"/>
            <a:chExt cx="522000" cy="642600"/>
          </a:xfrm>
        </p:grpSpPr>
        <p:sp>
          <p:nvSpPr>
            <p:cNvPr id="143" name=""/>
            <p:cNvSpPr/>
            <p:nvPr/>
          </p:nvSpPr>
          <p:spPr>
            <a:xfrm>
              <a:off x="6248520" y="4920840"/>
              <a:ext cx="522000" cy="52236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24480" y="4844880"/>
              <a:ext cx="43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Century Gothic"/>
                  <a:ea typeface="华文中宋"/>
                </a:rPr>
                <a:t>z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191120" y="3809880"/>
            <a:ext cx="522000" cy="522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68760" y="3124080"/>
            <a:ext cx="522360" cy="522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2209680"/>
            <a:ext cx="522000" cy="522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1295280"/>
            <a:ext cx="10117080" cy="5154840"/>
            <a:chOff x="0" y="1295280"/>
            <a:chExt cx="10117080" cy="5154840"/>
          </a:xfrm>
        </p:grpSpPr>
        <p:sp>
          <p:nvSpPr>
            <p:cNvPr id="149" name=""/>
            <p:cNvSpPr/>
            <p:nvPr/>
          </p:nvSpPr>
          <p:spPr>
            <a:xfrm>
              <a:off x="0" y="1295280"/>
              <a:ext cx="10117080" cy="51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99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333399"/>
                  </a:solidFill>
                  <a:latin typeface="华文新魏"/>
                  <a:ea typeface="华文新魏"/>
                </a:rPr>
                <a:t>下面的计算是否正确？如有错误，请改正</a:t>
              </a:r>
              <a:r>
                <a:rPr b="1" lang="zh-CN" sz="3600" spc="-1" strike="noStrike">
                  <a:solidFill>
                    <a:srgbClr val="333399"/>
                  </a:solidFill>
                  <a:latin typeface="华文新魏"/>
                  <a:ea typeface="华文新魏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99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(1)</a:t>
              </a:r>
              <a:r>
                <a:rPr b="1" lang="zh-CN" sz="4000" spc="-1" strike="noStrike">
                  <a:solidFill>
                    <a:srgbClr val="800000"/>
                  </a:solidFill>
                  <a:latin typeface="华文中宋"/>
                  <a:ea typeface="华文中宋"/>
                </a:rPr>
                <a:t>                       </a:t>
              </a: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(       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   </a:t>
              </a: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(2) -2x</a:t>
              </a:r>
              <a:r>
                <a:rPr b="1" lang="zh-CN" sz="4000" spc="-1" strike="noStrike" baseline="30000">
                  <a:solidFill>
                    <a:srgbClr val="800000"/>
                  </a:solidFill>
                  <a:latin typeface="Century Gothic"/>
                  <a:ea typeface="华文中宋"/>
                </a:rPr>
                <a:t>4</a:t>
              </a: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· 3x</a:t>
              </a:r>
              <a:r>
                <a:rPr b="1" lang="zh-CN" sz="4000" spc="-1" strike="noStrike" baseline="30000">
                  <a:solidFill>
                    <a:srgbClr val="800000"/>
                  </a:solidFill>
                  <a:latin typeface="Century Gothic"/>
                  <a:ea typeface="华文中宋"/>
                </a:rPr>
                <a:t>2</a:t>
              </a: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= 6x</a:t>
              </a:r>
              <a:r>
                <a:rPr b="1" lang="zh-CN" sz="4000" spc="-1" strike="noStrike" baseline="30000">
                  <a:solidFill>
                    <a:srgbClr val="800000"/>
                  </a:solidFill>
                  <a:latin typeface="Century Gothic"/>
                  <a:ea typeface="华文中宋"/>
                </a:rPr>
                <a:t>6</a:t>
              </a: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                 (       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   </a:t>
              </a: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(3) 2b</a:t>
              </a:r>
              <a:r>
                <a:rPr b="1" lang="zh-CN" sz="4000" spc="-1" strike="noStrike" baseline="30000">
                  <a:solidFill>
                    <a:srgbClr val="800000"/>
                  </a:solidFill>
                  <a:latin typeface="Century Gothic"/>
                  <a:ea typeface="华文中宋"/>
                </a:rPr>
                <a:t>3</a:t>
              </a: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· 4b</a:t>
              </a:r>
              <a:r>
                <a:rPr b="1" lang="zh-CN" sz="4000" spc="-1" strike="noStrike" baseline="30000">
                  <a:solidFill>
                    <a:srgbClr val="800000"/>
                  </a:solidFill>
                  <a:latin typeface="Century Gothic"/>
                  <a:ea typeface="华文中宋"/>
                </a:rPr>
                <a:t>3</a:t>
              </a: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= 8b</a:t>
              </a:r>
              <a:r>
                <a:rPr b="1" lang="zh-CN" sz="4000" spc="-1" strike="noStrike" baseline="30000">
                  <a:solidFill>
                    <a:srgbClr val="800000"/>
                  </a:solidFill>
                  <a:latin typeface="Century Gothic"/>
                  <a:ea typeface="华文中宋"/>
                </a:rPr>
                <a:t>3</a:t>
              </a: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                  (       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   </a:t>
              </a: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(4)-4x</a:t>
              </a:r>
              <a:r>
                <a:rPr b="1" lang="zh-CN" sz="4000" spc="-1" strike="noStrike" baseline="30000">
                  <a:solidFill>
                    <a:srgbClr val="800000"/>
                  </a:solidFill>
                  <a:latin typeface="Century Gothic"/>
                  <a:ea typeface="华文中宋"/>
                </a:rPr>
                <a:t>2</a:t>
              </a: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y</a:t>
              </a:r>
              <a:r>
                <a:rPr b="1" lang="zh-CN" sz="4000" spc="-1" strike="noStrike" baseline="30000">
                  <a:solidFill>
                    <a:srgbClr val="800000"/>
                  </a:solidFill>
                  <a:latin typeface="Century Gothic"/>
                  <a:ea typeface="华文中宋"/>
                </a:rPr>
                <a:t>3</a:t>
              </a: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· 5xy</a:t>
              </a:r>
              <a:r>
                <a:rPr b="1" lang="zh-CN" sz="4000" spc="-1" strike="noStrike" baseline="30000">
                  <a:solidFill>
                    <a:srgbClr val="800000"/>
                  </a:solidFill>
                  <a:latin typeface="Century Gothic"/>
                  <a:ea typeface="华文中宋"/>
                </a:rPr>
                <a:t>2</a:t>
              </a: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z=-20x</a:t>
              </a:r>
              <a:r>
                <a:rPr b="1" lang="zh-CN" sz="4000" spc="-1" strike="noStrike" baseline="30000">
                  <a:solidFill>
                    <a:srgbClr val="800000"/>
                  </a:solidFill>
                  <a:latin typeface="Century Gothic"/>
                  <a:ea typeface="华文中宋"/>
                </a:rPr>
                <a:t>3</a:t>
              </a: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y</a:t>
              </a:r>
              <a:r>
                <a:rPr b="1" lang="zh-CN" sz="4000" spc="-1" strike="noStrike" baseline="30000">
                  <a:solidFill>
                    <a:srgbClr val="800000"/>
                  </a:solidFill>
                  <a:latin typeface="Century Gothic"/>
                  <a:ea typeface="华文中宋"/>
                </a:rPr>
                <a:t>5</a:t>
              </a:r>
              <a:r>
                <a:rPr b="1" lang="zh-CN" sz="3600" spc="-1" strike="noStrike">
                  <a:solidFill>
                    <a:srgbClr val="fe0202"/>
                  </a:solidFill>
                  <a:latin typeface="Century Gothic"/>
                  <a:ea typeface="华文中宋"/>
                </a:rPr>
                <a:t>      </a:t>
              </a:r>
              <a:r>
                <a:rPr b="1" lang="zh-CN" sz="4000" spc="-1" strike="noStrike">
                  <a:solidFill>
                    <a:srgbClr val="800000"/>
                  </a:solidFill>
                  <a:latin typeface="Century Gothic"/>
                  <a:ea typeface="华文中宋"/>
                </a:rPr>
                <a:t>(       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800000"/>
                  </a:solidFill>
                  <a:latin typeface="华文新魏"/>
                  <a:ea typeface="华文新魏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1295280" y="2084400"/>
                  <a:ext cx="373392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7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1" name=""/>
          <p:cNvSpPr/>
          <p:nvPr/>
        </p:nvSpPr>
        <p:spPr>
          <a:xfrm>
            <a:off x="4800600" y="1371600"/>
            <a:ext cx="1062000" cy="711360"/>
          </a:xfrm>
          <a:prstGeom prst="wedgeEllipseCallout">
            <a:avLst>
              <a:gd name="adj1" fmla="val -80791"/>
              <a:gd name="adj2" fmla="val 65847"/>
            </a:avLst>
          </a:prstGeom>
          <a:solidFill>
            <a:srgbClr val="47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202"/>
                </a:solidFill>
                <a:latin typeface="华文中宋"/>
                <a:ea typeface="华文中宋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6280" y="835200"/>
            <a:ext cx="861084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76400" y="2133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76400" y="39402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82520" y="29988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76400" y="4805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2286000"/>
            <a:ext cx="1062000" cy="711360"/>
          </a:xfrm>
          <a:prstGeom prst="wedgeEllipseCallout">
            <a:avLst>
              <a:gd name="adj1" fmla="val -101870"/>
              <a:gd name="adj2" fmla="val 72546"/>
            </a:avLst>
          </a:prstGeom>
          <a:solidFill>
            <a:srgbClr val="47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202"/>
                </a:solidFill>
                <a:latin typeface="华文中宋"/>
                <a:ea typeface="华文中宋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3429000"/>
            <a:ext cx="1062000" cy="711360"/>
          </a:xfrm>
          <a:prstGeom prst="wedgeEllipseCallout">
            <a:avLst>
              <a:gd name="adj1" fmla="val -100523"/>
              <a:gd name="adj2" fmla="val 48439"/>
            </a:avLst>
          </a:prstGeom>
          <a:solidFill>
            <a:srgbClr val="47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202"/>
                </a:solidFill>
                <a:latin typeface="华文中宋"/>
                <a:ea typeface="华文中宋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0" y="0"/>
            <a:ext cx="3276720" cy="2852280"/>
            <a:chOff x="0" y="0"/>
            <a:chExt cx="3276720" cy="2852280"/>
          </a:xfrm>
        </p:grpSpPr>
        <p:sp>
          <p:nvSpPr>
            <p:cNvPr id="160" name=""/>
            <p:cNvSpPr/>
            <p:nvPr/>
          </p:nvSpPr>
          <p:spPr>
            <a:xfrm>
              <a:off x="982800" y="0"/>
              <a:ext cx="2192040" cy="1143000"/>
            </a:xfrm>
            <a:prstGeom prst="cloudCallout">
              <a:avLst>
                <a:gd name="adj1" fmla="val -62888"/>
                <a:gd name="adj2" fmla="val 61250"/>
              </a:avLst>
            </a:prstGeom>
            <a:solidFill>
              <a:srgbClr val="ffff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192240"/>
              <a:ext cx="3276720" cy="2660040"/>
              <a:chOff x="0" y="192240"/>
              <a:chExt cx="3276720" cy="2660040"/>
            </a:xfrm>
          </p:grpSpPr>
          <p:pic>
            <p:nvPicPr>
              <p:cNvPr id="1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103040"/>
                <a:ext cx="879480" cy="1749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3" name=""/>
              <p:cNvGrpSpPr/>
              <p:nvPr/>
            </p:nvGrpSpPr>
            <p:grpSpPr>
              <a:xfrm>
                <a:off x="1197000" y="192240"/>
                <a:ext cx="2079720" cy="764280"/>
                <a:chOff x="1197000" y="192240"/>
                <a:chExt cx="2079720" cy="7642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197000" y="341280"/>
                  <a:ext cx="20797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76160" y="192240"/>
                  <a:ext cx="7401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ff0000"/>
                      </a:solidFill>
                      <a:latin typeface="Arial"/>
                      <a:ea typeface="华文新魏"/>
                    </a:rPr>
                    <a:t>找一找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30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Century Gothic"/>
                <a:ea typeface="Arial Unicode MS"/>
              </a:rPr>
              <a:t>思考</a:t>
            </a:r>
            <a:r>
              <a:rPr b="1" lang="zh-CN" sz="4800" spc="-1" strike="noStrike">
                <a:solidFill>
                  <a:srgbClr val="ff5050"/>
                </a:solidFill>
                <a:latin typeface="Century Gothic"/>
                <a:ea typeface="Arial Unicode MS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9040" y="76212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(1)</a:t>
            </a:r>
            <a:r>
              <a:rPr b="1" lang="zh-CN" sz="4000" spc="-1" strike="noStrike">
                <a:solidFill>
                  <a:srgbClr val="0000cc"/>
                </a:solidFill>
                <a:latin typeface="Century Gothic"/>
                <a:ea typeface="Arial Unicode MS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5a</a:t>
            </a:r>
            <a:r>
              <a:rPr b="1" lang="zh-CN" sz="4000" spc="-1" strike="noStrike" baseline="30000">
                <a:solidFill>
                  <a:srgbClr val="000000"/>
                </a:solidFill>
                <a:latin typeface="Century Gothic"/>
                <a:ea typeface="Arial Unicode MS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)· (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3a)</a:t>
            </a:r>
            <a:r>
              <a:rPr b="0" lang="zh-CN" sz="40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· (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2ab</a:t>
            </a:r>
            <a:r>
              <a:rPr b="1" lang="zh-CN" sz="4000" spc="-1" strike="noStrike" baseline="30000">
                <a:solidFill>
                  <a:srgbClr val="000000"/>
                </a:solidFill>
                <a:latin typeface="Century Gothic"/>
                <a:ea typeface="Arial Unicode MS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6320" y="1371600"/>
                <a:ext cx="79056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原式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（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）</m:t>
                    </m:r>
                    <m:r>
                      <m:t xml:space="preserve">×</m:t>
                    </m:r>
                    <m:r>
                      <m:t xml:space="preserve">（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）</m:t>
                    </m:r>
                    <m:r>
                      <m:t xml:space="preserve">×</m:t>
                    </m:r>
                    <m:r>
                      <m:t xml:space="preserve">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）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74920" y="1905120"/>
                <a:ext cx="22302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1" name=""/>
          <p:cNvGrpSpPr/>
          <p:nvPr/>
        </p:nvGrpSpPr>
        <p:grpSpPr>
          <a:xfrm>
            <a:off x="3733920" y="2590920"/>
            <a:ext cx="6933960" cy="763920"/>
            <a:chOff x="3733920" y="2590920"/>
            <a:chExt cx="6933960" cy="763920"/>
          </a:xfrm>
        </p:grpSpPr>
        <p:sp>
          <p:nvSpPr>
            <p:cNvPr id="172" name=""/>
            <p:cNvSpPr/>
            <p:nvPr/>
          </p:nvSpPr>
          <p:spPr>
            <a:xfrm>
              <a:off x="3733920" y="265140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Arial Unicode MS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Arial Unicode MS"/>
                </a:rPr>
                <a:t>(3)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5067720" y="2590920"/>
                  <a:ext cx="355032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9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2595600"/>
            <a:ext cx="7921800" cy="833400"/>
            <a:chOff x="0" y="2595600"/>
            <a:chExt cx="7921800" cy="833400"/>
          </a:xfrm>
        </p:grpSpPr>
        <p:sp>
          <p:nvSpPr>
            <p:cNvPr id="176" name=""/>
            <p:cNvSpPr/>
            <p:nvPr/>
          </p:nvSpPr>
          <p:spPr>
            <a:xfrm>
              <a:off x="0" y="2666880"/>
              <a:ext cx="792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Arial Unicode MS"/>
                </a:rPr>
                <a:t>(2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838080" y="2595600"/>
                  <a:ext cx="341316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28600" y="3276720"/>
                <a:ext cx="3505320" cy="14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原式</m:t>
                        </m:r>
                      </m:e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4920" y="4724280"/>
                <a:ext cx="2819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4920" y="5410080"/>
                <a:ext cx="41148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（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）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04920" y="6019920"/>
                <a:ext cx="19810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276720" y="3276720"/>
                <a:ext cx="532584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原式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724280" y="3962520"/>
                <a:ext cx="4419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800600" y="4648320"/>
                <a:ext cx="304812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876920" y="5334120"/>
                <a:ext cx="18288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29T01:21:49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