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breeze.wav" ContentType="audio/x-wav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B3F0-3B97-4ED1-92D0-6A0E1DFB31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5170-6A6C-4351-A516-B315EACE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363A6-D2C9-4D8C-839E-22E05F7380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03BA8-BD0B-4482-BE29-82928FDB6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C035D-EA78-46CB-B935-3451AABDD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35195-F2B0-4D1E-B7C2-6AE09A75F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9A3CA-5E2C-4F37-961F-BA32D3F02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66ED-2218-4AD5-AD45-6365866CE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48049-F45F-4E49-A5DB-4B7ACBED6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E393-CD67-44B5-9419-71A009B65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431D-903C-499E-BCAA-CE0AEF873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950C-77C7-460B-9244-7A04B1FF2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5DB30-9F8A-4578-B92E-034A15FD52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audio" Target="../media/breeze.wav"/><Relationship Id="rId4" Type="http://schemas.openxmlformats.org/officeDocument/2006/relationships/audio" Target="../media/breeze.wav"/><Relationship Id="rId5" Type="http://schemas.openxmlformats.org/officeDocument/2006/relationships/audio" Target="../media/breeze.wav"/><Relationship Id="rId6" Type="http://schemas.openxmlformats.org/officeDocument/2006/relationships/audio" Target="../media/breeze.wav"/><Relationship Id="rId7" Type="http://schemas.openxmlformats.org/officeDocument/2006/relationships/audio" Target="../media/breeze.wav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124000" y="2708280"/>
            <a:ext cx="4967280" cy="1846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1" strike="noStrike">
                <a:ln w="0">
                  <a:noFill/>
                </a:ln>
                <a:solidFill>
                  <a:srgbClr val="ff6600"/>
                </a:solidFill>
                <a:effectLst>
                  <a:outerShdw dist="107932" dir="13500000" blurRad="0" rotWithShape="0">
                    <a:srgbClr val="808080">
                      <a:alpha val="50000"/>
                    </a:srgbClr>
                  </a:outerShdw>
                </a:effectLst>
                <a:latin typeface="隶书"/>
              </a:rPr>
              <a:t>钓 鱼 的 启 示</a:t>
            </a:r>
            <a:endParaRPr b="1" lang="en-US" sz="4400" spc="1" strike="noStrike">
              <a:ln w="0">
                <a:noFill/>
              </a:ln>
              <a:solidFill>
                <a:srgbClr val="ff6600"/>
              </a:solidFill>
              <a:effectLst>
                <a:outerShdw dist="107932" dir="13500000" blurRad="0" rotWithShape="0">
                  <a:srgbClr val="808080">
                    <a:alpha val="5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42" name=""/>
          <p:cNvSpPr/>
          <p:nvPr/>
        </p:nvSpPr>
        <p:spPr>
          <a:xfrm>
            <a:off x="971640" y="1341360"/>
            <a:ext cx="45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黑体"/>
              </a:rPr>
              <a:t>北师大版小学语文四年级上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721120" y="5013360"/>
            <a:ext cx="161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华文隶书"/>
                <a:ea typeface="华文隶书"/>
              </a:rPr>
              <a:t>执 教 者：徐燕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1476360" y="1557360"/>
            <a:ext cx="6048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詹姆斯确实再也没有钓到过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那么大的鱼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，但是那条大鱼却经常会出现在他的眼前——当遇到道德的问题时，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这条大鱼</a:t>
            </a: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就会出现在他的眼前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0" y="-17136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-17136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2124000" y="1628640"/>
            <a:ext cx="60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这件事在詹姆斯的记忆中永远是那样清晰，他为自己的父亲而骄傲，也为自己骄傲，他还可以骄傲地把这件事告诉他的朋友们和他的子孙后代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钓鱼不仅给作者启示，也给我们启示，让我们写写这件事给我们的启示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搜集关于一些关于道德规范的名言警句。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3716280"/>
            <a:ext cx="7993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衡量一个人真正的品德，是看他在知道别人没有发觉的时候做些什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——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法国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孟德斯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8360" y="0"/>
            <a:ext cx="781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539640" y="1413000"/>
            <a:ext cx="6769080" cy="35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詹姆斯的眼珠都瞪圆了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我的天哪，足有</a:t>
            </a:r>
            <a:r>
              <a:rPr b="1" lang="zh-CN" sz="4400" spc="-1" strike="noStrike">
                <a:solidFill>
                  <a:srgbClr val="d60093"/>
                </a:solidFill>
                <a:latin typeface="宋体"/>
              </a:rPr>
              <a:t>10</a:t>
            </a:r>
            <a:r>
              <a:rPr b="1" lang="zh-CN" sz="4400" spc="-1" strike="noStrike">
                <a:solidFill>
                  <a:srgbClr val="d60093"/>
                </a:solidFill>
                <a:latin typeface="宋体"/>
              </a:rPr>
              <a:t>公斤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这是他见过的</a:t>
            </a:r>
            <a:r>
              <a:rPr b="1" lang="zh-CN" sz="4400" spc="-1" strike="noStrike">
                <a:solidFill>
                  <a:srgbClr val="d60093"/>
                </a:solidFill>
                <a:latin typeface="宋体"/>
              </a:rPr>
              <a:t>最</a:t>
            </a:r>
            <a:r>
              <a:rPr b="1" lang="zh-CN" sz="4800" spc="-1" strike="noStrike">
                <a:solidFill>
                  <a:srgbClr val="d60093"/>
                </a:solidFill>
                <a:latin typeface="宋体"/>
              </a:rPr>
              <a:t>大</a:t>
            </a:r>
            <a:r>
              <a:rPr b="1" lang="zh-CN" sz="4400" spc="-1" strike="noStrike">
                <a:solidFill>
                  <a:srgbClr val="d60093"/>
                </a:solidFill>
                <a:latin typeface="宋体"/>
              </a:rPr>
              <a:t>的鱼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0" y="723960"/>
            <a:ext cx="9144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父亲看了看大鱼，又看了看儿子，说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  “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孩子，你得把它放回水里去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          “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爸爸！”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詹姆斯大叫起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          “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你还会钓到别的鱼的。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          “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可哪儿能钓到这么大的鱼呀！”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儿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大声抗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187280" y="2205000"/>
            <a:ext cx="604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333399"/>
                </a:solidFill>
                <a:latin typeface="宋体"/>
              </a:rPr>
              <a:t>詹姆斯向四周望去，月光下，没有一个垂钓者，也没有一条船，当然也就没有一个人知道这件事。</a:t>
            </a:r>
            <a:r>
              <a:rPr b="1" lang="zh-CN" sz="3600" spc="-1" strike="noStrike">
                <a:solidFill>
                  <a:srgbClr val="cc0000"/>
                </a:solidFill>
                <a:latin typeface="宋体"/>
              </a:rPr>
              <a:t>他又一次回头看看父亲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1116000" y="981000"/>
            <a:ext cx="6769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父亲没有说话。詹姆斯知道没有商量的余地了，他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使劲地闭上眼睛，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脑中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一片空白。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他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深深地吸了一口气，睁开了眼睛，弯下腰，小心翼翼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地把鱼钩从那大鱼的嘴上摘下来，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双手捧起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这条沉甸甸的、还在不停扭动着的大鱼，</a:t>
            </a:r>
            <a:r>
              <a:rPr b="1" lang="zh-CN" sz="3600" spc="-1" strike="noStrike">
                <a:solidFill>
                  <a:srgbClr val="d60093"/>
                </a:solidFill>
                <a:latin typeface="Times New Roman"/>
              </a:rPr>
              <a:t>吃力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地把它放入水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cc"/>
                </a:solidFill>
                <a:latin typeface="Arial"/>
              </a:rPr>
              <a:t>钓鱼的规则——从第二天凌晨起才可以钓鲈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2895480" y="1628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1341360"/>
            <a:ext cx="770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正像他的父亲教诲他的那样，道德问题虽然只是一个简单的正确或错误的问题，但是实施起来却有一定的难度，特别是当你面对着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很大的诱惑</a:t>
            </a:r>
            <a:r>
              <a:rPr b="1" lang="zh-CN" sz="4400" spc="-1" strike="noStrike">
                <a:solidFill>
                  <a:srgbClr val="333399"/>
                </a:solidFill>
                <a:latin typeface="Times New Roman"/>
              </a:rPr>
              <a:t>的时候。（受到的启示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9640" y="371628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"/>
          <p:cNvSpPr/>
          <p:nvPr/>
        </p:nvSpPr>
        <p:spPr>
          <a:xfrm>
            <a:off x="539640" y="1341360"/>
            <a:ext cx="860436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漂流书屋无人监管：面对那么多书你会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学校考试时：老师多给了分数，你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  </a:t>
            </a:r>
            <a:br>
              <a:rPr sz="36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8120" y="2565360"/>
            <a:ext cx="477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商店买东西时：售货员多找了钱，你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38606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在路上：你捡到了一元钱，没有人看见，你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702080" y="4769640"/>
            <a:ext cx="575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同学们都不在，你发现同学的笔特别漂亮，你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1:46:38Z</dcterms:created>
  <dc:creator>微软用户</dc:creator>
  <dc:description/>
  <dc:language>en-US</dc:language>
  <cp:lastModifiedBy>微软用户</cp:lastModifiedBy>
  <dcterms:modified xsi:type="dcterms:W3CDTF">2012-12-09T13:27:43Z</dcterms:modified>
  <cp:revision>4</cp:revision>
  <dc:subject/>
  <dc:title>幻灯片 1</dc:title>
</cp:coreProperties>
</file>