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png" ContentType="image/png"/>
  <Override PartName="/ppt/media/image8.jpeg" ContentType="image/jpeg"/>
  <Override PartName="/ppt/media/image11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B5D1-F487-437A-BCC6-4C9A0D46F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822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855680"/>
            <a:ext cx="822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4EF56-2624-4380-8CFC-B2BBCB46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350172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85568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85568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324F-8E76-4901-8CE5-CCDE479DF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264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3501720"/>
            <a:ext cx="264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3501720"/>
            <a:ext cx="264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855680"/>
            <a:ext cx="264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855680"/>
            <a:ext cx="264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855680"/>
            <a:ext cx="264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DBDA-24B2-47AF-BBD7-7A565EE2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593479-107F-40AA-A1A5-59DA986F8AB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35017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16D756-A056-46FF-9FE7-62FF425B3EE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AE7CAA-C0F6-45F7-9C78-EA2297A46E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4015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3501720"/>
            <a:ext cx="4015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98519C-42B8-4DA9-9EC4-871039CD933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617DA8-AF61-49B9-9AF9-A380DFFE7E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66560" y="2266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3FE30C-67F6-411C-9AD2-B860ABABF7E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3501720"/>
            <a:ext cx="4015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85568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547E25-C370-4979-BC72-D12863124B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35017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069B-33DC-46B1-824A-82EE55233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4015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350172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85568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BBF0EF-5A7E-4FB9-A794-4D05910366D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350172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855680"/>
            <a:ext cx="822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209B63-FE6C-4EF0-AD1F-E6D03D974D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822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855680"/>
            <a:ext cx="822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242184-7858-4F2A-A7B4-1BAE0034AB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350172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85568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85568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629419-6E5B-4443-9B1B-B93F715C0A7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264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3501720"/>
            <a:ext cx="264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3501720"/>
            <a:ext cx="264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855680"/>
            <a:ext cx="264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855680"/>
            <a:ext cx="264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855680"/>
            <a:ext cx="264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CA4C92-3CD5-4DD8-BD07-61E59E14E71F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A44782E-0678-437F-861C-EC0A52262DE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35017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0386FE-A950-4685-9703-ABCD00A10DB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369056-32F1-4841-A8AC-FB94A9BBBDB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4015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3501720"/>
            <a:ext cx="4015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9ACAE4-065C-40E2-B2A2-A261B4FD651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2868DA-1775-4152-8EB3-509CAE8953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AF9-CF8B-46AA-A57A-2C68B6729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66560" y="2266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91F28-B98F-42F5-895C-CA647C70121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3501720"/>
            <a:ext cx="4015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85568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B06DC-79B5-4BAC-B4D8-2679E09BB16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4015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350172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485568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EF773-C666-4A4E-A611-00231FAF681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350172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855680"/>
            <a:ext cx="822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8AE705-0CCC-4112-B3A6-F9C68E0F8AA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822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4855680"/>
            <a:ext cx="822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8F38D-9417-48B2-B9B4-DF1D688B923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350172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485568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485568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61A8C0-7AB7-4702-92A2-C5A1CD6F7E1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264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3501720"/>
            <a:ext cx="264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3501720"/>
            <a:ext cx="264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4855680"/>
            <a:ext cx="264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4855680"/>
            <a:ext cx="264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4855680"/>
            <a:ext cx="264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1B1FF3-DDCD-4007-949C-949EBE086DA2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BE2A65-FD73-48A2-B8B3-0271A4FF07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35017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E08F3C-B319-47BC-9FC4-6A372B7F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6306D9-D9E3-4AC0-9C27-6472FC03C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4015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3501720"/>
            <a:ext cx="4015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73C0-4771-4046-81C9-1CEBE4303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4015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3501720"/>
            <a:ext cx="4015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F42B63-F63B-4AAC-B3C5-28564FE21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4E1D62-016D-466A-8F77-936039493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66560" y="2266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2EAA5-5891-42AF-9064-C6C21FA4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3501720"/>
            <a:ext cx="4015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485568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89FB2F-6391-4003-B696-D1260BEFC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4015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350172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485568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2DE311-00BF-4B12-9504-A5CF00D7E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350172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855680"/>
            <a:ext cx="822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A5C0D-E0B0-442B-9BCC-1233BF48D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822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4855680"/>
            <a:ext cx="822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167404-D90D-4A38-87D6-B8B901FB3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350172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485568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485568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5AEF52-FAC0-4E66-B0B5-CFE755C2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264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3501720"/>
            <a:ext cx="264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3501720"/>
            <a:ext cx="264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4855680"/>
            <a:ext cx="264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4855680"/>
            <a:ext cx="264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4855680"/>
            <a:ext cx="264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C5F80E-3B16-4253-944F-F98077BF69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1DE96-C0B5-4E5C-9091-8657F5F43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6560" y="2266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B157-DABE-44DE-AB21-BF1FF9EB3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3501720"/>
            <a:ext cx="4015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85568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BC39-815B-436F-8291-ABFF0933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40158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350172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85568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BF58-6434-4D75-864A-EA7B40CA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350172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3501720"/>
            <a:ext cx="40158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855680"/>
            <a:ext cx="8229600" cy="123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8952-98E3-484F-9B4D-15DC6677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35017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527400" indent="-20268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811440" indent="-16200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3" marL="1135800" indent="-162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4" marL="1460520" indent="-1620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5" marL="1460520" indent="-1620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6" marL="1460520" indent="-1620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50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6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0A06-89FD-40D3-98A8-34AA3B15B3C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B9FC7-D6BC-41FC-896B-3CCDAAE997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385128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Rectangle 4"/>
          <p:cNvSpPr/>
          <p:nvPr/>
        </p:nvSpPr>
        <p:spPr>
          <a:xfrm>
            <a:off x="466560" y="62373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3851280" y="623736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Rectangle 4"/>
          <p:cNvSpPr/>
          <p:nvPr/>
        </p:nvSpPr>
        <p:spPr>
          <a:xfrm>
            <a:off x="466560" y="62373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35017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527400" indent="-20268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811440" indent="-16200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3" marL="1135800" indent="-162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4" marL="1460520" indent="-1620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5" marL="1460520" indent="-1620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6" marL="1460520" indent="-1620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C5ACC-A36E-4615-A117-8A55DBC988E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6560" y="2266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350172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1000"/>
          </a:bodyPr>
          <a:p>
            <a:pPr marL="243360" indent="-24336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1" marL="527400" indent="-202680">
              <a:spcBef>
                <a:spcPts val="700"/>
              </a:spcBef>
              <a:buClr>
                <a:srgbClr val="3333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811440" indent="-162000">
              <a:spcBef>
                <a:spcPts val="700"/>
              </a:spcBef>
              <a:buClr>
                <a:srgbClr val="3333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3" marL="1135800" indent="-1620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4" marL="1460520" indent="-1620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5" marL="1460520" indent="-1620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6" marL="1460520" indent="-1620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6"/>
          </p:nvPr>
        </p:nvSpPr>
        <p:spPr>
          <a:xfrm>
            <a:off x="385092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7"/>
          </p:nvPr>
        </p:nvSpPr>
        <p:spPr>
          <a:xfrm>
            <a:off x="466560" y="62370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8ED5D-4AE6-430B-AC96-C0870DA754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4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3.png"/><Relationship Id="rId1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4859280" y="4149720"/>
            <a:ext cx="3889440" cy="2448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68360" y="4149720"/>
            <a:ext cx="4103640" cy="244800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788000" y="1341360"/>
            <a:ext cx="3816360" cy="251928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5"/>
          <a:stretch/>
        </p:blipFill>
        <p:spPr>
          <a:xfrm>
            <a:off x="395280" y="1341360"/>
            <a:ext cx="4103640" cy="251928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4920" y="1773360"/>
            <a:ext cx="4041720" cy="12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江南可采莲，莲叶何田田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乐府诗集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】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932000" y="1628280"/>
            <a:ext cx="4041720" cy="12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小荷才露尖尖角，早有蜻蜓立上头。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——【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小池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杨万里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78920" y="4076280"/>
            <a:ext cx="4410360" cy="10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予独爱莲之出淤泥而不染，濯清涟而不妖，中通外直，不蔓不枝，可远观而不可亵玩焉 。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—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爱莲说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】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周敦颐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788000" y="4149360"/>
            <a:ext cx="4194000" cy="187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接天莲叶无穷碧， 映日荷花别样红。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——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晓出净慈送林子方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】 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杨万里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380880" y="838080"/>
            <a:ext cx="685800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句词有一种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简约的构图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水面是平的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清圆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指荷叶及荷叶上的雨滴是圆的，而亭亭玉立的荷茎又是垂直的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一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把荷叶在水面上错落有致、疏密相间、高低起伏的层次刻画得惟妙惟肖。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简单的一个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字，把微风吹过荷塘，荷叶随风轻轻摇动的姿态不动声色地勾勒出来了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举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”把荷茎修长挺拔、英姿飒爽的精气神表现的淋漓尽致。荷在风中“举”，具有动感，尤见精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304560" y="3045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33"/>
                </a:solidFill>
                <a:latin typeface="Arial"/>
                <a:ea typeface="隶书"/>
              </a:rPr>
              <a:t>“</a:t>
            </a:r>
            <a:r>
              <a:rPr b="1" lang="zh-CN" sz="3600" spc="-1" strike="noStrike">
                <a:solidFill>
                  <a:srgbClr val="333333"/>
                </a:solidFill>
                <a:latin typeface="Arial"/>
                <a:ea typeface="隶书"/>
              </a:rPr>
              <a:t>五月渔郎相忆否？”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57200" y="1143000"/>
            <a:ext cx="6400800" cy="20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作者思念家乡的人，又不直说，而说渔郎是否记起自己，不仅把自己对家乡对朋友的思念之情表达的更加细腻真切，而且使得不落俗套的意境又进一层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杜甫在《月夜》中表达思念妻子之情，是这样表达的</a:t>
            </a:r>
            <a:r>
              <a:rPr b="0" lang="zh-CN" sz="3600" spc="-1" strike="noStrike">
                <a:solidFill>
                  <a:srgbClr val="0066ff"/>
                </a:solidFill>
                <a:latin typeface="华文新魏"/>
                <a:ea typeface="华文新魏"/>
              </a:rPr>
              <a:t>：“今夜鄜州月，闺中只独看。遥怜小儿女，未解忆长安。”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66ff"/>
                </a:solidFill>
                <a:latin typeface="华文新魏"/>
                <a:ea typeface="华文新魏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38088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                    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《除夜作》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                                       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高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旅馆寒灯独不眠，客心何事转凄然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33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</a:rPr>
              <a:t>故乡今夜思千里，霜鬓明朝又一年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3520" y="3352680"/>
            <a:ext cx="72388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宋体"/>
              </a:rPr>
              <a:t>《邯郸冬至夜思家》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宋体"/>
              </a:rPr>
              <a:t>             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宋体"/>
              </a:rPr>
              <a:t>白居易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宋体"/>
              </a:rPr>
              <a:t>邯郸驿里逢冬至，抱膝灯前影伴身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宋体"/>
              </a:rPr>
              <a:t>想得家中夜深坐，还应说着远行人。 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红莲2"/>
          <p:cNvPicPr/>
          <p:nvPr/>
        </p:nvPicPr>
        <p:blipFill>
          <a:blip r:embed="rId2"/>
          <a:stretch/>
        </p:blipFill>
        <p:spPr>
          <a:xfrm>
            <a:off x="358920" y="181080"/>
            <a:ext cx="8229600" cy="144936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3" descr="下"/>
          <p:cNvPicPr/>
          <p:nvPr/>
        </p:nvPicPr>
        <p:blipFill>
          <a:blip r:embed="rId3"/>
          <a:stretch/>
        </p:blipFill>
        <p:spPr>
          <a:xfrm>
            <a:off x="0" y="6119640"/>
            <a:ext cx="9144000" cy="77652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4" descr="绿"/>
          <p:cNvPicPr/>
          <p:nvPr/>
        </p:nvPicPr>
        <p:blipFill>
          <a:blip r:embed="rId4"/>
          <a:stretch/>
        </p:blipFill>
        <p:spPr>
          <a:xfrm>
            <a:off x="755640" y="0"/>
            <a:ext cx="5032440" cy="2028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5"/>
          <p:cNvSpPr/>
          <p:nvPr/>
        </p:nvSpPr>
        <p:spPr>
          <a:xfrm>
            <a:off x="468360" y="3645000"/>
            <a:ext cx="820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42" name="Picture 6" descr="绿点1"/>
          <p:cNvPicPr/>
          <p:nvPr/>
        </p:nvPicPr>
        <p:blipFill>
          <a:blip r:embed="rId5"/>
          <a:stretch/>
        </p:blipFill>
        <p:spPr>
          <a:xfrm>
            <a:off x="179280" y="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绿点1"/>
          <p:cNvPicPr/>
          <p:nvPr/>
        </p:nvPicPr>
        <p:blipFill>
          <a:blip r:embed="rId6"/>
          <a:stretch/>
        </p:blipFill>
        <p:spPr>
          <a:xfrm>
            <a:off x="2052720" y="76500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8" descr="绿点1"/>
          <p:cNvPicPr/>
          <p:nvPr/>
        </p:nvPicPr>
        <p:blipFill>
          <a:blip r:embed="rId7"/>
          <a:stretch/>
        </p:blipFill>
        <p:spPr>
          <a:xfrm>
            <a:off x="324000" y="981000"/>
            <a:ext cx="298440" cy="34308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9" descr="绿点1"/>
          <p:cNvPicPr/>
          <p:nvPr/>
        </p:nvPicPr>
        <p:blipFill>
          <a:blip r:embed="rId8"/>
          <a:stretch/>
        </p:blipFill>
        <p:spPr>
          <a:xfrm>
            <a:off x="1979640" y="127008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绿点1"/>
          <p:cNvPicPr/>
          <p:nvPr/>
        </p:nvPicPr>
        <p:blipFill>
          <a:blip r:embed="rId9"/>
          <a:stretch/>
        </p:blipFill>
        <p:spPr>
          <a:xfrm>
            <a:off x="4427640" y="134136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logo3"/>
          <p:cNvPicPr/>
          <p:nvPr/>
        </p:nvPicPr>
        <p:blipFill>
          <a:blip r:embed="rId10"/>
          <a:stretch/>
        </p:blipFill>
        <p:spPr>
          <a:xfrm>
            <a:off x="250920" y="6370560"/>
            <a:ext cx="1447560" cy="4255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 txBox="1"/>
          <p:nvPr/>
        </p:nvSpPr>
        <p:spPr>
          <a:xfrm>
            <a:off x="828720" y="333360"/>
            <a:ext cx="30859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楷体_GB2312"/>
              </a:rPr>
              <a:t>读一读</a:t>
            </a:r>
            <a:endParaRPr b="1" lang="en-US" sz="80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49" name=""/>
          <p:cNvSpPr/>
          <p:nvPr/>
        </p:nvSpPr>
        <p:spPr>
          <a:xfrm>
            <a:off x="468360" y="1989000"/>
            <a:ext cx="772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  <a:ea typeface="楷体_GB2312"/>
              </a:rPr>
              <a:t>邂逅一首好词，如同在春之暮野，邂逅一个人，眼波流转，微笑蔓延，黯然心动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16000" y="3789360"/>
            <a:ext cx="5689440" cy="2017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403280" y="429264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美美赏析后再来美美地诵读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8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9" dur="250" autoRev="1" fill="hold"/>
                                        <p:tgtEl>
                                          <p:spTgt spid="2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4" dur="1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5" dur="500" autoRev="1" fill="hold"/>
                                        <p:tgtEl>
                                          <p:spTgt spid="2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500"/>
                            </p:stCondLst>
                            <p:childTnLst>
                              <p:par>
                                <p:cTn id="29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0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1" dur="250" autoRev="1" fill="hold"/>
                                        <p:tgtEl>
                                          <p:spTgt spid="2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path" presetID="39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10926 0.000646 C 0.004168 0.047005 0.103499 0.109861 0.230448 0.142763 C 0.361128 0.176632 0.470889 0.167966 0.477647 0.121608 C 0.484405 0.075249 0.594165 0.066583 0.724845 0.100453 C 0.851794 0.133355 0.951125 0.196211 0.944367 0.24257 E">
                                      <p:cBhvr>
                                        <p:cTn id="304" dur="2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5" nodeType="withEffect" fill="hold" presetClass="path" presetID="59" repeatCount="200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97462 -0.0616 C -0.094824 -0.101797 0.021504 -0.119471 0.160288 -0.103282 C 0.303156 -0.086616 0.415416 -0.042277 0.412778 -0.00208 C 0.41014 0.038116 0.522399 0.082454 0.665266 0.09912 C 0.804051 0.11531 0.920379 0.097636 0.923017 0.05744 E">
                                      <p:cBhvr>
                                        <p:cTn id="306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100"/>
                            </p:stCondLst>
                            <p:childTnLst>
                              <p:par>
                                <p:cTn id="30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-303120" y="-2271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228600" y="3045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燎沉香，消溽暑。      鸟雀呼晴，侵晓窥檐语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稍慢　   低沉　            欢快            　声音清脆                                                                                                                                                                                                                            　                              情绪饱满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叶上初阳干宿雨，水面清圆，一一风荷举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　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欣喜  语势连贯　中音中速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故乡遥，何日去。家住吴门，久作长安旅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　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伤愁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放慢速度　　　　慢速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五月渔郎相忆否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小楫轻舟，梦入芙蓉浦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　怅然　喃喃自语　　　缓慢而深情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4" name="Picture 10" descr="1"/>
          <p:cNvPicPr/>
          <p:nvPr/>
        </p:nvPicPr>
        <p:blipFill>
          <a:blip r:embed="rId2"/>
          <a:stretch/>
        </p:blipFill>
        <p:spPr>
          <a:xfrm>
            <a:off x="0" y="5889600"/>
            <a:ext cx="3262320" cy="968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20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77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0" dur="77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42" dur="77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4" dur="770" fill="hold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4" dur="500"/>
                                        <p:tgtEl>
                                          <p:spTgt spid="2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2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42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红莲2"/>
          <p:cNvPicPr/>
          <p:nvPr/>
        </p:nvPicPr>
        <p:blipFill>
          <a:blip r:embed="rId2"/>
          <a:stretch/>
        </p:blipFill>
        <p:spPr>
          <a:xfrm>
            <a:off x="358920" y="181080"/>
            <a:ext cx="8229600" cy="1449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下"/>
          <p:cNvPicPr/>
          <p:nvPr/>
        </p:nvPicPr>
        <p:blipFill>
          <a:blip r:embed="rId3"/>
          <a:stretch/>
        </p:blipFill>
        <p:spPr>
          <a:xfrm>
            <a:off x="0" y="6119640"/>
            <a:ext cx="9144000" cy="77652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4" descr="绿"/>
          <p:cNvPicPr/>
          <p:nvPr/>
        </p:nvPicPr>
        <p:blipFill>
          <a:blip r:embed="rId4"/>
          <a:stretch/>
        </p:blipFill>
        <p:spPr>
          <a:xfrm>
            <a:off x="755640" y="0"/>
            <a:ext cx="5032440" cy="20289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5"/>
          <p:cNvSpPr/>
          <p:nvPr/>
        </p:nvSpPr>
        <p:spPr>
          <a:xfrm>
            <a:off x="468360" y="3645000"/>
            <a:ext cx="820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59" name="Picture 6" descr="绿点1"/>
          <p:cNvPicPr/>
          <p:nvPr/>
        </p:nvPicPr>
        <p:blipFill>
          <a:blip r:embed="rId5"/>
          <a:stretch/>
        </p:blipFill>
        <p:spPr>
          <a:xfrm>
            <a:off x="179280" y="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7" descr="绿点1"/>
          <p:cNvPicPr/>
          <p:nvPr/>
        </p:nvPicPr>
        <p:blipFill>
          <a:blip r:embed="rId6"/>
          <a:stretch/>
        </p:blipFill>
        <p:spPr>
          <a:xfrm>
            <a:off x="2052720" y="76500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8" descr="绿点1"/>
          <p:cNvPicPr/>
          <p:nvPr/>
        </p:nvPicPr>
        <p:blipFill>
          <a:blip r:embed="rId7"/>
          <a:stretch/>
        </p:blipFill>
        <p:spPr>
          <a:xfrm>
            <a:off x="324000" y="981000"/>
            <a:ext cx="298440" cy="34308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9" descr="绿点1"/>
          <p:cNvPicPr/>
          <p:nvPr/>
        </p:nvPicPr>
        <p:blipFill>
          <a:blip r:embed="rId8"/>
          <a:stretch/>
        </p:blipFill>
        <p:spPr>
          <a:xfrm>
            <a:off x="1979640" y="127008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0" descr="绿点1"/>
          <p:cNvPicPr/>
          <p:nvPr/>
        </p:nvPicPr>
        <p:blipFill>
          <a:blip r:embed="rId9"/>
          <a:stretch/>
        </p:blipFill>
        <p:spPr>
          <a:xfrm>
            <a:off x="4427640" y="134136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1" descr="logo3"/>
          <p:cNvPicPr/>
          <p:nvPr/>
        </p:nvPicPr>
        <p:blipFill>
          <a:blip r:embed="rId10"/>
          <a:stretch/>
        </p:blipFill>
        <p:spPr>
          <a:xfrm>
            <a:off x="250920" y="6370560"/>
            <a:ext cx="1447560" cy="42552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 txBox="1"/>
          <p:nvPr/>
        </p:nvSpPr>
        <p:spPr>
          <a:xfrm>
            <a:off x="828720" y="333360"/>
            <a:ext cx="30859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楷体_GB2312"/>
              </a:rPr>
              <a:t>课堂小结</a:t>
            </a:r>
            <a:endParaRPr b="1" lang="en-US" sz="80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66" name=""/>
          <p:cNvSpPr/>
          <p:nvPr/>
        </p:nvSpPr>
        <p:spPr>
          <a:xfrm>
            <a:off x="0" y="1989000"/>
            <a:ext cx="8820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《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苏幕遮</a:t>
            </a:r>
            <a:r>
              <a:rPr b="1" lang="en-US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》</a:t>
            </a:r>
            <a:r>
              <a:rPr b="1" lang="zh-CN" sz="2800" spc="-1" strike="noStrike">
                <a:solidFill>
                  <a:srgbClr val="333333"/>
                </a:solidFill>
                <a:latin typeface="Arial"/>
                <a:ea typeface="楷体_GB2312"/>
              </a:rPr>
              <a:t>是一首将思乡情绪和荷花的风姿融合在一起的佳作，在艺术上达到了炉火纯青的高度，不愧为词中精品。虽写久居汴京与消暑思归的情思，但却以描绘荷花的风神而著称于世。语言朴素生动，形象优美。整首词主要用从生活中提炼出的词语，准确而又生动地表现出荷花的神韵。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2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08" dur="250" autoRev="1" fill="hold"/>
                                        <p:tgtEl>
                                          <p:spTgt spid="2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15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3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14" dur="500" autoRev="1" fill="hold"/>
                                        <p:tgtEl>
                                          <p:spTgt spid="2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2500"/>
                            </p:stCondLst>
                            <p:childTnLst>
                              <p:par>
                                <p:cTn id="416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9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0" dur="250" autoRev="1" fill="hold"/>
                                        <p:tgtEl>
                                          <p:spTgt spid="2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path" presetID="39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10926 0.000646 C 0.004168 0.047005 0.103499 0.109861 0.230448 0.142763 C 0.361128 0.176632 0.470889 0.167966 0.477647 0.121608 C 0.484405 0.075249 0.594165 0.066583 0.724845 0.100453 C 0.851794 0.133355 0.951125 0.196211 0.944367 0.24257 E">
                                      <p:cBhvr>
                                        <p:cTn id="423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4" nodeType="withEffect" fill="hold" presetClass="path" presetID="59" repeatCount="200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97462 -0.0616 C -0.094824 -0.101797 0.021504 -0.119471 0.160288 -0.103282 C 0.303156 -0.086616 0.415416 -0.042277 0.412778 -0.00208 C 0.41014 0.038116 0.522399 0.082454 0.665266 0.09912 C 0.804051 0.11531 0.920379 0.097636 0.923017 0.05744 E">
                                      <p:cBhvr>
                                        <p:cTn id="425" dur="2000" fill="hold"/>
                                        <p:tgtEl>
                                          <p:spTgt spid="2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7100"/>
                            </p:stCondLst>
                            <p:childTnLst>
                              <p:par>
                                <p:cTn id="4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9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Picture 2" descr="红莲2"/>
          <p:cNvPicPr/>
          <p:nvPr/>
        </p:nvPicPr>
        <p:blipFill>
          <a:blip r:embed="rId2"/>
          <a:stretch/>
        </p:blipFill>
        <p:spPr>
          <a:xfrm>
            <a:off x="358920" y="181080"/>
            <a:ext cx="8229600" cy="144936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3" descr="下"/>
          <p:cNvPicPr/>
          <p:nvPr/>
        </p:nvPicPr>
        <p:blipFill>
          <a:blip r:embed="rId3"/>
          <a:stretch/>
        </p:blipFill>
        <p:spPr>
          <a:xfrm>
            <a:off x="0" y="6119640"/>
            <a:ext cx="9144000" cy="77652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4" descr="绿"/>
          <p:cNvPicPr/>
          <p:nvPr/>
        </p:nvPicPr>
        <p:blipFill>
          <a:blip r:embed="rId4"/>
          <a:stretch/>
        </p:blipFill>
        <p:spPr>
          <a:xfrm>
            <a:off x="755640" y="0"/>
            <a:ext cx="5032440" cy="2028960"/>
          </a:xfrm>
          <a:prstGeom prst="rect">
            <a:avLst/>
          </a:prstGeom>
          <a:ln w="0">
            <a:noFill/>
          </a:ln>
        </p:spPr>
      </p:pic>
      <p:sp>
        <p:nvSpPr>
          <p:cNvPr id="270" name="Text Box 5"/>
          <p:cNvSpPr/>
          <p:nvPr/>
        </p:nvSpPr>
        <p:spPr>
          <a:xfrm>
            <a:off x="468360" y="3645000"/>
            <a:ext cx="820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71" name="Picture 6" descr="绿点1"/>
          <p:cNvPicPr/>
          <p:nvPr/>
        </p:nvPicPr>
        <p:blipFill>
          <a:blip r:embed="rId5"/>
          <a:stretch/>
        </p:blipFill>
        <p:spPr>
          <a:xfrm>
            <a:off x="179280" y="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7" descr="绿点1"/>
          <p:cNvPicPr/>
          <p:nvPr/>
        </p:nvPicPr>
        <p:blipFill>
          <a:blip r:embed="rId6"/>
          <a:stretch/>
        </p:blipFill>
        <p:spPr>
          <a:xfrm>
            <a:off x="2052720" y="76500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8" descr="绿点1"/>
          <p:cNvPicPr/>
          <p:nvPr/>
        </p:nvPicPr>
        <p:blipFill>
          <a:blip r:embed="rId7"/>
          <a:stretch/>
        </p:blipFill>
        <p:spPr>
          <a:xfrm>
            <a:off x="324000" y="981000"/>
            <a:ext cx="298440" cy="3430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9" descr="绿点1"/>
          <p:cNvPicPr/>
          <p:nvPr/>
        </p:nvPicPr>
        <p:blipFill>
          <a:blip r:embed="rId8"/>
          <a:stretch/>
        </p:blipFill>
        <p:spPr>
          <a:xfrm>
            <a:off x="1979640" y="127008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0" descr="绿点1"/>
          <p:cNvPicPr/>
          <p:nvPr/>
        </p:nvPicPr>
        <p:blipFill>
          <a:blip r:embed="rId9"/>
          <a:stretch/>
        </p:blipFill>
        <p:spPr>
          <a:xfrm>
            <a:off x="4427640" y="134136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1" descr="logo3"/>
          <p:cNvPicPr/>
          <p:nvPr/>
        </p:nvPicPr>
        <p:blipFill>
          <a:blip r:embed="rId10"/>
          <a:stretch/>
        </p:blipFill>
        <p:spPr>
          <a:xfrm>
            <a:off x="250920" y="6370560"/>
            <a:ext cx="1447560" cy="4255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828720" y="333360"/>
            <a:ext cx="30859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楷体_GB2312"/>
              </a:rPr>
              <a:t>作业布置</a:t>
            </a:r>
            <a:endParaRPr b="1" lang="en-US" sz="80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1989000"/>
            <a:ext cx="88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333333"/>
                </a:solidFill>
                <a:latin typeface="Arial"/>
                <a:ea typeface="楷体_GB2312"/>
              </a:rPr>
              <a:t>背诵这首词。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47" dur="250" autoRev="1" fill="hold"/>
                                        <p:tgtEl>
                                          <p:spTgt spid="2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49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3" dur="500" autoRev="1" fill="hold"/>
                                        <p:tgtEl>
                                          <p:spTgt spid="2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2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59" dur="250" autoRev="1" fill="hold"/>
                                        <p:tgtEl>
                                          <p:spTgt spid="2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3000"/>
                            </p:stCondLst>
                            <p:childTnLst>
                              <p:par>
                                <p:cTn id="461" nodeType="afterEffect" fill="hold" presetClass="path" presetID="39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10926 0.000646 C 0.004168 0.047005 0.103499 0.109861 0.230448 0.142763 C 0.361128 0.176632 0.470889 0.167966 0.477647 0.121608 C 0.484405 0.075249 0.594165 0.066583 0.724845 0.100453 C 0.851794 0.133355 0.951125 0.196211 0.944367 0.24257 E">
                                      <p:cBhvr>
                                        <p:cTn id="462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path" presetID="59" repeatCount="200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97462 -0.0616 C -0.094824 -0.101797 0.021504 -0.119471 0.160288 -0.103282 C 0.303156 -0.086616 0.415416 -0.042277 0.412778 -0.00208 C 0.41014 0.038116 0.522399 0.082454 0.665266 0.09912 C 0.804051 0.11531 0.920379 0.097636 0.923017 0.05744 E">
                                      <p:cBhvr>
                                        <p:cTn id="464" dur="20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7100"/>
                            </p:stCondLst>
                            <p:childTnLst>
                              <p:par>
                                <p:cTn id="4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8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3" dur="5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105520" y="1219320"/>
            <a:ext cx="403848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spcBef>
                <a:spcPts val="4564"/>
              </a:spcBef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zh-CN" sz="7300" spc="-1" strike="noStrike">
                <a:solidFill>
                  <a:srgbClr val="000000"/>
                </a:solidFill>
                <a:latin typeface="Arial"/>
                <a:ea typeface="隶书"/>
              </a:rPr>
              <a:t>苏幕遮</a:t>
            </a:r>
            <a:endParaRPr b="0" lang="en-US" sz="73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07400" cy="74613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62480" y="1031760"/>
            <a:ext cx="2927520" cy="11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spcBef>
                <a:spcPts val="4564"/>
              </a:spcBef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zh-CN" sz="7300" spc="-1" strike="noStrike">
                <a:solidFill>
                  <a:srgbClr val="000000"/>
                </a:solidFill>
                <a:latin typeface="Arial"/>
                <a:ea typeface="迷你简小隶书"/>
              </a:rPr>
              <a:t>苏幕遮</a:t>
            </a:r>
            <a:endParaRPr b="0" lang="en-US" sz="73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43600" y="2909880"/>
            <a:ext cx="1630440" cy="63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spcBef>
                <a:spcPts val="2313"/>
              </a:spcBef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r>
              <a:rPr b="0" lang="zh-CN" sz="3700" spc="-1" strike="noStrike">
                <a:solidFill>
                  <a:srgbClr val="000000"/>
                </a:solidFill>
                <a:latin typeface="Arial"/>
                <a:ea typeface="迷你简小隶书"/>
              </a:rPr>
              <a:t>周邦彦</a:t>
            </a:r>
            <a:endParaRPr b="0" lang="en-US" sz="37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7386480" y="5049720"/>
            <a:ext cx="1381320" cy="142416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0">
            <a:noFill/>
          </a:ln>
          <a:effectLst>
            <a:outerShdw dist="17819" dir="2700000" blurRad="0" rotWithShape="0">
              <a:srgbClr val="9898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27160" y="252360"/>
            <a:ext cx="37018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698400"/>
                <a:tab algn="l" pos="1397160"/>
                <a:tab algn="l" pos="2095560"/>
                <a:tab algn="l" pos="2793960"/>
                <a:tab algn="l" pos="3492360"/>
                <a:tab algn="l" pos="4191120"/>
                <a:tab algn="l" pos="4889520"/>
                <a:tab algn="l" pos="5587920"/>
                <a:tab algn="l" pos="6286680"/>
                <a:tab algn="l" pos="6985080"/>
                <a:tab algn="l" pos="7683480"/>
                <a:tab algn="l" pos="8381880"/>
                <a:tab algn="l" pos="9080640"/>
                <a:tab algn="l" pos="9779040"/>
                <a:tab algn="l" pos="104774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红莲2"/>
          <p:cNvPicPr/>
          <p:nvPr/>
        </p:nvPicPr>
        <p:blipFill>
          <a:blip r:embed="rId2"/>
          <a:stretch/>
        </p:blipFill>
        <p:spPr>
          <a:xfrm>
            <a:off x="358920" y="181080"/>
            <a:ext cx="8229600" cy="14493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3" descr="下"/>
          <p:cNvPicPr/>
          <p:nvPr/>
        </p:nvPicPr>
        <p:blipFill>
          <a:blip r:embed="rId3"/>
          <a:stretch/>
        </p:blipFill>
        <p:spPr>
          <a:xfrm>
            <a:off x="0" y="6119640"/>
            <a:ext cx="9144000" cy="7765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4" descr="绿"/>
          <p:cNvPicPr/>
          <p:nvPr/>
        </p:nvPicPr>
        <p:blipFill>
          <a:blip r:embed="rId4"/>
          <a:stretch/>
        </p:blipFill>
        <p:spPr>
          <a:xfrm>
            <a:off x="755640" y="0"/>
            <a:ext cx="5032440" cy="20289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5"/>
          <p:cNvSpPr/>
          <p:nvPr/>
        </p:nvSpPr>
        <p:spPr>
          <a:xfrm>
            <a:off x="468360" y="3645000"/>
            <a:ext cx="820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6" descr="绿点1"/>
          <p:cNvPicPr/>
          <p:nvPr/>
        </p:nvPicPr>
        <p:blipFill>
          <a:blip r:embed="rId5"/>
          <a:stretch/>
        </p:blipFill>
        <p:spPr>
          <a:xfrm>
            <a:off x="179280" y="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7" descr="绿点1"/>
          <p:cNvPicPr/>
          <p:nvPr/>
        </p:nvPicPr>
        <p:blipFill>
          <a:blip r:embed="rId6"/>
          <a:stretch/>
        </p:blipFill>
        <p:spPr>
          <a:xfrm>
            <a:off x="2052720" y="76500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8" descr="绿点1"/>
          <p:cNvPicPr/>
          <p:nvPr/>
        </p:nvPicPr>
        <p:blipFill>
          <a:blip r:embed="rId7"/>
          <a:stretch/>
        </p:blipFill>
        <p:spPr>
          <a:xfrm>
            <a:off x="324000" y="981000"/>
            <a:ext cx="298440" cy="343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9" descr="绿点1"/>
          <p:cNvPicPr/>
          <p:nvPr/>
        </p:nvPicPr>
        <p:blipFill>
          <a:blip r:embed="rId8"/>
          <a:stretch/>
        </p:blipFill>
        <p:spPr>
          <a:xfrm>
            <a:off x="1979640" y="127008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10" descr="绿点1"/>
          <p:cNvPicPr/>
          <p:nvPr/>
        </p:nvPicPr>
        <p:blipFill>
          <a:blip r:embed="rId9"/>
          <a:stretch/>
        </p:blipFill>
        <p:spPr>
          <a:xfrm>
            <a:off x="4427640" y="134136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1" descr="logo3"/>
          <p:cNvPicPr/>
          <p:nvPr/>
        </p:nvPicPr>
        <p:blipFill>
          <a:blip r:embed="rId10"/>
          <a:stretch/>
        </p:blipFill>
        <p:spPr>
          <a:xfrm>
            <a:off x="250920" y="6370560"/>
            <a:ext cx="1447560" cy="42552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 txBox="1"/>
          <p:nvPr/>
        </p:nvSpPr>
        <p:spPr>
          <a:xfrm>
            <a:off x="828720" y="333360"/>
            <a:ext cx="30859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楷体_GB2312"/>
              </a:rPr>
              <a:t>作者简介</a:t>
            </a:r>
            <a:endParaRPr b="1" lang="en-US" sz="80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989000"/>
            <a:ext cx="882000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周邦彦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1057-1121)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字美成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号清真居士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北宋词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妙解音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善于作词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羁旅愁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他词作的重要题材，另外有咏物词。周邦彦是继柳永之后北宋最有影响力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婉约派词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周词语言富丽精工，音调和谐，讲究格律，被称为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词中老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，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词家之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”。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1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500" autoRev="1" fill="hold"/>
                                        <p:tgtEl>
                                          <p:spTgt spid="1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1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path" presetID="39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10926 0.000646 C 0.004168 0.047005 0.103499 0.109861 0.230448 0.142763 C 0.361128 0.176632 0.470889 0.167966 0.477647 0.121608 C 0.484405 0.075249 0.594165 0.066583 0.724845 0.100453 C 0.851794 0.133355 0.951125 0.196211 0.944367 0.24257 E">
                                      <p:cBhvr>
                                        <p:cTn id="51" dur="2000" fill="hold"/>
                                        <p:tgtEl>
                                          <p:spTgt spid="1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path" presetID="59" repeatCount="200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97462 -0.0616 C -0.094824 -0.101797 0.021504 -0.119471 0.160288 -0.103282 C 0.303156 -0.086616 0.415416 -0.042277 0.412778 -0.00208 C 0.41014 0.038116 0.522399 0.082454 0.665266 0.09912 C 0.804051 0.11531 0.920379 0.097636 0.923017 0.05744 E">
                                      <p:cBhvr>
                                        <p:cTn id="53" dur="2000" fill="hold"/>
                                        <p:tgtEl>
                                          <p:spTgt spid="1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7100"/>
                            </p:stCondLst>
                            <p:childTnLst>
                              <p:par>
                                <p:cTn id="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2" descr="红莲2"/>
          <p:cNvPicPr/>
          <p:nvPr/>
        </p:nvPicPr>
        <p:blipFill>
          <a:blip r:embed="rId2"/>
          <a:stretch/>
        </p:blipFill>
        <p:spPr>
          <a:xfrm>
            <a:off x="358920" y="181080"/>
            <a:ext cx="8229600" cy="14493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3" descr="下"/>
          <p:cNvPicPr/>
          <p:nvPr/>
        </p:nvPicPr>
        <p:blipFill>
          <a:blip r:embed="rId3"/>
          <a:stretch/>
        </p:blipFill>
        <p:spPr>
          <a:xfrm>
            <a:off x="0" y="6119640"/>
            <a:ext cx="9144000" cy="77652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4" descr="绿"/>
          <p:cNvPicPr/>
          <p:nvPr/>
        </p:nvPicPr>
        <p:blipFill>
          <a:blip r:embed="rId4"/>
          <a:stretch/>
        </p:blipFill>
        <p:spPr>
          <a:xfrm>
            <a:off x="755640" y="0"/>
            <a:ext cx="5032440" cy="202896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5"/>
          <p:cNvSpPr/>
          <p:nvPr/>
        </p:nvSpPr>
        <p:spPr>
          <a:xfrm>
            <a:off x="468360" y="3645000"/>
            <a:ext cx="820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5" name="Picture 6" descr="绿点1"/>
          <p:cNvPicPr/>
          <p:nvPr/>
        </p:nvPicPr>
        <p:blipFill>
          <a:blip r:embed="rId5"/>
          <a:stretch/>
        </p:blipFill>
        <p:spPr>
          <a:xfrm>
            <a:off x="179280" y="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7" descr="绿点1"/>
          <p:cNvPicPr/>
          <p:nvPr/>
        </p:nvPicPr>
        <p:blipFill>
          <a:blip r:embed="rId6"/>
          <a:stretch/>
        </p:blipFill>
        <p:spPr>
          <a:xfrm>
            <a:off x="2052720" y="76500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8" descr="绿点1"/>
          <p:cNvPicPr/>
          <p:nvPr/>
        </p:nvPicPr>
        <p:blipFill>
          <a:blip r:embed="rId7"/>
          <a:stretch/>
        </p:blipFill>
        <p:spPr>
          <a:xfrm>
            <a:off x="324000" y="981000"/>
            <a:ext cx="298440" cy="3430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绿点1"/>
          <p:cNvPicPr/>
          <p:nvPr/>
        </p:nvPicPr>
        <p:blipFill>
          <a:blip r:embed="rId8"/>
          <a:stretch/>
        </p:blipFill>
        <p:spPr>
          <a:xfrm>
            <a:off x="1979640" y="127008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0" descr="绿点1"/>
          <p:cNvPicPr/>
          <p:nvPr/>
        </p:nvPicPr>
        <p:blipFill>
          <a:blip r:embed="rId9"/>
          <a:stretch/>
        </p:blipFill>
        <p:spPr>
          <a:xfrm>
            <a:off x="4427640" y="134136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1" descr="logo3"/>
          <p:cNvPicPr/>
          <p:nvPr/>
        </p:nvPicPr>
        <p:blipFill>
          <a:blip r:embed="rId10"/>
          <a:stretch/>
        </p:blipFill>
        <p:spPr>
          <a:xfrm>
            <a:off x="250920" y="6370560"/>
            <a:ext cx="1447560" cy="4255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 txBox="1"/>
          <p:nvPr/>
        </p:nvSpPr>
        <p:spPr>
          <a:xfrm>
            <a:off x="828720" y="333360"/>
            <a:ext cx="30859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楷体_GB2312"/>
              </a:rPr>
              <a:t>读一读</a:t>
            </a:r>
            <a:endParaRPr b="1" lang="en-US" sz="80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02" name=""/>
          <p:cNvSpPr/>
          <p:nvPr/>
        </p:nvSpPr>
        <p:spPr>
          <a:xfrm>
            <a:off x="1258920" y="1989000"/>
            <a:ext cx="6932520" cy="30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朗读提示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准字音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意停顿，把握节奏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初步感受情感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250" autoRev="1" fill="hold"/>
                                        <p:tgtEl>
                                          <p:spTgt spid="1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500" autoRev="1" fill="hold"/>
                                        <p:tgtEl>
                                          <p:spTgt spid="1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7" dur="250" autoRev="1" fill="hold"/>
                                        <p:tgtEl>
                                          <p:spTgt spid="1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path" presetID="39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10926 0.000646 C 0.004168 0.047005 0.103499 0.109861 0.230448 0.142763 C 0.361128 0.176632 0.470889 0.167966 0.477647 0.121608 C 0.484405 0.075249 0.594165 0.066583 0.724845 0.100453 C 0.851794 0.133355 0.951125 0.196211 0.944367 0.24257 E">
                                      <p:cBhvr>
                                        <p:cTn id="90" dur="2000" fill="hold"/>
                                        <p:tgtEl>
                                          <p:spTgt spid="1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1" nodeType="withEffect" fill="hold" presetClass="path" presetID="59" repeatCount="200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97462 -0.0616 C -0.094824 -0.101797 0.021504 -0.119471 0.160288 -0.103282 C 0.303156 -0.086616 0.415416 -0.042277 0.412778 -0.00208 C 0.41014 0.038116 0.522399 0.082454 0.665266 0.09912 C 0.804051 0.11531 0.920379 0.097636 0.923017 0.05744 E">
                                      <p:cBhvr>
                                        <p:cTn id="92" dur="2000" fill="hold"/>
                                        <p:tgtEl>
                                          <p:spTgt spid="1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1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3647880" y="2209680"/>
            <a:ext cx="1357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燎沉香，消溽暑。鸟雀呼晴，侵晓窥檐语。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叶上初阳干宿雨，水面清圆，一一风荷举。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762120"/>
            <a:ext cx="4191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上片（</a:t>
            </a:r>
            <a:r>
              <a:rPr b="1" lang="zh-CN" sz="4800" spc="-1" strike="noStrike">
                <a:solidFill>
                  <a:srgbClr val="ff0000"/>
                </a:solidFill>
                <a:latin typeface="Arial Black"/>
                <a:ea typeface="宋体"/>
              </a:rPr>
              <a:t>写景</a:t>
            </a:r>
            <a:r>
              <a:rPr b="1" lang="zh-CN" sz="4800" spc="-1" strike="noStrike">
                <a:solidFill>
                  <a:srgbClr val="000000"/>
                </a:solidFill>
                <a:latin typeface="Arial Black"/>
                <a:ea typeface="宋体"/>
              </a:rPr>
              <a:t>）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373392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思考：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   </a:t>
            </a:r>
            <a:r>
              <a:rPr b="0" lang="zh-CN" sz="3200" spc="-1" strike="noStrike">
                <a:solidFill>
                  <a:srgbClr val="008000"/>
                </a:solidFill>
                <a:latin typeface="华文新魏"/>
                <a:ea typeface="华文新魏"/>
              </a:rPr>
              <a:t>上片的景中有哪些意象？这些意象构成了一幅怎样的画面？从感官上来讲，词人是从哪三个角度来描写这幅画的？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5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20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2" descr="2"/>
          <p:cNvPicPr/>
          <p:nvPr/>
        </p:nvPicPr>
        <p:blipFill>
          <a:blip r:embed="rId3"/>
          <a:stretch/>
        </p:blipFill>
        <p:spPr>
          <a:xfrm>
            <a:off x="457200" y="5495760"/>
            <a:ext cx="1774800" cy="136224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1"/>
          <p:cNvPicPr/>
          <p:nvPr/>
        </p:nvPicPr>
        <p:blipFill>
          <a:blip r:embed="rId4"/>
          <a:stretch/>
        </p:blipFill>
        <p:spPr>
          <a:xfrm>
            <a:off x="0" y="5889600"/>
            <a:ext cx="3262320" cy="968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3" descr="3"/>
          <p:cNvPicPr/>
          <p:nvPr/>
        </p:nvPicPr>
        <p:blipFill>
          <a:blip r:embed="rId5"/>
          <a:stretch/>
        </p:blipFill>
        <p:spPr>
          <a:xfrm>
            <a:off x="5199120" y="6046920"/>
            <a:ext cx="2895480" cy="8874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4" descr="4"/>
          <p:cNvPicPr/>
          <p:nvPr/>
        </p:nvPicPr>
        <p:blipFill>
          <a:blip r:embed="rId6"/>
          <a:stretch/>
        </p:blipFill>
        <p:spPr>
          <a:xfrm>
            <a:off x="3657600" y="6132600"/>
            <a:ext cx="2455920" cy="7254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1752480" y="1066680"/>
            <a:ext cx="7315200" cy="42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宋体"/>
              </a:rPr>
              <a:t>  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意象：</a:t>
            </a:r>
            <a:r>
              <a:rPr b="1" lang="zh-CN" sz="2800" spc="-1" strike="noStrike">
                <a:solidFill>
                  <a:srgbClr val="333399"/>
                </a:solidFill>
                <a:latin typeface="Arial Black"/>
                <a:ea typeface="宋体"/>
              </a:rPr>
              <a:t>沉香、鸟雀、初阳、荷叶、水面、风荷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画面</a:t>
            </a:r>
            <a:r>
              <a:rPr b="1" lang="zh-CN" sz="2400" spc="-1" strike="noStrike">
                <a:solidFill>
                  <a:srgbClr val="000000"/>
                </a:solidFill>
                <a:latin typeface="Arial Black"/>
                <a:ea typeface="宋体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燎香图 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鸟雀呼晴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图  风荷图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燎沉香，消溽暑。 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  <a:ea typeface="宋体"/>
              </a:rPr>
              <a:t>（嗅觉）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鸟雀呼晴，侵晓窥檐语。 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  <a:ea typeface="宋体"/>
              </a:rPr>
              <a:t>（听觉 视觉）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Arial Black"/>
                <a:ea typeface="宋体"/>
              </a:rPr>
              <a:t>叶上初阳干宿雨，水面清圆，一一风荷举</a:t>
            </a:r>
            <a:r>
              <a:rPr b="1" lang="zh-CN" sz="2800" spc="-1" strike="noStrike">
                <a:solidFill>
                  <a:srgbClr val="ff0000"/>
                </a:solidFill>
                <a:latin typeface="Arial Black"/>
                <a:ea typeface="宋体"/>
              </a:rPr>
              <a:t>（视觉）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2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2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2" descr="2"/>
          <p:cNvPicPr/>
          <p:nvPr/>
        </p:nvPicPr>
        <p:blipFill>
          <a:blip r:embed="rId3"/>
          <a:stretch/>
        </p:blipFill>
        <p:spPr>
          <a:xfrm>
            <a:off x="457200" y="5495760"/>
            <a:ext cx="1774800" cy="13622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1"/>
          <p:cNvPicPr/>
          <p:nvPr/>
        </p:nvPicPr>
        <p:blipFill>
          <a:blip r:embed="rId4"/>
          <a:stretch/>
        </p:blipFill>
        <p:spPr>
          <a:xfrm>
            <a:off x="0" y="5889600"/>
            <a:ext cx="3262320" cy="9684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3" descr="3"/>
          <p:cNvPicPr/>
          <p:nvPr/>
        </p:nvPicPr>
        <p:blipFill>
          <a:blip r:embed="rId5"/>
          <a:stretch/>
        </p:blipFill>
        <p:spPr>
          <a:xfrm>
            <a:off x="5199120" y="6046920"/>
            <a:ext cx="2895480" cy="8874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14" descr="4"/>
          <p:cNvPicPr/>
          <p:nvPr/>
        </p:nvPicPr>
        <p:blipFill>
          <a:blip r:embed="rId6"/>
          <a:stretch/>
        </p:blipFill>
        <p:spPr>
          <a:xfrm>
            <a:off x="3886200" y="5943600"/>
            <a:ext cx="2455920" cy="72540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1619280" y="549360"/>
            <a:ext cx="6491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宋体"/>
              </a:rPr>
              <a:t>下片（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  <a:ea typeface="宋体"/>
              </a:rPr>
              <a:t>抒情</a:t>
            </a: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宋体"/>
              </a:rPr>
              <a:t>）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宋体"/>
              </a:rPr>
              <a:t>抒发了什么样情感？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3720" y="23623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宋体"/>
              </a:rPr>
              <a:t>故乡遥，何日去？ 家住吴门，久作长安旅。 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宋体"/>
              </a:rPr>
              <a:t>五月渔郎相忆否？ 小楫轻舟，梦入芙蓉浦。 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红莲2"/>
          <p:cNvPicPr/>
          <p:nvPr/>
        </p:nvPicPr>
        <p:blipFill>
          <a:blip r:embed="rId2"/>
          <a:stretch/>
        </p:blipFill>
        <p:spPr>
          <a:xfrm>
            <a:off x="358920" y="181080"/>
            <a:ext cx="8229600" cy="144936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下"/>
          <p:cNvPicPr/>
          <p:nvPr/>
        </p:nvPicPr>
        <p:blipFill>
          <a:blip r:embed="rId3"/>
          <a:stretch/>
        </p:blipFill>
        <p:spPr>
          <a:xfrm>
            <a:off x="0" y="6119640"/>
            <a:ext cx="9144000" cy="7765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4" descr="绿"/>
          <p:cNvPicPr/>
          <p:nvPr/>
        </p:nvPicPr>
        <p:blipFill>
          <a:blip r:embed="rId4"/>
          <a:stretch/>
        </p:blipFill>
        <p:spPr>
          <a:xfrm>
            <a:off x="755640" y="0"/>
            <a:ext cx="5032440" cy="2028960"/>
          </a:xfrm>
          <a:prstGeom prst="rect">
            <a:avLst/>
          </a:prstGeom>
          <a:ln w="0">
            <a:noFill/>
          </a:ln>
        </p:spPr>
      </p:pic>
      <p:sp>
        <p:nvSpPr>
          <p:cNvPr id="222" name="Text Box 5"/>
          <p:cNvSpPr/>
          <p:nvPr/>
        </p:nvSpPr>
        <p:spPr>
          <a:xfrm>
            <a:off x="468360" y="3645000"/>
            <a:ext cx="820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3" name="Picture 6" descr="绿点1"/>
          <p:cNvPicPr/>
          <p:nvPr/>
        </p:nvPicPr>
        <p:blipFill>
          <a:blip r:embed="rId5"/>
          <a:stretch/>
        </p:blipFill>
        <p:spPr>
          <a:xfrm>
            <a:off x="179280" y="0"/>
            <a:ext cx="343080" cy="34308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绿点1"/>
          <p:cNvPicPr/>
          <p:nvPr/>
        </p:nvPicPr>
        <p:blipFill>
          <a:blip r:embed="rId6"/>
          <a:stretch/>
        </p:blipFill>
        <p:spPr>
          <a:xfrm>
            <a:off x="2052720" y="765000"/>
            <a:ext cx="342720" cy="3430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绿点1"/>
          <p:cNvPicPr/>
          <p:nvPr/>
        </p:nvPicPr>
        <p:blipFill>
          <a:blip r:embed="rId7"/>
          <a:stretch/>
        </p:blipFill>
        <p:spPr>
          <a:xfrm>
            <a:off x="324000" y="981000"/>
            <a:ext cx="298440" cy="3430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9" descr="绿点1"/>
          <p:cNvPicPr/>
          <p:nvPr/>
        </p:nvPicPr>
        <p:blipFill>
          <a:blip r:embed="rId8"/>
          <a:stretch/>
        </p:blipFill>
        <p:spPr>
          <a:xfrm>
            <a:off x="1979640" y="1270080"/>
            <a:ext cx="171360" cy="1713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0" descr="绿点1"/>
          <p:cNvPicPr/>
          <p:nvPr/>
        </p:nvPicPr>
        <p:blipFill>
          <a:blip r:embed="rId9"/>
          <a:stretch/>
        </p:blipFill>
        <p:spPr>
          <a:xfrm>
            <a:off x="4427640" y="1341360"/>
            <a:ext cx="239760" cy="2397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logo3"/>
          <p:cNvPicPr/>
          <p:nvPr/>
        </p:nvPicPr>
        <p:blipFill>
          <a:blip r:embed="rId10"/>
          <a:stretch/>
        </p:blipFill>
        <p:spPr>
          <a:xfrm>
            <a:off x="250920" y="6370560"/>
            <a:ext cx="1447560" cy="42552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 txBox="1"/>
          <p:nvPr/>
        </p:nvSpPr>
        <p:spPr>
          <a:xfrm>
            <a:off x="828720" y="333360"/>
            <a:ext cx="3085920" cy="101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38160" dir="5400000" blurRad="0" rotWithShape="0">
                    <a:srgbClr val="4d4d4d">
                      <a:alpha val="75000"/>
                    </a:srgbClr>
                  </a:outerShdw>
                </a:effectLst>
                <a:latin typeface="楷体_GB2312"/>
              </a:rPr>
              <a:t>赏一赏</a:t>
            </a:r>
            <a:endParaRPr b="1" lang="en-US" sz="8000" spc="-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38160" dir="5400000" blurRad="0" rotWithShape="0">
                  <a:srgbClr val="4d4d4d">
                    <a:alpha val="75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30" name=""/>
          <p:cNvSpPr/>
          <p:nvPr/>
        </p:nvSpPr>
        <p:spPr>
          <a:xfrm>
            <a:off x="539640" y="1916280"/>
            <a:ext cx="7796160" cy="12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请围绕词的内容、情感、技巧、风格几个方面，选取你最喜欢的一两句诗进行重点赏析，细细品味它的妙处。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3" dur="250" autoRev="1" fill="hold"/>
                                        <p:tgtEl>
                                          <p:spTgt spid="2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9" dur="500" autoRev="1" fill="hold"/>
                                        <p:tgtEl>
                                          <p:spTgt spid="2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5" dur="250" autoRev="1" fill="hold"/>
                                        <p:tgtEl>
                                          <p:spTgt spid="2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000"/>
                            </p:stCondLst>
                            <p:childTnLst>
                              <p:par>
                                <p:cTn id="217" nodeType="afterEffect" fill="hold" presetClass="path" presetID="39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0.010926 0.000646 C 0.004168 0.047005 0.103499 0.109861 0.230448 0.142763 C 0.361128 0.176632 0.470889 0.167966 0.477647 0.121608 C 0.484405 0.075249 0.594165 0.066583 0.724845 0.100453 C 0.851794 0.133355 0.951125 0.196211 0.944367 0.24257 E">
                                      <p:cBhvr>
                                        <p:cTn id="218" dur="2000" fill="hold"/>
                                        <p:tgtEl>
                                          <p:spTgt spid="2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9" nodeType="withEffect" fill="hold" presetClass="path" presetID="59" repeatCount="2000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0.097462 -0.0616 C -0.094824 -0.101797 0.021504 -0.119471 0.160288 -0.103282 C 0.303156 -0.086616 0.415416 -0.042277 0.412778 -0.00208 C 0.41014 0.038116 0.522399 0.082454 0.665266 0.09912 C 0.804051 0.11531 0.920379 0.097636 0.923017 0.05744 E">
                                      <p:cBhvr>
                                        <p:cTn id="220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71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0880" y="1066680"/>
            <a:ext cx="4114800" cy="20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Arial Black"/>
                <a:ea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 Black"/>
                <a:ea typeface="华文新魏"/>
              </a:rPr>
              <a:t>水面清圆，一一风荷举”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  <a:ea typeface="宋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Arial Black"/>
                <a:ea typeface="宋体"/>
              </a:rPr>
              <a:t>王国维认为这两句词</a:t>
            </a:r>
            <a:r>
              <a:rPr b="1" lang="zh-CN" sz="3600" spc="-1" strike="noStrike">
                <a:solidFill>
                  <a:srgbClr val="0066ff"/>
                </a:solidFill>
                <a:latin typeface="Arial Black"/>
                <a:ea typeface="宋体"/>
              </a:rPr>
              <a:t>，“真能得荷之神理者”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041720" cy="685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50" dur="2000"/>
                                        <p:tgtEl>
                                          <p:spTgt spid="2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3T23:26:09Z</dcterms:created>
  <dc:creator/>
  <dc:description/>
  <dc:language>en-US</dc:language>
  <cp:lastModifiedBy>微软用户</cp:lastModifiedBy>
  <cp:lastPrinted>1899-12-30T00:00:00Z</cp:lastPrinted>
  <dcterms:modified xsi:type="dcterms:W3CDTF">2012-12-23T00:12:50Z</dcterms:modified>
  <cp:revision>5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目标">
    <vt:lpwstr>PPT大赛参赛</vt:lpwstr>
  </property>
</Properties>
</file>