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0.gif" ContentType="image/gif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7C7E-288F-4569-BE97-1151559657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6099-EC90-494C-A31D-E497CAE530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8A7-E5C7-4AC6-B419-D391F668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22A-EF0D-4297-92B3-52DA8F27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3DB-2B0F-42EA-8ED6-AB6E1B4D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0E7-3C4B-4BBB-A6CB-4DF9A5D3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616-8AED-492B-B296-81D9A368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394-807D-4F05-B190-229E2D4B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787-45B3-4FF7-9956-444F6807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24C-5609-4390-BFDF-D49C6720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9D0-A02F-447D-80AC-AABD13D2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295-ADD1-45D6-97AD-E3A008F0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04C-E077-47EB-BF0D-40B214D0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C0B-7F35-4280-B07C-D80517E4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3F0C-15B8-4776-87FD-E77D51C8D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chaor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33520" y="4570920"/>
            <a:ext cx="8610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Lesson 4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Superhero</a:t>
            </a: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6" descr="20101220162401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395280" y="1585800"/>
            <a:ext cx="352908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uperh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afte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is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on one’s 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prom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inj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give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714920" y="1643040"/>
            <a:ext cx="367344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超级英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adv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然后，后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超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灾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单独地，独自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促进，提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伤害，损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放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979640" y="144360"/>
            <a:ext cx="5184360" cy="1700280"/>
            <a:chOff x="1979640" y="144360"/>
            <a:chExt cx="5184360" cy="1700280"/>
          </a:xfrm>
        </p:grpSpPr>
        <p:sp>
          <p:nvSpPr>
            <p:cNvPr id="107" name="WordArt 5"/>
            <p:cNvSpPr txBox="1"/>
            <p:nvPr/>
          </p:nvSpPr>
          <p:spPr>
            <a:xfrm>
              <a:off x="2052360" y="838080"/>
              <a:ext cx="5111640" cy="1006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4788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华文新魏"/>
                </a:rPr>
                <a:t>Words and Expressions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华文新魏"/>
                <a:ea typeface="华文新魏"/>
              </a:endParaRPr>
            </a:p>
          </p:txBody>
        </p:sp>
        <p:pic>
          <p:nvPicPr>
            <p:cNvPr id="108" name="Picture 6" descr="0806126"/>
            <p:cNvPicPr/>
            <p:nvPr/>
          </p:nvPicPr>
          <p:blipFill>
            <a:blip r:embed="rId2"/>
            <a:stretch/>
          </p:blipFill>
          <p:spPr>
            <a:xfrm>
              <a:off x="1979640" y="144360"/>
              <a:ext cx="5041800" cy="46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6" descr="20090423175227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684360" y="1714680"/>
            <a:ext cx="32400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om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pull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om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ommit suic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get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elation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re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500720" y="1714680"/>
            <a:ext cx="43923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达到某种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渡过难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vt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错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)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坏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自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融洽相处，进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vi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979640" y="144360"/>
            <a:ext cx="5184360" cy="1700280"/>
            <a:chOff x="1979640" y="144360"/>
            <a:chExt cx="5184360" cy="1700280"/>
          </a:xfrm>
        </p:grpSpPr>
        <p:sp>
          <p:nvSpPr>
            <p:cNvPr id="113" name="WordArt 5"/>
            <p:cNvSpPr txBox="1"/>
            <p:nvPr/>
          </p:nvSpPr>
          <p:spPr>
            <a:xfrm>
              <a:off x="2052360" y="838080"/>
              <a:ext cx="5111640" cy="1006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4788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华文新魏"/>
                </a:rPr>
                <a:t>Words and Expressions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华文新魏"/>
                <a:ea typeface="华文新魏"/>
              </a:endParaRPr>
            </a:p>
          </p:txBody>
        </p:sp>
        <p:pic>
          <p:nvPicPr>
            <p:cNvPr id="114" name="Picture 6" descr="0806126"/>
            <p:cNvPicPr/>
            <p:nvPr/>
          </p:nvPicPr>
          <p:blipFill>
            <a:blip r:embed="rId2"/>
            <a:stretch/>
          </p:blipFill>
          <p:spPr>
            <a:xfrm>
              <a:off x="1979640" y="144360"/>
              <a:ext cx="5041800" cy="46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6" descr="20120325180555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/>
          <p:cNvSpPr/>
          <p:nvPr/>
        </p:nvSpPr>
        <p:spPr>
          <a:xfrm>
            <a:off x="228600" y="1216080"/>
            <a:ext cx="3743280" cy="56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iv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invol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get involv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h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isab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onf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far 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343400" y="1219320"/>
            <a:ext cx="3673440" cy="56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vi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离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V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涉及，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参加，参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慈善，施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质量，品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残疾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自信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太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，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行楷_GBK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905120" y="228600"/>
            <a:ext cx="5258880" cy="1831680"/>
            <a:chOff x="1905120" y="228600"/>
            <a:chExt cx="5258880" cy="1831680"/>
          </a:xfrm>
        </p:grpSpPr>
        <p:sp>
          <p:nvSpPr>
            <p:cNvPr id="119" name="WordArt 5"/>
            <p:cNvSpPr txBox="1"/>
            <p:nvPr/>
          </p:nvSpPr>
          <p:spPr>
            <a:xfrm>
              <a:off x="1978920" y="975960"/>
              <a:ext cx="5185080" cy="1084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47888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华文新魏"/>
                </a:rPr>
                <a:t>Words and Expressions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华文新魏"/>
                <a:ea typeface="华文新魏"/>
              </a:endParaRPr>
            </a:p>
          </p:txBody>
        </p:sp>
        <p:pic>
          <p:nvPicPr>
            <p:cNvPr id="120" name="Picture 6" descr="0806126"/>
            <p:cNvPicPr/>
            <p:nvPr/>
          </p:nvPicPr>
          <p:blipFill>
            <a:blip r:embed="rId2"/>
            <a:stretch/>
          </p:blipFill>
          <p:spPr>
            <a:xfrm>
              <a:off x="1905120" y="228600"/>
              <a:ext cx="5114160" cy="50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" descr="20090423180108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Exercise 5 work out the meaning of these words from the text and use them to replace the underlined words in the sentences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isaster, on his own, promote,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njury, confident, get involved,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divor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7" descr="201111040925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00000" y="1360080"/>
            <a:ext cx="698508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ally bad th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appened in 2003. Our school burnt d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e are trying hard to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lp in the development of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l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Don’t just sit there!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ke par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help disabled peop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981080" y="916560"/>
            <a:ext cx="20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isas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31480" y="319968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romo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412600" y="4647600"/>
            <a:ext cx="31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et invol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1256913924QuW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116000" y="1115280"/>
            <a:ext cx="705636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e won’t be able to walk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y himsel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ver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She’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at her mother’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hur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ll h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Many people’s parents ar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o longer marri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se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006880" y="1863000"/>
            <a:ext cx="26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n his ow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414520" y="2264760"/>
            <a:ext cx="23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nfi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97800" y="3344040"/>
            <a:ext cx="16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nju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260360" y="524772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ivorc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9" descr="20090423175629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179280" y="1308240"/>
            <a:ext cx="88934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ome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a) to visit   b) to reach a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pull throug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a) to survive  b) to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hink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a) to carefully consid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) to have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give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a) to be afrai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) to stop figh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g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o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a) to have a friendly relationship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) to e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148"/>
          <p:cNvPicPr/>
          <p:nvPr/>
        </p:nvPicPr>
        <p:blipFill>
          <a:blip r:embed="rId2"/>
          <a:stretch/>
        </p:blipFill>
        <p:spPr>
          <a:xfrm>
            <a:off x="4427640" y="1484280"/>
            <a:ext cx="649080" cy="563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148"/>
          <p:cNvPicPr/>
          <p:nvPr/>
        </p:nvPicPr>
        <p:blipFill>
          <a:blip r:embed="rId3"/>
          <a:stretch/>
        </p:blipFill>
        <p:spPr>
          <a:xfrm>
            <a:off x="3348000" y="2133720"/>
            <a:ext cx="720720" cy="62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148"/>
          <p:cNvPicPr/>
          <p:nvPr/>
        </p:nvPicPr>
        <p:blipFill>
          <a:blip r:embed="rId4"/>
          <a:stretch/>
        </p:blipFill>
        <p:spPr>
          <a:xfrm>
            <a:off x="2411280" y="3429000"/>
            <a:ext cx="64800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148"/>
          <p:cNvPicPr/>
          <p:nvPr/>
        </p:nvPicPr>
        <p:blipFill>
          <a:blip r:embed="rId5"/>
          <a:stretch/>
        </p:blipFill>
        <p:spPr>
          <a:xfrm>
            <a:off x="2340000" y="4724280"/>
            <a:ext cx="720720" cy="62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48"/>
          <p:cNvPicPr/>
          <p:nvPr/>
        </p:nvPicPr>
        <p:blipFill>
          <a:blip r:embed="rId6"/>
          <a:stretch/>
        </p:blipFill>
        <p:spPr>
          <a:xfrm>
            <a:off x="2340000" y="5445000"/>
            <a:ext cx="719280" cy="62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8"/>
          <p:cNvSpPr/>
          <p:nvPr/>
        </p:nvSpPr>
        <p:spPr>
          <a:xfrm>
            <a:off x="826920" y="318960"/>
            <a:ext cx="7201080" cy="727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ercise 6 Choose the correct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5" descr="2011052107195535_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29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971640" y="473760"/>
            <a:ext cx="7777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Exercise 7 Use the phrasal verbs above to complete these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36720" y="2472840"/>
            <a:ext cx="79786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Understanding his wife helps Christopher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ll with 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After the accident, doctors warned Christopher that he wasn’t going to__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598920" y="315540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et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628360" y="5266800"/>
            <a:ext cx="27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ll throug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4" descr="2011110409281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826920" y="860400"/>
            <a:ext cx="784872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alking with his family and frie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ped Christopher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r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his disabi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Christopher says there is so much happening in his life right now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 too busy to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iving 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dy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4861440" y="15757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139640" y="445716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ink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9_110715061020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826920" y="907920"/>
            <a:ext cx="763272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After Dana told Christopher that he had her support and love, Christopher decided not to ____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liv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302520" y="24188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ive 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thinking"/>
          <p:cNvPicPr/>
          <p:nvPr/>
        </p:nvPicPr>
        <p:blipFill>
          <a:blip r:embed="rId2"/>
          <a:stretch/>
        </p:blipFill>
        <p:spPr>
          <a:xfrm>
            <a:off x="2340000" y="4221000"/>
            <a:ext cx="2374920" cy="1995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Lead-in: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topic of this lesson is “Superhero”. Through the study of the first three lessons, we have learnt some information about space hero—Yang Liwei, history maker-Martin Luther King and sports stars-Williams sisters. And in this lesson, we will have a general idea of the great qualities of a hero and learn how to deal with the difficulties when we are in trouble. 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4" descr="20101220161104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609480" y="41040"/>
            <a:ext cx="3403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po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one's 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352760" y="106200"/>
            <a:ext cx="41878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独自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\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靠自己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y one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09480" y="1636560"/>
            <a:ext cx="8153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live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her ow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don’t need help him, he can dress himself on his own/by him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one’s ow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某人自己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has a house of his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5" descr="20120114112736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0" y="14364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to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开始（认识，理解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涉及，谈到；达到（某种状态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690920"/>
            <a:ext cx="8686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tuden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me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ealize the importance of lea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i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s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olitics, I know noth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2983680"/>
            <a:ext cx="914400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ill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me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$1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acros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偶然相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out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出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up wit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赶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3" descr="201161917585838149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380880" y="304200"/>
            <a:ext cx="82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 pull through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度过难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恢复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0880" y="1549080"/>
            <a:ext cx="8763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believe that you ca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ll throug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are excited to see our father have managed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ll throug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fter the oper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ll down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拆毁，拉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ll in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火车进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ll ou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火车出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" descr="20101220161211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e famous for \ a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ngzhou is famous for the West lake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nhong is famous as a Pop s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4" descr="20120307081258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911880" y="154800"/>
            <a:ext cx="370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et on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相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进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09480" y="1016280"/>
            <a:ext cx="85345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believe that we ca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et 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ll with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throug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过，打通（电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arou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处走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awa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开，离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dow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下，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o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恢复过来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收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2" descr="20116191832037351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4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get involved wi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加，参与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牵连、混在一起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et involved  wit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harity work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could you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et involved wit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y?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6" descr="201111040805084-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152280" y="380880"/>
            <a:ext cx="899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confident adj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信的；有信心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 confident of sth  /tha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确信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ve confidence in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信心，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充满信心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se confidence in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失去信心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 confident of winning the game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 confident that he will win the game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n’t lose confidence in your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2" descr="20120326165957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: If you were a superman what would you like to do to change the wor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psuCA06U3F6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  <a:ea typeface="楷体"/>
              </a:rPr>
              <a:t>Thank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Times New Roman"/>
                <a:ea typeface="楷体"/>
              </a:rPr>
              <a:t> you 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Times New Roman"/>
                <a:ea typeface="楷体"/>
              </a:rPr>
              <a:t>for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Times New Roman"/>
                <a:ea typeface="楷体"/>
              </a:rPr>
              <a:t> listening </a:t>
            </a:r>
            <a:br>
              <a:rPr sz="3600"/>
            </a:b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1258187414zsj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Look at the pictures in the text and please discuss what qualities should a superhero have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Words : confiden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leran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r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ndsome beautifu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nes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rm-hearted determine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c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In my opinion, a superhero should be always ready to help other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sonally, I think a superhero should be brave and strong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11280" y="1424520"/>
            <a:ext cx="7488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Listen to the tape carefully and answer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rcRect l="2007" t="0" r="0" b="7147"/>
          <a:stretch/>
        </p:blipFill>
        <p:spPr>
          <a:xfrm>
            <a:off x="755640" y="2852640"/>
            <a:ext cx="7632720" cy="33480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4"/>
          <p:cNvSpPr/>
          <p:nvPr/>
        </p:nvSpPr>
        <p:spPr>
          <a:xfrm>
            <a:off x="324000" y="189000"/>
            <a:ext cx="4535280" cy="1079280"/>
          </a:xfrm>
          <a:custGeom>
            <a:avLst/>
            <a:gdLst>
              <a:gd name="textAreaLeft" fmla="*/ 1035360 w 4535280"/>
              <a:gd name="textAreaRight" fmla="*/ 3499920 w 4535280"/>
              <a:gd name="textAreaTop" fmla="*/ 246240 h 1079280"/>
              <a:gd name="textAreaBottom" fmla="*/ 8330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e-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20111213203856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24000" y="767160"/>
            <a:ext cx="85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What was his most famous film charac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Super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at terrible thing happened to him in real lif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He fell off his horse and broke his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What did he do afterwa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He promoted medical research and made speeches all over the USA about his experi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4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"/>
          <p:cNvSpPr/>
          <p:nvPr/>
        </p:nvSpPr>
        <p:spPr>
          <a:xfrm>
            <a:off x="77760" y="66600"/>
            <a:ext cx="8964720" cy="6669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62120" y="228600"/>
            <a:ext cx="784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573120" indent="-53352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Match the headings with the para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) the riding accid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b) his marriage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) his feelings after the acc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) his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) his par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) his beli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) how he got involved with charity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h) his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3120" indent="-53352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) before the acc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6553080" y="685800"/>
            <a:ext cx="4701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334120" y="1371600"/>
            <a:ext cx="411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8305560" y="1981080"/>
            <a:ext cx="33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800240" y="2590920"/>
            <a:ext cx="33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4800240" y="3124080"/>
            <a:ext cx="33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4800240" y="3733920"/>
            <a:ext cx="33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428640" y="4952880"/>
            <a:ext cx="33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4114440" y="5486400"/>
            <a:ext cx="33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6019560" y="6095880"/>
            <a:ext cx="33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7" descr="20101220161107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539640" y="2205000"/>
            <a:ext cx="8209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19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After the accident, with his wife’s help, Christopher Reeve pulled thr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524720" y="28828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12720" y="3782880"/>
            <a:ext cx="7775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19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Christopher Reeve got involved with charity work because he wan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19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improve the quality of his li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308720" y="5114880"/>
            <a:ext cx="6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324000" y="189000"/>
            <a:ext cx="4535280" cy="1079280"/>
          </a:xfrm>
          <a:custGeom>
            <a:avLst/>
            <a:gdLst>
              <a:gd name="textAreaLeft" fmla="*/ 1035360 w 4535280"/>
              <a:gd name="textAreaRight" fmla="*/ 3499920 w 4535280"/>
              <a:gd name="textAreaTop" fmla="*/ 246240 h 1079280"/>
              <a:gd name="textAreaBottom" fmla="*/ 8330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ost-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4932360" y="692280"/>
            <a:ext cx="3600360" cy="1224000"/>
          </a:xfrm>
          <a:prstGeom prst="wedgeRoundRectCallout">
            <a:avLst>
              <a:gd name="adj1" fmla="val -49425"/>
              <a:gd name="adj2" fmla="val 78273"/>
              <a:gd name="adj3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20100509200927-1056282590.jpg"/>
          <p:cNvPicPr/>
          <p:nvPr/>
        </p:nvPicPr>
        <p:blipFill>
          <a:blip r:embed="rId1"/>
          <a:stretch/>
        </p:blipFill>
        <p:spPr>
          <a:xfrm>
            <a:off x="-6048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1116000" y="1341360"/>
            <a:ext cx="67248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19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Reeve was optimistic facing the fact that he couldn’t stand up any lo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116000" y="3789360"/>
            <a:ext cx="7056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191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oth of Reeve’s parents loved their son despite his disabi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7543800" y="4419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635280" y="27097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"/>
          <p:cNvSpPr/>
          <p:nvPr/>
        </p:nvSpPr>
        <p:spPr>
          <a:xfrm>
            <a:off x="179280" y="189000"/>
            <a:ext cx="8964720" cy="6669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762120"/>
          <a:ext cx="8388360" cy="5707080"/>
        </p:xfrm>
        <a:graphic>
          <a:graphicData uri="http://schemas.openxmlformats.org/drawingml/2006/table">
            <a:tbl>
              <a:tblPr/>
              <a:tblGrid>
                <a:gridCol w="1849320"/>
                <a:gridCol w="1535040"/>
                <a:gridCol w="5004000"/>
              </a:tblGrid>
              <a:tr h="83340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Name: 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Birthday: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 gridSpan="3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Most Famous Film:___________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Time/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ed in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 colle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ed in TV shows and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  his horse; ______his ba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78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 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 making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a lot of money to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research into back injuries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________  all over the USA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 charity wor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63"/>
          <p:cNvSpPr/>
          <p:nvPr/>
        </p:nvSpPr>
        <p:spPr>
          <a:xfrm>
            <a:off x="2743200" y="228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perh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52480" y="1295280"/>
            <a:ext cx="1371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2133720" y="990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0948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ristopher Re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4419720" y="1143000"/>
            <a:ext cx="125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181480" y="762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ptember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124080" y="1523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3429000" y="25146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s first school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5410080" y="2971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2438280" y="3429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ll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105520" y="3429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274320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urn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5335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2590920" y="5334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t involv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3352680" y="4952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2"/>
          <p:cNvSpPr/>
          <p:nvPr/>
        </p:nvSpPr>
        <p:spPr>
          <a:xfrm>
            <a:off x="266688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i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5867280" y="4267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m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6T04:20:12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