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998-3D83-4AF8-BD8E-5B897BC3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A9F-1ED3-4FD2-B999-0B6E6CC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5DD-A784-4471-8725-A0C5BDCF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9FF7-6DA8-4802-B0B5-541AC268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248-C758-4299-91A3-B8BD7E1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1F2-24E2-4A39-90AE-E8307E60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A2D-89CD-42F5-B80F-F06E8FDA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EE43-03F0-4BF4-A26E-C74D9DFB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ECD-BB02-432A-B0C0-9B3860F6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B21-AC70-45D5-ACDE-A8D277D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2B2-777C-42C6-B6B7-6E45E422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DC56-4092-4C2C-87B4-063B5703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854-B520-4622-86B7-B1560B5DF2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6000" y="5229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微软雅黑"/>
                <a:ea typeface="微软雅黑"/>
              </a:rPr>
              <a:t>执教人    钱  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2400" y="2637000"/>
            <a:ext cx="778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写一写你对远方处在战火中的小伙伴、对自己或者对周围的人最想说的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76440" y="1209600"/>
            <a:ext cx="27432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小练笔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60804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95280" y="849240"/>
            <a:ext cx="36576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自读提示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2421000"/>
            <a:ext cx="892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自读课文，把课文读正确，读通顺，注意生字、新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想一想课文讲了一件什么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42920" y="1916280"/>
            <a:ext cx="763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雷棣  企盼  回眸  殉难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沉浸  继承  凯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泣不成声    了如指掌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633240"/>
            <a:ext cx="27432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读一读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962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141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65320" y="549360"/>
            <a:ext cx="550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楷体"/>
                <a:ea typeface="楷体"/>
              </a:rPr>
              <a:t>雷棣为什么要企盼世界和平</a:t>
            </a:r>
            <a:r>
              <a:rPr b="1" lang="zh-CN" sz="4800" spc="-1" strike="noStrike">
                <a:solidFill>
                  <a:srgbClr val="000099"/>
                </a:solidFill>
                <a:latin typeface="楷体"/>
                <a:ea typeface="楷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2560" y="170028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"/>
              </a:rPr>
              <a:t>⑴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"/>
              </a:rPr>
              <a:t>维护和平是爸爸生前的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4076640"/>
            <a:ext cx="78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"/>
              </a:rPr>
              <a:t>⑵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楷体"/>
              </a:rPr>
              <a:t>维护和平是家人对雷棣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245412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记住，孩子，你爸爸是为维护和平牺牲的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475920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他对我说：“孩子，等爸爸回来，一定送你一顶蓝盔。”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3618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联合国规定在执行国际维和任务时各国的军队着本国军队的制服，佩带本国的军衔标志，左臂佩戴本国的国旗，右臂佩戴联合国旗。为了方便识别是维和部队，各国部队均头戴蓝色的头盔，头盔上有联合国标志和英文的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UN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久而久之大家都习惯性的称维和部队为蓝盔部队。联合国维持和平部队必须统一着蓝色盔帽或蓝色贝雷帽，所以亦称“蓝盔”部队（蓝色象征和平）。总司令是联合国秘书长。部队的人员由联合国成员国自愿提供。维持和平部队是由武装部队的分遣队组成，士兵可以配备轻型防御性武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333360"/>
            <a:ext cx="27432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</a:rPr>
              <a:t>小资料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620640"/>
            <a:ext cx="8964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两年多来，我们全家沉浸在失去亲人的巨大悲痛中，我至今都忘不了，爸爸临上飞机前对我和妈妈那深情的目光。他说：“孩子，等爸爸回来，我一定送你一顶‘蓝盔’。”我们与爸爸相约，等爸爸凯旋的那一天，我们要带着最美的鲜花迎接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99"/>
                </a:solidFill>
                <a:latin typeface="Arial"/>
                <a:ea typeface="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4829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183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73560" y="733320"/>
            <a:ext cx="476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"/>
              </a:rPr>
              <a:t>雷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一下子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"/>
              </a:rPr>
              <a:t>长大表现在什么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5760" y="1946160"/>
            <a:ext cx="28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（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）关心他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5760" y="3027240"/>
            <a:ext cx="28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（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）关心政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4200" y="4179960"/>
            <a:ext cx="437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（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）努力学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5760" y="5259240"/>
            <a:ext cx="285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（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4</a:t>
            </a:r>
            <a:r>
              <a:rPr b="1" lang="zh-CN" sz="4400" spc="-1" strike="noStrike">
                <a:solidFill>
                  <a:srgbClr val="000099"/>
                </a:solidFill>
                <a:latin typeface="楷体"/>
                <a:ea typeface="楷体"/>
              </a:rPr>
              <a:t>）谢绝帮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9548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2384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-324000" y="-243000"/>
            <a:ext cx="9720360" cy="7344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-324000" y="-243000"/>
            <a:ext cx="9720360" cy="7344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-324000" y="-243000"/>
            <a:ext cx="9720360" cy="734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-324000" y="-243000"/>
            <a:ext cx="9720360" cy="7101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-324000" y="-243000"/>
            <a:ext cx="9720360" cy="7344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>
            <a:lum contrast="48000"/>
          </a:blip>
          <a:stretch/>
        </p:blipFill>
        <p:spPr>
          <a:xfrm>
            <a:off x="-324000" y="-243000"/>
            <a:ext cx="9720360" cy="734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0"/>
          <a:stretch/>
        </p:blipFill>
        <p:spPr>
          <a:xfrm>
            <a:off x="-324000" y="-243000"/>
            <a:ext cx="9720360" cy="7344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1"/>
          <a:stretch/>
        </p:blipFill>
        <p:spPr>
          <a:xfrm>
            <a:off x="-324000" y="-316080"/>
            <a:ext cx="9720360" cy="7417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2"/>
          <a:stretch/>
        </p:blipFill>
        <p:spPr>
          <a:xfrm>
            <a:off x="-324000" y="-316080"/>
            <a:ext cx="9720360" cy="7417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3"/>
          <a:stretch/>
        </p:blipFill>
        <p:spPr>
          <a:xfrm>
            <a:off x="-324000" y="-316080"/>
            <a:ext cx="9720360" cy="741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11280" y="3933720"/>
            <a:ext cx="89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"/>
                <a:ea typeface="楷体"/>
              </a:rPr>
              <a:t>世界需要和平！</a:t>
            </a: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80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2:27:16Z</dcterms:created>
  <dc:creator>ASUS</dc:creator>
  <dc:description/>
  <dc:language>en-US</dc:language>
  <cp:lastModifiedBy>ASUS</cp:lastModifiedBy>
  <dcterms:modified xsi:type="dcterms:W3CDTF">2012-11-16T11:48:05Z</dcterms:modified>
  <cp:revision>27</cp:revision>
  <dc:subject/>
  <dc:title>幻灯片 1</dc:title>
</cp:coreProperties>
</file>