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D31-4EA4-4093-953A-F2EBB45A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07D7-73A4-4B97-81E3-F5224764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65E-12E3-498F-A4D3-9DA38BFB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1FE4-8B72-4CE6-982D-5B446E20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3970-97E3-4D14-B4BC-36E8062DE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D54A-7FD1-498B-ABF6-9282B553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8B69E-75D7-408B-9E45-335B93859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DF26-CA82-4225-8C60-1281026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31CE-FF82-47E7-BC72-B6145AE5C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06BC-EC6F-4630-938A-E8A0DC47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4A5-7E44-4F67-8638-095B5564A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85B-25C0-465E-9CF1-F4B1693A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0C0C-43C9-4373-8B71-7ED043B6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50754-D56F-4B6A-8C01-9DA4F39EC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F051-9EAD-4135-B60E-CA7E1C9D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C15B-DE8A-4DAB-8990-D9115C90A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B1733-19AF-439C-97AA-C7E8D44F8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18D19-C393-4D2A-AF51-5B51CDB8D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F8C03-6441-4042-AC34-B9D6340A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8D10C-6D92-4866-9456-79C2621F8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CAE75-86A5-4303-9F45-F15BF835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39096-4D52-4CD5-9C95-D44CBA2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589E-D2E3-4BB4-A1FB-AE33728C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7B26C-959E-4182-9A2D-DE194623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96F8C-7FA8-4E4D-BCDF-2CBFC653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7E5C1C-A72B-469D-B278-B77CF28F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E2FBA-3F29-4572-8CF5-00D4B61D5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1DC28-E704-4692-84DF-606996C0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2D790-A616-4A76-95C7-8110352E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321A-2672-486C-B93E-E1929A475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1B733-2E3E-45A8-B2A7-8B08CD10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82E72-E5D2-489C-A4F7-614D8588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ED986-1899-488A-9373-26CF5B2E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D1B4-E875-41FF-AE1C-5FE1E6F33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E7BD4-5AC8-43D6-A19A-4824D78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21CAB-B6FB-4885-83E0-4B84DF39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1DD18-CC35-438C-AADF-0ECC6E49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07982-7AF9-4EF8-9491-DA12F9C4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E3896-745D-4503-BD5A-CF575913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4155-0420-4A98-81EC-AFB48D98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81BA3-A4D5-45EE-9E9E-F00C8022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0EA47-50C0-45D5-B3A1-78ECF629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CA5D-35C4-4913-8FD9-E85550419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B49-AE96-43CE-A22C-9FFAAFFB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750-88E4-4310-B501-3BA4CBD3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0302-3661-43CF-945D-5ACBA214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4B7-6AF4-4EAE-9A84-F6CF7E52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5F7-803A-4323-9F47-978D4340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198A1-B511-4872-97E4-B5027B9F8398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6CD6-255C-4561-B39D-6F0AD9A8DC0B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80A-44DA-4D16-8133-EB8FEBE27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402B-1984-49DC-A6D8-137BB59B2F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17080" y="2133720"/>
            <a:ext cx="0" cy="18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16360" y="404640"/>
            <a:ext cx="360036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909"/>
                </a:solidFill>
                <a:latin typeface="Arial"/>
              </a:rPr>
              <a:t>蜀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909"/>
                </a:solidFill>
                <a:latin typeface="Arial"/>
              </a:rPr>
              <a:t>杜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184428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zh-CN" sz="5400" spc="-1" strike="noStrike">
                <a:solidFill>
                  <a:srgbClr val="333399"/>
                </a:solidFill>
                <a:latin typeface="Tahoma"/>
              </a:rPr>
              <a:t>一个（　　）的杜甫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6262560" y="2708280"/>
            <a:ext cx="2413080" cy="350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24000" y="0"/>
            <a:ext cx="6335640" cy="48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2322000"/>
            <a:ext cx="59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可怜的杜甫”。因为他才华横溢，却没有得到重用，英雄无用武之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一个有才气的杜甫”。因为他写了许多有名的诗作，被人们称为“诗圣”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一个历经磨难的杜甫”。杜甫生活在唐朝由盛转衰的时期，经历了安史之乱，亲历战争，了解了战争给人民带来的苦难，自己也在战争中东奔西走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一个忧国忧民的杜甫”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一个爱国的杜甫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不得志的杜甫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……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蜀   相</a:t>
            </a:r>
            <a:br>
              <a:rPr sz="40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杜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9912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丞相祠堂何处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寻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？锦官城外柏森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映阶碧草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自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春色，隔叶黄鹂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空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好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三顾频烦天下计，两朝开济老臣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出师未捷身先死，长使</a:t>
            </a:r>
            <a:r>
              <a:rPr b="0" lang="zh-CN" sz="36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英雄</a:t>
            </a:r>
            <a:r>
              <a:rPr b="1" lang="zh-CN" sz="3600" spc="-1" strike="noStrike" u="sng">
                <a:solidFill>
                  <a:srgbClr val="009999"/>
                </a:solidFill>
                <a:uFillTx/>
                <a:latin typeface="Arial"/>
              </a:rPr>
              <a:t>泪满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500720" y="59500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55197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寻”字。表达对诸葛亮的景仰之 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泪”字。表达作者的惋惜之情，为诸葛亮出师未捷而惋惜，为不得志的英雄而惋惜。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260280"/>
            <a:ext cx="273708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ffffff"/>
                </a:solidFill>
                <a:uFillTx/>
                <a:latin typeface="Arial"/>
              </a:rPr>
              <a:t>细细地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437000"/>
            <a:ext cx="280836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机盎然之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伤凄凉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乐景衬哀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4365720"/>
            <a:ext cx="3166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暗寓诗人自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壮志未酬之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深远影响感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2349360"/>
            <a:ext cx="2976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概括成就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寄托崇高敬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96000" y="3284640"/>
            <a:ext cx="3348000" cy="1351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歌颂丰功伟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惋惜壮志未酬（情感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叹功业未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2349360"/>
            <a:ext cx="259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专程来访之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景仰缅怀之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726360" y="1539720"/>
            <a:ext cx="1080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f3f"/>
                </a:solidFill>
                <a:latin typeface="Arial"/>
              </a:rPr>
              <a:t>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2120" y="4003560"/>
            <a:ext cx="1479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f3f"/>
                </a:solidFill>
                <a:latin typeface="Arial"/>
              </a:rPr>
              <a:t>自  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38000" y="3911760"/>
            <a:ext cx="1293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f3f"/>
                </a:solidFill>
                <a:latin typeface="Arial"/>
              </a:rPr>
              <a:t>英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29640" y="1535040"/>
            <a:ext cx="12934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f3f"/>
                </a:solidFill>
                <a:latin typeface="Arial"/>
              </a:rPr>
              <a:t>蜀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47640" y="4122720"/>
            <a:ext cx="78645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Tahoma"/>
              </a:rPr>
              <a:t>                                    </a:t>
            </a:r>
            <a:r>
              <a:rPr b="0" lang="zh-CN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倾听杜甫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杜甫，你是寻找宝藏的孩子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携着诗歌的巨臂在唐朝的风烟里寻找、迷失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记下了每一个黄昏、雨夜和徘徊的足音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当我找不到哪间茅屋可以盛放你高洁的灵魂时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我渴望，渴望能倾听你的心声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你这位读书破万卷的名门之后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何时走出书斋，裘马轻狂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何时登临绝顶，睥睨众山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又是在何处与李白同醉，与高适和唱 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一个高洁的灵魂怎堪朝扣富门、暮随马尘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老妇的告白，征人的陈述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路边的饿殍，朱门的歌舞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楷体_GB2312"/>
              </a:rPr>
              <a:t>又是如何搅乱你伤痕累累的心湖         </a:t>
            </a:r>
            <a:br>
              <a:rPr sz="2400"/>
            </a:br>
            <a:r>
              <a:rPr b="1" lang="zh-CN" sz="20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763640" y="189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你如何宽慰新安吏抓来的壮丁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如何慰藉新婚别夫的妇人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烽火连三月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如何传递可抵万金的家书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风雨飘摇中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迈着怎样的步履走进羌村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西郊草堂的床头屋漏是否修葺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千万间广厦为何只庇天下寒士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锦官城的蜀相为何让英雄洒泪如雨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安史之乱中你与妻儿有怎样的分合离聚 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我还想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贫穷何以成就伟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困窘怎样坚守内心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国家不幸为何诗家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满目疮痍的时代为何有你这样仁厚深沉的诗人……                    </a:t>
            </a:r>
            <a:br>
              <a:rPr sz="1800"/>
            </a:b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我想听你的心声然后跟着你往洛阳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往西南走、往大唐的土地走体会沉郁顿挫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体会忧国伤时或者泡在你的泪水里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寻找有厚度的人性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    </a:t>
            </a:r>
            <a:r>
              <a:rPr b="1" lang="zh-CN" sz="1800" spc="-1" strike="noStrike">
                <a:solidFill>
                  <a:srgbClr val="ff0000"/>
                </a:solidFill>
                <a:latin typeface="Tahoma"/>
                <a:ea typeface="楷体_GB2312"/>
              </a:rPr>
              <a:t>有张力的精神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01:32:42Z</dcterms:created>
  <dc:creator>Administrator</dc:creator>
  <dc:description/>
  <cp:keywords/>
  <dc:language>en-US</dc:language>
  <cp:lastModifiedBy>Lenovo User</cp:lastModifiedBy>
  <dcterms:modified xsi:type="dcterms:W3CDTF">2012-01-01T04:40:56Z</dcterms:modified>
  <cp:revision>4</cp:revision>
  <dc:subject/>
  <dc:title>    一个（　　）的杜甫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