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png" ContentType="image/png"/>
  <Override PartName="/ppt/media/image15.gif" ContentType="image/gif"/>
  <Override PartName="/ppt/media/image14.jpeg" ContentType="image/jpeg"/>
  <Override PartName="/ppt/media/image2.jpeg" ContentType="image/jpeg"/>
  <Override PartName="/ppt/media/image3.png" ContentType="image/png"/>
  <Override PartName="/ppt/media/image11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8.jpeg" ContentType="image/jpeg"/>
  <Override PartName="/ppt/media/image5.png" ContentType="image/png"/>
  <Override PartName="/ppt/media/image4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5F76-C622-47EC-AE5F-51F9F70B0A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C3F1-F8C8-466D-BE07-4551EF87CD80}" type="slidenum">
              <a:rPr b="1" i="1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12B9-9666-45F1-A7DC-E811AD4D0D9C}" type="slidenum">
              <a:rPr b="1" i="1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02EF-C785-45EE-98D0-FB63931EBF52}" type="slidenum">
              <a:rPr b="1" i="1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D85-1315-4608-87FC-762ADA1B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96C-D421-4B89-ABE7-BE0900F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C84-6668-43DB-9CE7-BF865F5E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8C9-352F-4D45-B2E5-C98818F7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3DEE-FA0D-4FEE-9C3E-373C0A2F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98A8-1B8A-4E86-8124-CBA5DA8F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0A7D-6DEA-46B9-8AD1-4DCC0AB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88E-5A54-4BCA-842B-BD123960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0E07-5AFA-437F-95B5-D201CC01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DA5-EA2C-449A-A703-DCA9DA7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D7D2-EC2B-43DC-AA25-1C41B34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ACB-8E1A-4042-BB44-C39B28B4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6EE9-E3CD-453F-B199-D9EBB78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599A-E599-4054-B254-2FF98FA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BD5-5AED-44EC-9D22-22D3B12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D7E-6F6C-44B5-9287-E332B896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B8C8-5187-4D55-978C-5E7313DB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E25-AFE0-4208-88DF-7E38035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FF8-5F5D-418C-9364-086F06D6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4F6-4807-45C1-B64A-B1372AF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CC6-68A1-4098-856F-333984B4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D5E-9D93-4CB7-8F61-022206B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FF4-C8C5-4C51-9226-EDE92D5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639-4636-4417-8ED2-CBBAA4CC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BB05-74FB-4840-9839-54D36C6D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644B-E400-4941-8B9A-EE5C5CF3B3B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4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050920" y="692280"/>
            <a:ext cx="53992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ca88"/>
                </a:solidFill>
                <a:latin typeface="宋体"/>
              </a:rPr>
              <a:t>第三章  金属及其化合物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ca88"/>
              </a:solidFill>
              <a:latin typeface="宋体"/>
              <a:ea typeface="宋体"/>
            </a:endParaRPr>
          </a:p>
        </p:txBody>
      </p:sp>
      <p:pic>
        <p:nvPicPr>
          <p:cNvPr id="90" name="WordArt 5" descr=""/>
          <p:cNvPicPr/>
          <p:nvPr/>
        </p:nvPicPr>
        <p:blipFill>
          <a:blip r:embed="rId1"/>
          <a:stretch/>
        </p:blipFill>
        <p:spPr>
          <a:xfrm>
            <a:off x="2835360" y="4145040"/>
            <a:ext cx="3468600" cy="914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9"/>
          <p:cNvGrpSpPr/>
          <p:nvPr/>
        </p:nvGrpSpPr>
        <p:grpSpPr>
          <a:xfrm>
            <a:off x="179280" y="115920"/>
            <a:ext cx="8713800" cy="6586560"/>
            <a:chOff x="179280" y="115920"/>
            <a:chExt cx="8713800" cy="6586560"/>
          </a:xfrm>
        </p:grpSpPr>
        <p:pic>
          <p:nvPicPr>
            <p:cNvPr id="92" name="Picture 14" descr="2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8101080" y="115920"/>
              <a:ext cx="78084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 flipH="1">
              <a:off x="276120" y="155520"/>
              <a:ext cx="76680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6" descr="2"/>
            <p:cNvPicPr/>
            <p:nvPr/>
          </p:nvPicPr>
          <p:blipFill>
            <a:blip r:embed="rId6"/>
            <a:stretch/>
          </p:blipFill>
          <p:spPr>
            <a:xfrm flipH="1">
              <a:off x="179280" y="5950080"/>
              <a:ext cx="76680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7" descr="2"/>
            <p:cNvPicPr/>
            <p:nvPr/>
          </p:nvPicPr>
          <p:blipFill>
            <a:blip r:embed="rId7"/>
            <a:stretch/>
          </p:blipFill>
          <p:spPr>
            <a:xfrm>
              <a:off x="8112240" y="5915160"/>
              <a:ext cx="780840" cy="75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2280" y="838080"/>
            <a:ext cx="8839440" cy="518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Arial"/>
                <a:ea typeface="华文隶书"/>
              </a:rPr>
              <a:t>根据现象思考：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</a:t>
            </a:r>
            <a:r>
              <a:rPr b="1" i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1</a:t>
            </a: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）钠投入水中是漂浮还是下沉？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</a:t>
            </a:r>
            <a:r>
              <a:rPr b="1" i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2</a:t>
            </a: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）投入水中后钠块形状变得怎样？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</a:t>
            </a:r>
            <a:r>
              <a:rPr b="1" i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3</a:t>
            </a: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）钠在水中的运动情况如何？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</a:t>
            </a:r>
            <a:r>
              <a:rPr b="1" i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4</a:t>
            </a: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）能听到声音吗？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（</a:t>
            </a:r>
            <a:r>
              <a:rPr b="1" i="1" lang="en-US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i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）加过酚酞的水实验前后颜色如何变化？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193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钠与水反应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的实验现象及分析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828800"/>
          <a:ext cx="8381880" cy="4052880"/>
        </p:xfrm>
        <a:graphic>
          <a:graphicData uri="http://schemas.openxmlformats.org/drawingml/2006/table">
            <a:tbl>
              <a:tblPr/>
              <a:tblGrid>
                <a:gridCol w="3048120"/>
                <a:gridCol w="53337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主要实验现象</a:t>
                      </a:r>
                      <a:endParaRPr b="1" i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对实验现象的分析</a:t>
                      </a:r>
                      <a:endParaRPr b="1" i="1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27"/>
          <p:cNvSpPr/>
          <p:nvPr/>
        </p:nvSpPr>
        <p:spPr>
          <a:xfrm>
            <a:off x="865080" y="25034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浮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在水面上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3592440" y="2541600"/>
            <a:ext cx="23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密度比水小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493560" y="3144960"/>
            <a:ext cx="34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熔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化成光亮的小球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3541680" y="3197160"/>
            <a:ext cx="43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反应放热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，且钠的熔点低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493560" y="3875040"/>
            <a:ext cx="22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迅速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游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3517920" y="3905280"/>
            <a:ext cx="52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反应产生气体推动小球迅速游动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493560" y="4560840"/>
            <a:ext cx="23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嘶嘶作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响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3535200" y="461340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反应剧烈，生成气体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493560" y="52466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溶液呈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红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色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3521160" y="529920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反应生成碱，遇酚酞变红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508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380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与水反应生成的气体可能是什么？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158720" y="1447920"/>
            <a:ext cx="190296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i="1" lang="en-US" sz="4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1" i="1" lang="en-US" sz="4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1" i="1" lang="en-US" sz="4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1" i="1" lang="zh-CN" sz="4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i="1" lang="en-US" sz="4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i="1" lang="en-US" sz="4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57600" y="1600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523880" y="16002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从反应物元素角度分析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352880" y="36576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从元素化合价的角度分析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584600" y="4267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钠的化合价升高、只可能氢的化合价降低。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498320" y="4952880"/>
            <a:ext cx="61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【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实验探究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4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】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如何检验生成的气体是氢气呢？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876320" y="56386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思路：先收集再检验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2" name="Picture 17" descr="NA01441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457200"/>
            <a:ext cx="86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liqion7188200711111451311850"/>
          <p:cNvPicPr/>
          <p:nvPr/>
        </p:nvPicPr>
        <p:blipFill>
          <a:blip r:embed="rId1"/>
          <a:stretch/>
        </p:blipFill>
        <p:spPr>
          <a:xfrm>
            <a:off x="1371600" y="3962520"/>
            <a:ext cx="6477120" cy="195408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0"/>
          <p:cNvSpPr txBox="1"/>
          <p:nvPr/>
        </p:nvSpPr>
        <p:spPr>
          <a:xfrm>
            <a:off x="0" y="76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参考方案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实验现象：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Arial"/>
              </a:rPr>
              <a:t>钠与水剧烈反应产生的气体使瘪的塑料瓶鼓起来，当气体靠近酒精灯火焰，发出</a:t>
            </a:r>
            <a:r>
              <a:rPr b="1" i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爆鸣声</a:t>
            </a:r>
            <a:r>
              <a:rPr b="1" i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0" y="1752480"/>
            <a:ext cx="9144000" cy="14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实验结论：</a:t>
            </a:r>
            <a:r>
              <a:rPr b="1" i="1" lang="zh-CN" sz="3200" spc="-1" strike="noStrike">
                <a:solidFill>
                  <a:srgbClr val="007a77"/>
                </a:solidFill>
                <a:latin typeface="Arial"/>
              </a:rPr>
              <a:t>生成的气体是</a:t>
            </a:r>
            <a:r>
              <a:rPr b="1" i="1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15920" y="944640"/>
            <a:ext cx="1847880" cy="6094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73520" y="944640"/>
            <a:ext cx="514188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187960" y="91440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华文细黑"/>
                <a:ea typeface="华文细黑"/>
              </a:rPr>
              <a:t>讨    论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46240" y="1889280"/>
            <a:ext cx="1471320" cy="1056960"/>
            <a:chOff x="246240" y="1889280"/>
            <a:chExt cx="1471320" cy="1056960"/>
          </a:xfrm>
        </p:grpSpPr>
        <p:sp>
          <p:nvSpPr>
            <p:cNvPr id="201" name="Rectangle 6"/>
            <p:cNvSpPr/>
            <p:nvPr/>
          </p:nvSpPr>
          <p:spPr>
            <a:xfrm>
              <a:off x="246240" y="1889280"/>
              <a:ext cx="1471320" cy="63792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260280" y="1908000"/>
              <a:ext cx="1315800" cy="10382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3400" spc="-1" strike="noStrike">
                  <a:solidFill>
                    <a:srgbClr val="009900"/>
                  </a:solidFill>
                  <a:latin typeface="Times New Roman"/>
                  <a:ea typeface="华文细黑"/>
                </a:rPr>
                <a:t>浮</a:t>
              </a:r>
              <a:endParaRPr b="1" i="1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3" name="AutoShape 8"/>
          <p:cNvSpPr/>
          <p:nvPr/>
        </p:nvSpPr>
        <p:spPr>
          <a:xfrm>
            <a:off x="2151000" y="2152800"/>
            <a:ext cx="1067040" cy="228600"/>
          </a:xfrm>
          <a:prstGeom prst="pie">
            <a:avLst/>
          </a:prstGeom>
          <a:solidFill>
            <a:srgbClr val="ffcc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151000" y="2990880"/>
            <a:ext cx="1067040" cy="228600"/>
          </a:xfrm>
          <a:prstGeom prst="pie">
            <a:avLst/>
          </a:prstGeom>
          <a:solidFill>
            <a:srgbClr val="ffcc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2151000" y="3905280"/>
            <a:ext cx="1067040" cy="228600"/>
          </a:xfrm>
          <a:prstGeom prst="pie">
            <a:avLst/>
          </a:prstGeom>
          <a:solidFill>
            <a:srgbClr val="ffcc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151000" y="4819680"/>
            <a:ext cx="1067040" cy="228600"/>
          </a:xfrm>
          <a:prstGeom prst="pie">
            <a:avLst/>
          </a:prstGeom>
          <a:solidFill>
            <a:srgbClr val="ffcc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2151000" y="5622840"/>
            <a:ext cx="1067040" cy="228600"/>
          </a:xfrm>
          <a:prstGeom prst="pie">
            <a:avLst/>
          </a:prstGeom>
          <a:solidFill>
            <a:srgbClr val="ffcc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60280" y="8859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华文细黑"/>
                <a:ea typeface="华文细黑"/>
              </a:rPr>
              <a:t>现   象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228600" y="2819520"/>
            <a:ext cx="1471680" cy="1042920"/>
            <a:chOff x="228600" y="2819520"/>
            <a:chExt cx="1471680" cy="1042920"/>
          </a:xfrm>
        </p:grpSpPr>
        <p:sp>
          <p:nvSpPr>
            <p:cNvPr id="210" name="Rectangle 15"/>
            <p:cNvSpPr/>
            <p:nvPr/>
          </p:nvSpPr>
          <p:spPr>
            <a:xfrm>
              <a:off x="228600" y="2819520"/>
              <a:ext cx="1471680" cy="6094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Text Box 16"/>
            <p:cNvSpPr/>
            <p:nvPr/>
          </p:nvSpPr>
          <p:spPr>
            <a:xfrm>
              <a:off x="243000" y="2824200"/>
              <a:ext cx="1316160" cy="10382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3400" spc="-1" strike="noStrike">
                  <a:solidFill>
                    <a:srgbClr val="009900"/>
                  </a:solidFill>
                  <a:latin typeface="Times New Roman"/>
                  <a:ea typeface="华文细黑"/>
                </a:rPr>
                <a:t>熔</a:t>
              </a:r>
              <a:endParaRPr b="1" i="1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2" name="Group 17"/>
          <p:cNvGrpSpPr/>
          <p:nvPr/>
        </p:nvGrpSpPr>
        <p:grpSpPr>
          <a:xfrm>
            <a:off x="246240" y="5479920"/>
            <a:ext cx="1471320" cy="1052280"/>
            <a:chOff x="246240" y="5479920"/>
            <a:chExt cx="1471320" cy="1052280"/>
          </a:xfrm>
        </p:grpSpPr>
        <p:sp>
          <p:nvSpPr>
            <p:cNvPr id="213" name="Rectangle 18"/>
            <p:cNvSpPr/>
            <p:nvPr/>
          </p:nvSpPr>
          <p:spPr>
            <a:xfrm>
              <a:off x="246240" y="5479920"/>
              <a:ext cx="1471320" cy="6476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Text Box 19"/>
            <p:cNvSpPr/>
            <p:nvPr/>
          </p:nvSpPr>
          <p:spPr>
            <a:xfrm>
              <a:off x="260280" y="5493960"/>
              <a:ext cx="1315800" cy="10382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3400" spc="-1" strike="noStrike">
                  <a:solidFill>
                    <a:srgbClr val="009900"/>
                  </a:solidFill>
                  <a:latin typeface="Times New Roman"/>
                  <a:ea typeface="华文细黑"/>
                </a:rPr>
                <a:t>红</a:t>
              </a:r>
              <a:endParaRPr b="1" i="1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5" name="Group 20"/>
          <p:cNvGrpSpPr/>
          <p:nvPr/>
        </p:nvGrpSpPr>
        <p:grpSpPr>
          <a:xfrm>
            <a:off x="246240" y="4616280"/>
            <a:ext cx="1471320" cy="1052640"/>
            <a:chOff x="246240" y="4616280"/>
            <a:chExt cx="1471320" cy="1052640"/>
          </a:xfrm>
        </p:grpSpPr>
        <p:sp>
          <p:nvSpPr>
            <p:cNvPr id="216" name="Rectangle 21"/>
            <p:cNvSpPr/>
            <p:nvPr/>
          </p:nvSpPr>
          <p:spPr>
            <a:xfrm>
              <a:off x="246240" y="4616280"/>
              <a:ext cx="1471320" cy="6476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Text Box 22"/>
            <p:cNvSpPr/>
            <p:nvPr/>
          </p:nvSpPr>
          <p:spPr>
            <a:xfrm>
              <a:off x="260280" y="4630680"/>
              <a:ext cx="1315800" cy="10382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3400" spc="-1" strike="noStrike">
                  <a:solidFill>
                    <a:srgbClr val="009900"/>
                  </a:solidFill>
                  <a:latin typeface="Times New Roman"/>
                  <a:ea typeface="华文细黑"/>
                </a:rPr>
                <a:t>响</a:t>
              </a:r>
              <a:endParaRPr b="1" i="1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8" name="Group 23"/>
          <p:cNvGrpSpPr/>
          <p:nvPr/>
        </p:nvGrpSpPr>
        <p:grpSpPr>
          <a:xfrm>
            <a:off x="228600" y="3733920"/>
            <a:ext cx="1471680" cy="1052640"/>
            <a:chOff x="228600" y="3733920"/>
            <a:chExt cx="1471680" cy="1052640"/>
          </a:xfrm>
        </p:grpSpPr>
        <p:sp>
          <p:nvSpPr>
            <p:cNvPr id="219" name="Rectangle 24"/>
            <p:cNvSpPr/>
            <p:nvPr/>
          </p:nvSpPr>
          <p:spPr>
            <a:xfrm>
              <a:off x="228600" y="3733920"/>
              <a:ext cx="1471680" cy="6192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Text Box 25"/>
            <p:cNvSpPr/>
            <p:nvPr/>
          </p:nvSpPr>
          <p:spPr>
            <a:xfrm>
              <a:off x="243000" y="3748320"/>
              <a:ext cx="1316160" cy="10382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3400" spc="-1" strike="noStrike">
                  <a:solidFill>
                    <a:srgbClr val="009900"/>
                  </a:solidFill>
                  <a:latin typeface="Times New Roman"/>
                  <a:ea typeface="华文细黑"/>
                </a:rPr>
                <a:t>游</a:t>
              </a:r>
              <a:endParaRPr b="1" i="1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1" name="Rectangle 26"/>
          <p:cNvSpPr/>
          <p:nvPr/>
        </p:nvSpPr>
        <p:spPr>
          <a:xfrm>
            <a:off x="3760920" y="1865160"/>
            <a:ext cx="51418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细黑"/>
                <a:ea typeface="华文细黑"/>
              </a:rPr>
              <a:t>小于水的密度，</a:t>
            </a:r>
            <a:r>
              <a:rPr b="1" lang="en-US" sz="3200" spc="-1" strike="noStrike">
                <a:solidFill>
                  <a:srgbClr val="0000cc"/>
                </a:solidFill>
                <a:latin typeface="华文细黑"/>
                <a:ea typeface="华文细黑"/>
              </a:rPr>
              <a:t>0.97g/cm</a:t>
            </a:r>
            <a:r>
              <a:rPr b="1" lang="en-US" sz="3200" spc="-1" strike="noStrike" baseline="30000">
                <a:solidFill>
                  <a:srgbClr val="0000cc"/>
                </a:solidFill>
                <a:latin typeface="华文细黑"/>
                <a:ea typeface="华文细黑"/>
              </a:rPr>
              <a:t>3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3759120" y="2771640"/>
            <a:ext cx="51418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细黑"/>
                <a:ea typeface="华文细黑"/>
              </a:rPr>
              <a:t>反应放热 ，熔点低，</a:t>
            </a:r>
            <a:r>
              <a:rPr b="1" lang="en-US" sz="3200" spc="-1" strike="noStrike">
                <a:solidFill>
                  <a:srgbClr val="0000cc"/>
                </a:solidFill>
                <a:latin typeface="华文细黑"/>
                <a:ea typeface="华文细黑"/>
              </a:rPr>
              <a:t>97.81℃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749760" y="3657600"/>
            <a:ext cx="516564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有气体产生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  <a:ea typeface="华文细黑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检验气体有爆鸣声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）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3759120" y="4600440"/>
            <a:ext cx="51418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有气体产生且剧烈反应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3773520" y="5479920"/>
            <a:ext cx="51418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细黑"/>
                <a:ea typeface="华文细黑"/>
              </a:rPr>
              <a:t>有碱生成，</a:t>
            </a:r>
            <a:r>
              <a:rPr b="1" lang="en-US" sz="3200" spc="-1" strike="noStrike">
                <a:solidFill>
                  <a:srgbClr val="0000cc"/>
                </a:solidFill>
                <a:latin typeface="华文细黑"/>
                <a:ea typeface="华文细黑"/>
              </a:rPr>
              <a:t>NaOH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80880" y="228600"/>
            <a:ext cx="83822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细黑"/>
                <a:ea typeface="华文细黑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华文细黑"/>
                <a:ea typeface="华文细黑"/>
              </a:rPr>
              <a:t>实     验     现     象     讨     论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657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知识扩展：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Na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与酸的反应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V="1">
            <a:off x="7543800" y="198072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838080" y="1828800"/>
            <a:ext cx="65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Na + 2H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O == 2NaOH + H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2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3360" y="7621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Na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的反应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85800" y="4876920"/>
            <a:ext cx="6477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Na + 2HCl == 2NaCl + H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2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 flipV="1">
            <a:off x="7086600" y="5029200"/>
            <a:ext cx="0" cy="3808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971800" y="5715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水更剧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)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1523880" y="4876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       +11  2  8  1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90920" y="4876920"/>
            <a:ext cx="914400" cy="685800"/>
          </a:xfrm>
          <a:prstGeom prst="ellipse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Arc 5"/>
          <p:cNvSpPr/>
          <p:nvPr/>
        </p:nvSpPr>
        <p:spPr>
          <a:xfrm>
            <a:off x="3581280" y="4648320"/>
            <a:ext cx="146160" cy="23652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Arc 6"/>
          <p:cNvSpPr/>
          <p:nvPr/>
        </p:nvSpPr>
        <p:spPr>
          <a:xfrm>
            <a:off x="3962520" y="4648320"/>
            <a:ext cx="150840" cy="23652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Arc 7"/>
          <p:cNvSpPr/>
          <p:nvPr/>
        </p:nvSpPr>
        <p:spPr>
          <a:xfrm>
            <a:off x="4419720" y="4572000"/>
            <a:ext cx="150840" cy="32076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Arc 8"/>
          <p:cNvSpPr/>
          <p:nvPr/>
        </p:nvSpPr>
        <p:spPr>
          <a:xfrm flipV="1">
            <a:off x="4343400" y="5334120"/>
            <a:ext cx="228600" cy="32832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Arc 9"/>
          <p:cNvSpPr/>
          <p:nvPr/>
        </p:nvSpPr>
        <p:spPr>
          <a:xfrm flipV="1">
            <a:off x="3886200" y="5334120"/>
            <a:ext cx="228600" cy="33480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Arc 10"/>
          <p:cNvSpPr/>
          <p:nvPr/>
        </p:nvSpPr>
        <p:spPr>
          <a:xfrm flipV="1">
            <a:off x="3505320" y="5410080"/>
            <a:ext cx="228600" cy="21600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57200" y="3657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上述反应中，钠的化合价均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价变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价，这是因为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380880" y="56386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容易失去，所以，钠具有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还原性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是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还原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257800" y="4952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外层只有一个电子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838080" y="5335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细黑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细黑"/>
              </a:rPr>
              <a:t>上述反应中钠元素化合价如何变化？钠在反应中体现什么性质？</a:t>
            </a:r>
            <a:r>
              <a:rPr b="1" i="1" lang="zh-CN" sz="2400" spc="-1" strike="noStrike">
                <a:solidFill>
                  <a:srgbClr val="007a77"/>
                </a:solidFill>
                <a:latin typeface="Arial"/>
              </a:rPr>
              <a:t>你能将钠与水的反应，运用双线桥法标出电子转移的方向和数目，并指出氧化剂和还原剂吗？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0" y="0"/>
            <a:ext cx="3567240" cy="703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细黑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细黑"/>
              </a:rPr>
              <a:t>问题探究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细黑"/>
              </a:rPr>
              <a:t>1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细黑"/>
              </a:rPr>
              <a:t>】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380880" y="2438280"/>
            <a:ext cx="8229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例：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Na + 2H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O == 2NaOH + H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2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362320" y="2209680"/>
            <a:ext cx="3504600" cy="152640"/>
            <a:chOff x="2362320" y="2209680"/>
            <a:chExt cx="3504600" cy="152640"/>
          </a:xfrm>
        </p:grpSpPr>
        <p:sp>
          <p:nvSpPr>
            <p:cNvPr id="249" name="Line 18"/>
            <p:cNvSpPr/>
            <p:nvPr/>
          </p:nvSpPr>
          <p:spPr>
            <a:xfrm flipV="1">
              <a:off x="236232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362320" y="2209680"/>
              <a:ext cx="35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586692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2" name="Group 21"/>
          <p:cNvGrpSpPr/>
          <p:nvPr/>
        </p:nvGrpSpPr>
        <p:grpSpPr>
          <a:xfrm>
            <a:off x="3809880" y="3047760"/>
            <a:ext cx="3962160" cy="152640"/>
            <a:chOff x="3809880" y="3047760"/>
            <a:chExt cx="3962160" cy="152640"/>
          </a:xfrm>
        </p:grpSpPr>
        <p:sp>
          <p:nvSpPr>
            <p:cNvPr id="253" name="Line 22"/>
            <p:cNvSpPr/>
            <p:nvPr/>
          </p:nvSpPr>
          <p:spPr>
            <a:xfrm>
              <a:off x="3809880" y="3069720"/>
              <a:ext cx="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3809880" y="320040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 flipV="1">
              <a:off x="7772040" y="30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6" name="Text Box 25"/>
          <p:cNvSpPr/>
          <p:nvPr/>
        </p:nvSpPr>
        <p:spPr>
          <a:xfrm>
            <a:off x="3352680" y="1905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失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×e</a:t>
            </a:r>
            <a:r>
              <a:rPr b="1" lang="en-US" sz="1800" spc="-1" strike="noStrike" baseline="30000">
                <a:solidFill>
                  <a:srgbClr val="007a77"/>
                </a:solidFill>
                <a:latin typeface="Arial"/>
              </a:rPr>
              <a:t>-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 flipV="1" rot="10800000">
            <a:off x="5257440" y="3199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得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2×e</a:t>
            </a:r>
            <a:r>
              <a:rPr b="1" lang="en-US" sz="1800" spc="-1" strike="noStrike" baseline="30000">
                <a:solidFill>
                  <a:srgbClr val="007a77"/>
                </a:solidFill>
                <a:latin typeface="Arial"/>
              </a:rPr>
              <a:t>-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2096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50532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754380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56386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19810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还原剂            氧化剂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 flipV="1">
            <a:off x="8229600" y="266652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矩形 31"/>
          <p:cNvSpPr/>
          <p:nvPr/>
        </p:nvSpPr>
        <p:spPr>
          <a:xfrm>
            <a:off x="685800" y="621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小结：反应的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实质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是钠和水电离出来的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H</a:t>
            </a:r>
            <a:r>
              <a:rPr b="1" i="1" lang="en-US" sz="2400" spc="-1" strike="noStrike" u="sng" baseline="30000">
                <a:solidFill>
                  <a:srgbClr val="ff3300"/>
                </a:solidFill>
                <a:uFillTx/>
                <a:latin typeface="Times New Roman"/>
                <a:ea typeface="黑体"/>
              </a:rPr>
              <a:t>+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发生反应。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95280" y="1219320"/>
            <a:ext cx="76964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Arial"/>
              </a:rPr>
              <a:t>知识扩展：</a:t>
            </a:r>
            <a:r>
              <a:rPr b="1" i="1" lang="en-US" sz="2800" spc="-1" strike="noStrike">
                <a:solidFill>
                  <a:srgbClr val="007a77"/>
                </a:solidFill>
                <a:latin typeface="Arial"/>
              </a:rPr>
              <a:t>Na</a:t>
            </a:r>
            <a:r>
              <a:rPr b="1" i="1" lang="zh-CN" sz="2800" spc="-1" strike="noStrike">
                <a:solidFill>
                  <a:srgbClr val="007a77"/>
                </a:solidFill>
                <a:latin typeface="Arial"/>
              </a:rPr>
              <a:t>与酸的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2Na + 2HCl = 2NaCl + H</a:t>
            </a:r>
            <a:r>
              <a:rPr b="1" i="1" lang="en-US" sz="3200" spc="-1" strike="noStrike" baseline="-15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↑</a:t>
            </a:r>
            <a:r>
              <a:rPr b="1" i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43828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钠与酸溶液反应的实质是</a:t>
            </a:r>
            <a:r>
              <a:rPr b="1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与酸电离出的</a:t>
            </a:r>
            <a:r>
              <a:rPr b="1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85800" y="3581280"/>
            <a:ext cx="8458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i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氢离子浓度越大反应越快，</a:t>
            </a:r>
            <a:r>
              <a:rPr b="1" i="1" lang="zh-CN" sz="2800" spc="-1" strike="noStrike" u="sng">
                <a:solidFill>
                  <a:srgbClr val="007a77"/>
                </a:solidFill>
                <a:uFillTx/>
                <a:latin typeface="黑体"/>
                <a:ea typeface="黑体"/>
              </a:rPr>
              <a:t>故在酸中要比在水中反应剧烈</a:t>
            </a:r>
            <a:r>
              <a:rPr b="1" i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75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33520" y="12193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钠为什么要保存在煤油中？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80880" y="3886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若金属钠着火如何灭火？能不能用水？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09480" y="380880"/>
            <a:ext cx="3429000" cy="703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细黑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华文细黑"/>
              </a:rPr>
              <a:t>问题探究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细黑"/>
              </a:rPr>
              <a:t>2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华文细黑"/>
              </a:rPr>
              <a:t>】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90720" y="2133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因为钠易与水或者空气中的氧气反应，而钠不与煤油反应，且钠的密度大于煤油的密度，所以保存在煤油中。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838080" y="47242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金属钠着火一般用砂土盖灭，不能用水灭，因为水与钠反应放热且生成易燃物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火烧得更旺。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钠的性质非常活泼，所以钠在自然界中只能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化合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存在，在海水中储藏极为丰富。主要以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氯化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碳酸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硫酸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形式存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4" name="Picture 4" descr="u=3633837218,2334343460&amp;gp=0"/>
          <p:cNvPicPr/>
          <p:nvPr/>
        </p:nvPicPr>
        <p:blipFill>
          <a:blip r:embed="rId1"/>
          <a:stretch/>
        </p:blipFill>
        <p:spPr>
          <a:xfrm>
            <a:off x="3218040" y="3355920"/>
            <a:ext cx="1930320" cy="2233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6911"/>
          <p:cNvPicPr/>
          <p:nvPr/>
        </p:nvPicPr>
        <p:blipFill>
          <a:blip r:embed="rId2"/>
          <a:stretch/>
        </p:blipFill>
        <p:spPr>
          <a:xfrm>
            <a:off x="5504040" y="3284640"/>
            <a:ext cx="3171600" cy="2181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19"/>
          <p:cNvPicPr/>
          <p:nvPr/>
        </p:nvPicPr>
        <p:blipFill>
          <a:blip r:embed="rId3"/>
          <a:stretch/>
        </p:blipFill>
        <p:spPr>
          <a:xfrm>
            <a:off x="250920" y="3429000"/>
            <a:ext cx="2735280" cy="21099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363528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</a:rPr>
              <a:t>碳酸钠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658800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</a:rPr>
              <a:t>硫酸钠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111600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Garamond"/>
              </a:rPr>
              <a:t>氯化钠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380880" y="38088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三、钠在自然界的存在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识体系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3520" y="1447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Times New Roman"/>
              </a:rPr>
              <a:t>一、物理性质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2057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Times New Roman"/>
              </a:rPr>
              <a:t>二、化学性质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304920"/>
            <a:ext cx="77724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3399"/>
                </a:solidFill>
                <a:latin typeface="Arial"/>
              </a:rPr>
              <a:t>金属钠的性质及应用</a:t>
            </a:r>
            <a:endParaRPr b="1" i="1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600200" y="2590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007a77"/>
                </a:solidFill>
                <a:latin typeface="Arial"/>
              </a:rPr>
              <a:t>、与非金属反应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600200" y="3048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、与水反应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295280" y="3581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Arial"/>
              </a:rPr>
              <a:t>３、与盐溶液的反应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3962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三、 存在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0492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99"/>
                </a:solidFill>
                <a:latin typeface="Arial"/>
              </a:rPr>
              <a:t>四、制备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286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99"/>
                </a:solidFill>
                <a:latin typeface="Arial"/>
              </a:rPr>
              <a:t>五、用途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五角星 13"/>
          <p:cNvSpPr/>
          <p:nvPr/>
        </p:nvSpPr>
        <p:spPr>
          <a:xfrm>
            <a:off x="380880" y="2819520"/>
            <a:ext cx="914400" cy="914400"/>
          </a:xfrm>
          <a:prstGeom prst="pie">
            <a:avLst/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四、钠的制备：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609480" y="2438280"/>
            <a:ext cx="662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NaCl           2Na  + Cl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124080" y="2438280"/>
            <a:ext cx="5382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Times New Roman"/>
              </a:rPr>
              <a:t>通电</a:t>
            </a:r>
            <a:endParaRPr b="1" i="1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787920" y="2716200"/>
            <a:ext cx="3650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5" name="Group 11"/>
          <p:cNvGrpSpPr/>
          <p:nvPr/>
        </p:nvGrpSpPr>
        <p:grpSpPr>
          <a:xfrm>
            <a:off x="3048120" y="2743200"/>
            <a:ext cx="685800" cy="54000"/>
            <a:chOff x="3048120" y="2743200"/>
            <a:chExt cx="685800" cy="54000"/>
          </a:xfrm>
        </p:grpSpPr>
        <p:sp>
          <p:nvSpPr>
            <p:cNvPr id="286" name="Line 9"/>
            <p:cNvSpPr/>
            <p:nvPr/>
          </p:nvSpPr>
          <p:spPr>
            <a:xfrm>
              <a:off x="3048120" y="2743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Line 10"/>
            <p:cNvSpPr/>
            <p:nvPr/>
          </p:nvSpPr>
          <p:spPr>
            <a:xfrm>
              <a:off x="3048120" y="2797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8" name="Line 12"/>
          <p:cNvSpPr/>
          <p:nvPr/>
        </p:nvSpPr>
        <p:spPr>
          <a:xfrm flipV="1">
            <a:off x="5486400" y="2590920"/>
            <a:ext cx="0" cy="3808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3733920" y="9144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电解熔融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NaCl</a:t>
            </a:r>
            <a:endParaRPr b="1" i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838080" cy="6172200"/>
            <a:chOff x="0" y="0"/>
            <a:chExt cx="838080" cy="6172200"/>
          </a:xfrm>
        </p:grpSpPr>
        <p:sp>
          <p:nvSpPr>
            <p:cNvPr id="291" name="Rectangle 3"/>
            <p:cNvSpPr/>
            <p:nvPr/>
          </p:nvSpPr>
          <p:spPr>
            <a:xfrm>
              <a:off x="0" y="0"/>
              <a:ext cx="838080" cy="6172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2" name="Text Box 4"/>
            <p:cNvSpPr/>
            <p:nvPr/>
          </p:nvSpPr>
          <p:spPr>
            <a:xfrm>
              <a:off x="94320" y="0"/>
              <a:ext cx="72900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五、钠     的     用      途</a:t>
              </a:r>
              <a:endParaRPr b="1" i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3" name="Group 5"/>
          <p:cNvGrpSpPr/>
          <p:nvPr/>
        </p:nvGrpSpPr>
        <p:grpSpPr>
          <a:xfrm>
            <a:off x="914400" y="533520"/>
            <a:ext cx="3123720" cy="5933520"/>
            <a:chOff x="914400" y="533520"/>
            <a:chExt cx="3123720" cy="5933520"/>
          </a:xfrm>
        </p:grpSpPr>
        <p:sp>
          <p:nvSpPr>
            <p:cNvPr id="294" name="Line 6"/>
            <p:cNvSpPr/>
            <p:nvPr/>
          </p:nvSpPr>
          <p:spPr>
            <a:xfrm>
              <a:off x="914400" y="3464640"/>
              <a:ext cx="371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1285920" y="819000"/>
              <a:ext cx="0" cy="5648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1285920" y="819000"/>
              <a:ext cx="371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7" name="Rectangle 9"/>
            <p:cNvSpPr/>
            <p:nvPr/>
          </p:nvSpPr>
          <p:spPr>
            <a:xfrm>
              <a:off x="1657800" y="533520"/>
              <a:ext cx="2231280" cy="5716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2030040" y="533520"/>
              <a:ext cx="200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制</a:t>
              </a:r>
              <a:r>
                <a:rPr b="1" lang="en-US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Na</a:t>
              </a:r>
              <a:r>
                <a:rPr b="1" lang="en-US" sz="2800" spc="-1" strike="noStrike" baseline="-25000">
                  <a:solidFill>
                    <a:srgbClr val="009900"/>
                  </a:solidFill>
                  <a:latin typeface="华文细黑"/>
                  <a:ea typeface="华文细黑"/>
                </a:rPr>
                <a:t>2</a:t>
              </a:r>
              <a:r>
                <a:rPr b="1" lang="en-US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O</a:t>
              </a:r>
              <a:r>
                <a:rPr b="1" lang="en-US" sz="2800" spc="-1" strike="noStrike" baseline="-25000">
                  <a:solidFill>
                    <a:srgbClr val="009900"/>
                  </a:solidFill>
                  <a:latin typeface="华文细黑"/>
                  <a:ea typeface="华文细黑"/>
                </a:rPr>
                <a:t>2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9" name="Group 11"/>
          <p:cNvGrpSpPr/>
          <p:nvPr/>
        </p:nvGrpSpPr>
        <p:grpSpPr>
          <a:xfrm>
            <a:off x="1219320" y="1971720"/>
            <a:ext cx="2971800" cy="609480"/>
            <a:chOff x="1219320" y="1971720"/>
            <a:chExt cx="2971800" cy="609480"/>
          </a:xfrm>
        </p:grpSpPr>
        <p:sp>
          <p:nvSpPr>
            <p:cNvPr id="300" name="Line 12"/>
            <p:cNvSpPr/>
            <p:nvPr/>
          </p:nvSpPr>
          <p:spPr>
            <a:xfrm>
              <a:off x="1219320" y="2276280"/>
              <a:ext cx="3808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1" name="Rectangle 13"/>
            <p:cNvSpPr/>
            <p:nvPr/>
          </p:nvSpPr>
          <p:spPr>
            <a:xfrm>
              <a:off x="1600200" y="1971720"/>
              <a:ext cx="2286000" cy="6094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1600200" y="20476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核反应堆导热剂</a:t>
              </a:r>
              <a:endParaRPr b="1" i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1219320" y="4029120"/>
            <a:ext cx="3504600" cy="609480"/>
            <a:chOff x="1219320" y="4029120"/>
            <a:chExt cx="3504600" cy="609480"/>
          </a:xfrm>
        </p:grpSpPr>
        <p:sp>
          <p:nvSpPr>
            <p:cNvPr id="304" name="Line 16"/>
            <p:cNvSpPr/>
            <p:nvPr/>
          </p:nvSpPr>
          <p:spPr>
            <a:xfrm>
              <a:off x="1219320" y="4333680"/>
              <a:ext cx="380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1599840" y="4029120"/>
              <a:ext cx="2285640" cy="6094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Text Box 18"/>
            <p:cNvSpPr/>
            <p:nvPr/>
          </p:nvSpPr>
          <p:spPr>
            <a:xfrm>
              <a:off x="1904760" y="402912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高压钠灯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7" name="Group 19"/>
          <p:cNvGrpSpPr/>
          <p:nvPr/>
        </p:nvGrpSpPr>
        <p:grpSpPr>
          <a:xfrm>
            <a:off x="1219320" y="5715000"/>
            <a:ext cx="3504600" cy="609480"/>
            <a:chOff x="1219320" y="5715000"/>
            <a:chExt cx="3504600" cy="609480"/>
          </a:xfrm>
        </p:grpSpPr>
        <p:sp>
          <p:nvSpPr>
            <p:cNvPr id="308" name="Line 20"/>
            <p:cNvSpPr/>
            <p:nvPr/>
          </p:nvSpPr>
          <p:spPr>
            <a:xfrm>
              <a:off x="1219320" y="6019560"/>
              <a:ext cx="380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Rectangle 21"/>
            <p:cNvSpPr/>
            <p:nvPr/>
          </p:nvSpPr>
          <p:spPr>
            <a:xfrm>
              <a:off x="1599840" y="5715000"/>
              <a:ext cx="2285640" cy="6094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0" name="Text Box 22"/>
            <p:cNvSpPr/>
            <p:nvPr/>
          </p:nvSpPr>
          <p:spPr>
            <a:xfrm>
              <a:off x="1599840" y="579096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冶炼某些贵金属</a:t>
              </a:r>
              <a:endParaRPr b="1" i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4191120" y="457200"/>
            <a:ext cx="4608000" cy="594360"/>
            <a:chOff x="4191120" y="457200"/>
            <a:chExt cx="4608000" cy="594360"/>
          </a:xfrm>
        </p:grpSpPr>
        <p:sp>
          <p:nvSpPr>
            <p:cNvPr id="312" name="Rectangle 24"/>
            <p:cNvSpPr/>
            <p:nvPr/>
          </p:nvSpPr>
          <p:spPr>
            <a:xfrm>
              <a:off x="5128200" y="457200"/>
              <a:ext cx="3670920" cy="57636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065640" y="471960"/>
              <a:ext cx="171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和</a:t>
              </a:r>
              <a:r>
                <a:rPr b="1" lang="en-US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O</a:t>
              </a:r>
              <a:r>
                <a:rPr b="1" lang="en-US" sz="2800" spc="-1" strike="noStrike" baseline="-25000">
                  <a:solidFill>
                    <a:srgbClr val="009900"/>
                  </a:solidFill>
                  <a:latin typeface="华文细黑"/>
                  <a:ea typeface="华文细黑"/>
                </a:rPr>
                <a:t>2</a:t>
              </a:r>
              <a:r>
                <a:rPr b="1" lang="zh-CN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反应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4" name="AutoShape 26"/>
            <p:cNvSpPr/>
            <p:nvPr/>
          </p:nvSpPr>
          <p:spPr>
            <a:xfrm>
              <a:off x="4191120" y="601200"/>
              <a:ext cx="702720" cy="216000"/>
            </a:xfrm>
            <a:prstGeom prst="leftArrow">
              <a:avLst>
                <a:gd name="adj1" fmla="val 50000"/>
                <a:gd name="adj2" fmla="val 81333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5" name="Group 27"/>
          <p:cNvGrpSpPr/>
          <p:nvPr/>
        </p:nvGrpSpPr>
        <p:grpSpPr>
          <a:xfrm>
            <a:off x="4203720" y="1835280"/>
            <a:ext cx="4572000" cy="838080"/>
            <a:chOff x="4203720" y="1835280"/>
            <a:chExt cx="4572000" cy="838080"/>
          </a:xfrm>
        </p:grpSpPr>
        <p:sp>
          <p:nvSpPr>
            <p:cNvPr id="316" name="Rectangle 28"/>
            <p:cNvSpPr/>
            <p:nvPr/>
          </p:nvSpPr>
          <p:spPr>
            <a:xfrm>
              <a:off x="5194440" y="1835280"/>
              <a:ext cx="3581280" cy="8380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7" name="AutoShape 29"/>
            <p:cNvSpPr/>
            <p:nvPr/>
          </p:nvSpPr>
          <p:spPr>
            <a:xfrm>
              <a:off x="4203720" y="2140200"/>
              <a:ext cx="685800" cy="228600"/>
            </a:xfrm>
            <a:prstGeom prst="leftArrow">
              <a:avLst>
                <a:gd name="adj1" fmla="val 50000"/>
                <a:gd name="adj2" fmla="val 75000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Text Box 30"/>
            <p:cNvSpPr/>
            <p:nvPr/>
          </p:nvSpPr>
          <p:spPr>
            <a:xfrm>
              <a:off x="5423040" y="1835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Na</a:t>
              </a:r>
              <a:r>
                <a:rPr b="1" lang="zh-CN" sz="24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、</a:t>
              </a:r>
              <a:r>
                <a:rPr b="1" lang="en-US" sz="24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K</a:t>
              </a:r>
              <a:r>
                <a:rPr b="1" lang="zh-CN" sz="24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合金为液体且导热性能好</a:t>
              </a:r>
              <a:endParaRPr b="1" i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9" name="Group 31"/>
          <p:cNvGrpSpPr/>
          <p:nvPr/>
        </p:nvGrpSpPr>
        <p:grpSpPr>
          <a:xfrm>
            <a:off x="4191120" y="4029120"/>
            <a:ext cx="5029200" cy="609480"/>
            <a:chOff x="4191120" y="4029120"/>
            <a:chExt cx="5029200" cy="609480"/>
          </a:xfrm>
        </p:grpSpPr>
        <p:sp>
          <p:nvSpPr>
            <p:cNvPr id="320" name="Rectangle 32"/>
            <p:cNvSpPr/>
            <p:nvPr/>
          </p:nvSpPr>
          <p:spPr>
            <a:xfrm>
              <a:off x="5105520" y="4029120"/>
              <a:ext cx="3581280" cy="6094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AutoShape 33"/>
            <p:cNvSpPr/>
            <p:nvPr/>
          </p:nvSpPr>
          <p:spPr>
            <a:xfrm>
              <a:off x="4191120" y="4257360"/>
              <a:ext cx="685800" cy="228240"/>
            </a:xfrm>
            <a:prstGeom prst="leftArrow">
              <a:avLst>
                <a:gd name="adj1" fmla="val 50000"/>
                <a:gd name="adj2" fmla="val 75118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2" name="Text Box 34"/>
            <p:cNvSpPr/>
            <p:nvPr/>
          </p:nvSpPr>
          <p:spPr>
            <a:xfrm>
              <a:off x="5029200" y="410508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黄光射程远，透雾力强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23" name="Group 35"/>
          <p:cNvGrpSpPr/>
          <p:nvPr/>
        </p:nvGrpSpPr>
        <p:grpSpPr>
          <a:xfrm>
            <a:off x="4038480" y="5715000"/>
            <a:ext cx="4648320" cy="609480"/>
            <a:chOff x="4038480" y="5715000"/>
            <a:chExt cx="4648320" cy="609480"/>
          </a:xfrm>
        </p:grpSpPr>
        <p:sp>
          <p:nvSpPr>
            <p:cNvPr id="324" name="Rectangle 36"/>
            <p:cNvSpPr/>
            <p:nvPr/>
          </p:nvSpPr>
          <p:spPr>
            <a:xfrm>
              <a:off x="4952880" y="5715000"/>
              <a:ext cx="3581640" cy="6094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AutoShape 37"/>
            <p:cNvSpPr/>
            <p:nvPr/>
          </p:nvSpPr>
          <p:spPr>
            <a:xfrm>
              <a:off x="4038480" y="5867280"/>
              <a:ext cx="685800" cy="228240"/>
            </a:xfrm>
            <a:prstGeom prst="leftArrow">
              <a:avLst>
                <a:gd name="adj1" fmla="val 50000"/>
                <a:gd name="adj2" fmla="val 75118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Text Box 38"/>
            <p:cNvSpPr/>
            <p:nvPr/>
          </p:nvSpPr>
          <p:spPr>
            <a:xfrm>
              <a:off x="5638680" y="572904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华文细黑"/>
                  <a:ea typeface="华文细黑"/>
                </a:rPr>
                <a:t>钠有强还原性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7" name="AutoShape 47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3837"/>
                </a:moveTo>
                <a:lnTo>
                  <a:pt x="14484" y="6448"/>
                </a:ln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lnTo>
                  <a:pt x="18871" y="10800"/>
                </a:lnTo>
                <a:lnTo>
                  <a:pt x="17217" y="10800"/>
                </a:lnTo>
                <a:lnTo>
                  <a:pt x="17217" y="17989"/>
                </a:lnTo>
                <a:lnTo>
                  <a:pt x="6599" y="17989"/>
                </a:lnTo>
                <a:lnTo>
                  <a:pt x="6599" y="10800"/>
                </a:lnTo>
                <a:lnTo>
                  <a:pt x="4945" y="10800"/>
                </a:lnTo>
                <a:close/>
              </a:path>
              <a:path fill="darkenLess" w="23816" h="21600">
                <a:moveTo>
                  <a:pt x="14484" y="6448"/>
                </a:move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close/>
              </a:path>
              <a:path fill="darkenLess" w="23816" h="21600">
                <a:moveTo>
                  <a:pt x="10986" y="14299"/>
                </a:moveTo>
                <a:lnTo>
                  <a:pt x="12831" y="14299"/>
                </a:lnTo>
                <a:lnTo>
                  <a:pt x="12831" y="17989"/>
                </a:lnTo>
                <a:lnTo>
                  <a:pt x="17217" y="17989"/>
                </a:lnTo>
                <a:lnTo>
                  <a:pt x="17217" y="10800"/>
                </a:lnTo>
                <a:lnTo>
                  <a:pt x="6599" y="10800"/>
                </a:lnTo>
                <a:lnTo>
                  <a:pt x="6599" y="17989"/>
                </a:lnTo>
                <a:lnTo>
                  <a:pt x="10986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914400" y="762120"/>
            <a:ext cx="8229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物理性质：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为银白色的固体，质软，密度小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  <a:ea typeface="Times New Roman"/>
              </a:rPr>
              <a:t>(0.97g/cm</a:t>
            </a:r>
            <a:r>
              <a:rPr b="1" i="1" lang="en-US" sz="2800" spc="-1" strike="noStrike" baseline="30000">
                <a:solidFill>
                  <a:srgbClr val="3366ff"/>
                </a:solidFill>
                <a:latin typeface="Arial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  <a:ea typeface="Times New Roman"/>
              </a:rPr>
              <a:t>),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熔点低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  <a:ea typeface="Times New Roman"/>
              </a:rPr>
              <a:t>(97.87℃)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  <a:ea typeface="Times New Roman"/>
              </a:rPr>
              <a:t>。导电导热性良好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38080" y="1905120"/>
            <a:ext cx="62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化学性质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:   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化学性质很活泼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380880" y="26668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、与氧气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3352680" y="2438280"/>
            <a:ext cx="381240" cy="990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80880" y="35053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、与水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2895480" y="3429000"/>
            <a:ext cx="556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2Na  +  2H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 = 2NaOH + H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380880" y="40384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、与其它非金属单质的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304920" y="4572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3366ff"/>
                </a:solidFill>
                <a:latin typeface="宋体"/>
              </a:rPr>
              <a:t>与酸的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1889280" y="32868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小结：钠的物理性质和化学性质</a:t>
            </a: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7" name="Picture 28" descr="gif045"/>
          <p:cNvPicPr/>
          <p:nvPr/>
        </p:nvPicPr>
        <p:blipFill>
          <a:blip r:embed="rId1"/>
          <a:stretch/>
        </p:blipFill>
        <p:spPr>
          <a:xfrm>
            <a:off x="179280" y="-76320"/>
            <a:ext cx="1548000" cy="141768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29"/>
          <p:cNvGrpSpPr/>
          <p:nvPr/>
        </p:nvGrpSpPr>
        <p:grpSpPr>
          <a:xfrm>
            <a:off x="3352680" y="2209680"/>
            <a:ext cx="4751280" cy="695520"/>
            <a:chOff x="3352680" y="2209680"/>
            <a:chExt cx="4751280" cy="695520"/>
          </a:xfrm>
        </p:grpSpPr>
        <p:sp>
          <p:nvSpPr>
            <p:cNvPr id="339" name="Text Box 30"/>
            <p:cNvSpPr/>
            <p:nvPr/>
          </p:nvSpPr>
          <p:spPr>
            <a:xfrm>
              <a:off x="3352680" y="2325600"/>
              <a:ext cx="475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4Na  +  O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Arial"/>
                  <a:ea typeface="华文新魏"/>
                </a:rPr>
                <a:t>2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  =  2N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Arial"/>
                  <a:ea typeface="华文新魏"/>
                </a:rPr>
                <a:t>2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O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Rectangle 31"/>
            <p:cNvSpPr/>
            <p:nvPr/>
          </p:nvSpPr>
          <p:spPr>
            <a:xfrm>
              <a:off x="5486400" y="2209680"/>
              <a:ext cx="7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0000"/>
                  </a:solidFill>
                  <a:latin typeface="Arial"/>
                </a:rPr>
                <a:t>常温</a:t>
              </a: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1" name="Group 35"/>
          <p:cNvGrpSpPr/>
          <p:nvPr/>
        </p:nvGrpSpPr>
        <p:grpSpPr>
          <a:xfrm>
            <a:off x="3200400" y="2743200"/>
            <a:ext cx="4967280" cy="655920"/>
            <a:chOff x="3200400" y="2743200"/>
            <a:chExt cx="4967280" cy="655920"/>
          </a:xfrm>
        </p:grpSpPr>
        <p:sp>
          <p:nvSpPr>
            <p:cNvPr id="342" name="Text Box 33"/>
            <p:cNvSpPr/>
            <p:nvPr/>
          </p:nvSpPr>
          <p:spPr>
            <a:xfrm>
              <a:off x="3200400" y="2819520"/>
              <a:ext cx="4967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2Na  +  O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 =  N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Arial"/>
                </a:rPr>
                <a:t>2 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AutoShape 34"/>
            <p:cNvSpPr/>
            <p:nvPr/>
          </p:nvSpPr>
          <p:spPr>
            <a:xfrm>
              <a:off x="5638680" y="2743200"/>
              <a:ext cx="193680" cy="208080"/>
            </a:xfrm>
            <a:prstGeom prst="flowChartExtra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4" name="Rectangle 36"/>
          <p:cNvSpPr/>
          <p:nvPr/>
        </p:nvSpPr>
        <p:spPr>
          <a:xfrm>
            <a:off x="2918520" y="4648320"/>
            <a:ext cx="451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2Na + 2HCl</a:t>
            </a: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= 2NaCl + H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5" name="Group 42"/>
          <p:cNvGrpSpPr/>
          <p:nvPr/>
        </p:nvGrpSpPr>
        <p:grpSpPr>
          <a:xfrm>
            <a:off x="5029200" y="3962520"/>
            <a:ext cx="3564000" cy="811080"/>
            <a:chOff x="5029200" y="3962520"/>
            <a:chExt cx="3564000" cy="811080"/>
          </a:xfrm>
        </p:grpSpPr>
        <p:sp>
          <p:nvSpPr>
            <p:cNvPr id="346" name="Rectangle 37"/>
            <p:cNvSpPr/>
            <p:nvPr/>
          </p:nvSpPr>
          <p:spPr>
            <a:xfrm>
              <a:off x="5029200" y="4194000"/>
              <a:ext cx="356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40409"/>
                  </a:solidFill>
                  <a:latin typeface="Arial"/>
                </a:rPr>
                <a:t>2Na + Cl</a:t>
              </a:r>
              <a:r>
                <a:rPr b="1" i="1" lang="en-US" sz="2800" spc="-1" strike="noStrike" baseline="-25000">
                  <a:solidFill>
                    <a:srgbClr val="e40409"/>
                  </a:solidFill>
                  <a:latin typeface="Arial"/>
                </a:rPr>
                <a:t>2</a:t>
              </a:r>
              <a:r>
                <a:rPr b="1" i="1" lang="en-US" sz="28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= 2NaCl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Rectangle 41"/>
            <p:cNvSpPr/>
            <p:nvPr/>
          </p:nvSpPr>
          <p:spPr>
            <a:xfrm>
              <a:off x="6610320" y="39625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Arial"/>
                </a:rPr>
                <a:t>∆</a:t>
              </a:r>
              <a:endParaRPr b="1" i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8" name="Text Box 18"/>
          <p:cNvSpPr/>
          <p:nvPr/>
        </p:nvSpPr>
        <p:spPr>
          <a:xfrm>
            <a:off x="304920" y="53341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Arial"/>
              </a:rPr>
              <a:t>5</a:t>
            </a:r>
            <a:r>
              <a:rPr b="1" i="1" lang="zh-CN" sz="28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3366ff"/>
                </a:solidFill>
                <a:latin typeface="宋体"/>
              </a:rPr>
              <a:t>与盐的反应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矩形 22"/>
          <p:cNvSpPr/>
          <p:nvPr/>
        </p:nvSpPr>
        <p:spPr>
          <a:xfrm>
            <a:off x="685800" y="579132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2Na+CuSO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+2H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O== Cu</a:t>
            </a:r>
            <a:r>
              <a:rPr b="1" i="1" lang="zh-CN" sz="2800" spc="-1" strike="noStrike">
                <a:solidFill>
                  <a:srgbClr val="e40409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OH</a:t>
            </a:r>
            <a:r>
              <a:rPr b="1" i="1" lang="zh-CN" sz="2800" spc="-1" strike="noStrike">
                <a:solidFill>
                  <a:srgbClr val="e40409"/>
                </a:solidFill>
                <a:latin typeface="Arial"/>
              </a:rPr>
              <a:t>）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↓+Na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SO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+H</a:t>
            </a:r>
            <a:r>
              <a:rPr b="1" i="1" lang="en-US" sz="2800" spc="-1" strike="noStrike" baseline="-25000">
                <a:solidFill>
                  <a:srgbClr val="e40409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e40409"/>
                </a:solidFill>
                <a:latin typeface="Arial"/>
              </a:rPr>
              <a:t>↑</a:t>
            </a:r>
            <a:endParaRPr b="1" i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25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及时巩固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将一小块新切的不规则形状的金属钠投入到滴有酚酞溶液的水中，观察到下列现象，其中可说明钠与水反应放出气体的现象是（   　　）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金属钠浮在水面上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金属钠形成小球状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金属钠在水面上迅速游动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反应后的溶液呈现红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410080" y="58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09880" y="26668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40c38"/>
                </a:solidFill>
                <a:latin typeface="Arial"/>
              </a:rPr>
              <a:t>C</a:t>
            </a:r>
            <a:endParaRPr b="1" i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8317080" y="609300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11902" y="3837"/>
                </a:moveTo>
                <a:lnTo>
                  <a:pt x="14478" y="6448"/>
                </a:ln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lnTo>
                  <a:pt x="18865" y="10800"/>
                </a:lnTo>
                <a:lnTo>
                  <a:pt x="17211" y="10800"/>
                </a:lnTo>
                <a:lnTo>
                  <a:pt x="17211" y="17989"/>
                </a:lnTo>
                <a:lnTo>
                  <a:pt x="6593" y="17989"/>
                </a:lnTo>
                <a:lnTo>
                  <a:pt x="6593" y="10800"/>
                </a:lnTo>
                <a:lnTo>
                  <a:pt x="4939" y="10800"/>
                </a:lnTo>
                <a:close/>
              </a:path>
              <a:path fill="darkenLess" w="23804" h="21600">
                <a:moveTo>
                  <a:pt x="14478" y="6448"/>
                </a:move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close/>
              </a:path>
              <a:path fill="darkenLess" w="23804" h="21600">
                <a:moveTo>
                  <a:pt x="10979" y="14299"/>
                </a:moveTo>
                <a:lnTo>
                  <a:pt x="12825" y="14299"/>
                </a:lnTo>
                <a:lnTo>
                  <a:pt x="12825" y="17989"/>
                </a:lnTo>
                <a:lnTo>
                  <a:pt x="17211" y="17989"/>
                </a:lnTo>
                <a:lnTo>
                  <a:pt x="17211" y="10800"/>
                </a:lnTo>
                <a:lnTo>
                  <a:pt x="6593" y="10800"/>
                </a:lnTo>
                <a:lnTo>
                  <a:pt x="6593" y="17989"/>
                </a:lnTo>
                <a:lnTo>
                  <a:pt x="1097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下列叙述中，错误的是（      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钠燃烧时发出黄色的火焰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钠在空气中燃烧生成过氧化钠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钠与硫化合时可以发生爆炸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．可以直接用手拿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7543800" y="6858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i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8317080" y="609300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11902" y="3837"/>
                </a:moveTo>
                <a:lnTo>
                  <a:pt x="14478" y="6448"/>
                </a:ln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lnTo>
                  <a:pt x="18865" y="10800"/>
                </a:lnTo>
                <a:lnTo>
                  <a:pt x="17211" y="10800"/>
                </a:lnTo>
                <a:lnTo>
                  <a:pt x="17211" y="17989"/>
                </a:lnTo>
                <a:lnTo>
                  <a:pt x="6593" y="17989"/>
                </a:lnTo>
                <a:lnTo>
                  <a:pt x="6593" y="10800"/>
                </a:lnTo>
                <a:lnTo>
                  <a:pt x="4939" y="10800"/>
                </a:lnTo>
                <a:close/>
              </a:path>
              <a:path fill="darkenLess" w="23804" h="21600">
                <a:moveTo>
                  <a:pt x="14478" y="6448"/>
                </a:move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close/>
              </a:path>
              <a:path fill="darkenLess" w="23804" h="21600">
                <a:moveTo>
                  <a:pt x="10979" y="14299"/>
                </a:moveTo>
                <a:lnTo>
                  <a:pt x="12825" y="14299"/>
                </a:lnTo>
                <a:lnTo>
                  <a:pt x="12825" y="17989"/>
                </a:lnTo>
                <a:lnTo>
                  <a:pt x="17211" y="17989"/>
                </a:lnTo>
                <a:lnTo>
                  <a:pt x="17211" y="10800"/>
                </a:lnTo>
                <a:lnTo>
                  <a:pt x="6593" y="10800"/>
                </a:lnTo>
                <a:lnTo>
                  <a:pt x="6593" y="17989"/>
                </a:lnTo>
                <a:lnTo>
                  <a:pt x="1097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762120" y="4724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点评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的皮肤上有水分，易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应生成具有强烈腐蚀性的强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7543800" y="624852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4528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12683" y="3794"/>
                </a:lnTo>
                <a:lnTo>
                  <a:pt x="12683" y="17806"/>
                </a:lnTo>
                <a:lnTo>
                  <a:pt x="1102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将一小块钠投入到盛有煤油和水的试管中（煤油和水均足够多），可以观察到的现象是 （    　 ）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5946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．钠浮在煤油层上，不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．钠沉在煤油层下，不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．钠沉在煤油层下，浮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水层上，在交界处剧烈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．钠沉在水层下剧烈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3" name="Picture 5" descr="5"/>
          <p:cNvPicPr/>
          <p:nvPr/>
        </p:nvPicPr>
        <p:blipFill>
          <a:blip r:embed="rId1"/>
          <a:stretch/>
        </p:blipFill>
        <p:spPr>
          <a:xfrm>
            <a:off x="5791320" y="2514600"/>
            <a:ext cx="3581280" cy="24098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541008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i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8317080" y="609300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11902" y="3837"/>
                </a:moveTo>
                <a:lnTo>
                  <a:pt x="14478" y="6448"/>
                </a:ln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lnTo>
                  <a:pt x="18865" y="10800"/>
                </a:lnTo>
                <a:lnTo>
                  <a:pt x="17211" y="10800"/>
                </a:lnTo>
                <a:lnTo>
                  <a:pt x="17211" y="17989"/>
                </a:lnTo>
                <a:lnTo>
                  <a:pt x="6593" y="17989"/>
                </a:lnTo>
                <a:lnTo>
                  <a:pt x="6593" y="10800"/>
                </a:lnTo>
                <a:lnTo>
                  <a:pt x="4939" y="10800"/>
                </a:lnTo>
                <a:close/>
              </a:path>
              <a:path fill="darkenLess" w="23804" h="21600">
                <a:moveTo>
                  <a:pt x="14478" y="6448"/>
                </a:move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close/>
              </a:path>
              <a:path fill="darkenLess" w="23804" h="21600">
                <a:moveTo>
                  <a:pt x="10979" y="14299"/>
                </a:moveTo>
                <a:lnTo>
                  <a:pt x="12825" y="14299"/>
                </a:lnTo>
                <a:lnTo>
                  <a:pt x="12825" y="17989"/>
                </a:lnTo>
                <a:lnTo>
                  <a:pt x="17211" y="17989"/>
                </a:lnTo>
                <a:lnTo>
                  <a:pt x="17211" y="10800"/>
                </a:lnTo>
                <a:lnTo>
                  <a:pt x="6593" y="10800"/>
                </a:lnTo>
                <a:lnTo>
                  <a:pt x="6593" y="17989"/>
                </a:lnTo>
                <a:lnTo>
                  <a:pt x="1097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7543800" y="624852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4528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12683" y="3794"/>
                </a:lnTo>
                <a:lnTo>
                  <a:pt x="12683" y="17806"/>
                </a:lnTo>
                <a:lnTo>
                  <a:pt x="1102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下列有关金属钠的说法中，错误的是（       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．钠只有在加热的条件下才能与氧气反应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．钠与氧气反应的产物与反应条件有关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．钠在反应中易失电子，表现出还原性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．钠应保存在煤油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133720" y="990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i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8317080" y="609300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11902" y="3837"/>
                </a:moveTo>
                <a:lnTo>
                  <a:pt x="14478" y="6448"/>
                </a:ln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lnTo>
                  <a:pt x="18865" y="10800"/>
                </a:lnTo>
                <a:lnTo>
                  <a:pt x="17211" y="10800"/>
                </a:lnTo>
                <a:lnTo>
                  <a:pt x="17211" y="17989"/>
                </a:lnTo>
                <a:lnTo>
                  <a:pt x="6593" y="17989"/>
                </a:lnTo>
                <a:lnTo>
                  <a:pt x="6593" y="10800"/>
                </a:lnTo>
                <a:lnTo>
                  <a:pt x="4939" y="10800"/>
                </a:lnTo>
                <a:close/>
              </a:path>
              <a:path fill="darkenLess" w="23804" h="21600">
                <a:moveTo>
                  <a:pt x="14478" y="6448"/>
                </a:move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close/>
              </a:path>
              <a:path fill="darkenLess" w="23804" h="21600">
                <a:moveTo>
                  <a:pt x="10979" y="14299"/>
                </a:moveTo>
                <a:lnTo>
                  <a:pt x="12825" y="14299"/>
                </a:lnTo>
                <a:lnTo>
                  <a:pt x="12825" y="17989"/>
                </a:lnTo>
                <a:lnTo>
                  <a:pt x="17211" y="17989"/>
                </a:lnTo>
                <a:lnTo>
                  <a:pt x="17211" y="10800"/>
                </a:lnTo>
                <a:lnTo>
                  <a:pt x="6593" y="10800"/>
                </a:lnTo>
                <a:lnTo>
                  <a:pt x="6593" y="17989"/>
                </a:lnTo>
                <a:lnTo>
                  <a:pt x="1097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7543800" y="624852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4528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12683" y="3794"/>
                </a:lnTo>
                <a:lnTo>
                  <a:pt x="12683" y="17806"/>
                </a:lnTo>
                <a:lnTo>
                  <a:pt x="1102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4"/>
          <p:cNvSpPr txBox="1"/>
          <p:nvPr/>
        </p:nvSpPr>
        <p:spPr>
          <a:xfrm>
            <a:off x="1460520" y="1725480"/>
            <a:ext cx="6988320" cy="275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552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9999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这节课的大标题我们应该可以看出来，这节课的主要内容是学习金属钠。对于钠元素，相信大家都不会陌生。大家想想，我们在日常生活中哪些地方涉及到了钠的存在？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600200" y="2516760"/>
            <a:ext cx="838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食盐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45560" y="426924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肥皂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6261840" y="228816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食碱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491000" y="4269240"/>
            <a:ext cx="2926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蒸馒头时用来发面的小苏打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91680" y="3502440"/>
            <a:ext cx="48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味精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3124080" y="2286000"/>
            <a:ext cx="1905120" cy="519480"/>
          </a:xfrm>
          <a:prstGeom prst="wedgeEllipseCallout">
            <a:avLst>
              <a:gd name="adj1" fmla="val 12685"/>
              <a:gd name="adj2" fmla="val 14196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7a77"/>
                </a:solidFill>
                <a:latin typeface="Arial"/>
              </a:rPr>
              <a:t>谷氨酸钠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0" y="3200400"/>
            <a:ext cx="3200400" cy="519480"/>
          </a:xfrm>
          <a:prstGeom prst="wedgeEllipseCallout">
            <a:avLst>
              <a:gd name="adj1" fmla="val 28041"/>
              <a:gd name="adj2" fmla="val 15055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7a77"/>
                </a:solidFill>
                <a:latin typeface="Arial"/>
              </a:rPr>
              <a:t>高级脂肪钠酸盐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1066680" y="1766880"/>
            <a:ext cx="1447920" cy="519480"/>
          </a:xfrm>
          <a:prstGeom prst="wedgeEllipseCallout">
            <a:avLst>
              <a:gd name="adj1" fmla="val 29814"/>
              <a:gd name="adj2" fmla="val 10276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7a77"/>
                </a:solidFill>
                <a:latin typeface="Arial"/>
              </a:rPr>
              <a:t>氯化钠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6705720" y="1614600"/>
            <a:ext cx="1828800" cy="519480"/>
          </a:xfrm>
          <a:prstGeom prst="wedgeEllipseCallout">
            <a:avLst>
              <a:gd name="adj1" fmla="val -61037"/>
              <a:gd name="adj2" fmla="val 9009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7a77"/>
                </a:solidFill>
                <a:latin typeface="Arial"/>
              </a:rPr>
              <a:t>碳酸钠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5942160" y="3429000"/>
            <a:ext cx="2363760" cy="519480"/>
          </a:xfrm>
          <a:prstGeom prst="wedgeEllipseCallout">
            <a:avLst>
              <a:gd name="adj1" fmla="val -35916"/>
              <a:gd name="adj2" fmla="val 9667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7a77"/>
                </a:solidFill>
                <a:latin typeface="Arial"/>
              </a:rPr>
              <a:t>碳酸氢钠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228600" y="5508720"/>
            <a:ext cx="838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</a:rPr>
              <a:t>不仅仅如此，在医院里病人输液的时候，许多就是氯化钠生理盐水（即浓度为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</a:rPr>
              <a:t>0.9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</a:rPr>
              <a:t>％的食盐水） 。由上可知，钠在我们日常生活中起到了很重要的作用。下面我们就来学习有关钠的一些知识。</a:t>
            </a:r>
            <a:endParaRPr b="1" i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90872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、钠在煤油中是沉在瓶底还是浮    在煤油中的？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2</a:t>
            </a:r>
            <a:r>
              <a:rPr b="1" i="1" lang="zh-CN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、钠容易被切开吗？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3</a:t>
            </a:r>
            <a:r>
              <a:rPr b="1" i="1" lang="zh-CN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、刚切开钠的端面是什么颜色？一段时间后呢？</a:t>
            </a:r>
            <a:endParaRPr b="1" i="1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4</a:t>
            </a:r>
            <a:r>
              <a:rPr b="1" i="1" lang="zh-CN" sz="4400" spc="-1" strike="noStrike">
                <a:solidFill>
                  <a:srgbClr val="000000"/>
                </a:solidFill>
                <a:latin typeface="宋体"/>
                <a:ea typeface="Lucida Sans Unicode"/>
              </a:rPr>
              <a:t>、金属都有那些共同点（铁</a:t>
            </a: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、铜）？</a:t>
            </a:r>
            <a:r>
              <a:rPr b="1" i="1" lang="zh-CN" sz="9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i="1" lang="en-US" sz="9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0" y="304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实验探究</a:t>
            </a: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1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362320" y="19810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银白色有金属光泽</a:t>
            </a:r>
            <a:endParaRPr b="1" i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76720" y="2590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软</a:t>
            </a:r>
            <a:endParaRPr b="1" i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762120" y="1981080"/>
            <a:ext cx="7848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颜色：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        硬度：     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密度：        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熔沸点：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导电、传热性：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362320" y="2438280"/>
            <a:ext cx="1143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505320" y="2438280"/>
            <a:ext cx="14475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438280" y="3048120"/>
            <a:ext cx="259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362320" y="4419720"/>
            <a:ext cx="25905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438280" y="3733920"/>
            <a:ext cx="25146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3733920" y="5257800"/>
            <a:ext cx="1143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 flipH="1">
            <a:off x="2513880" y="31240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小（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.97g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）</a:t>
            </a:r>
            <a:endParaRPr b="1" i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2514600" y="3809880"/>
            <a:ext cx="59436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低（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熔点：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97.81℃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沸点：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82.9℃</a:t>
            </a: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）</a:t>
            </a:r>
            <a:endParaRPr b="1" i="1" lang="en-US" sz="3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3733920" y="464832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c5900"/>
                </a:solidFill>
                <a:latin typeface="Tahoma"/>
                <a:ea typeface="楷体_GB2312"/>
              </a:rPr>
              <a:t>良好</a:t>
            </a:r>
            <a:endParaRPr b="1" i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AutoShape 17">
            <a:hlinkClick r:id="" action="ppaction://hlinkshowjump?jump=lastslide"/>
          </p:cNvPr>
          <p:cNvSpPr/>
          <p:nvPr/>
        </p:nvSpPr>
        <p:spPr>
          <a:xfrm>
            <a:off x="8317080" y="609300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11902" y="3837"/>
                </a:moveTo>
                <a:lnTo>
                  <a:pt x="14478" y="6448"/>
                </a:ln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lnTo>
                  <a:pt x="18865" y="10800"/>
                </a:lnTo>
                <a:lnTo>
                  <a:pt x="17211" y="10800"/>
                </a:lnTo>
                <a:lnTo>
                  <a:pt x="17211" y="17989"/>
                </a:lnTo>
                <a:lnTo>
                  <a:pt x="6593" y="17989"/>
                </a:lnTo>
                <a:lnTo>
                  <a:pt x="6593" y="10800"/>
                </a:lnTo>
                <a:lnTo>
                  <a:pt x="4939" y="10800"/>
                </a:lnTo>
                <a:close/>
              </a:path>
              <a:path fill="darkenLess" w="23804" h="21600">
                <a:moveTo>
                  <a:pt x="14478" y="6448"/>
                </a:move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close/>
              </a:path>
              <a:path fill="darkenLess" w="23804" h="21600">
                <a:moveTo>
                  <a:pt x="10979" y="14299"/>
                </a:moveTo>
                <a:lnTo>
                  <a:pt x="12825" y="14299"/>
                </a:lnTo>
                <a:lnTo>
                  <a:pt x="12825" y="17989"/>
                </a:lnTo>
                <a:lnTo>
                  <a:pt x="17211" y="17989"/>
                </a:lnTo>
                <a:lnTo>
                  <a:pt x="17211" y="10800"/>
                </a:lnTo>
                <a:lnTo>
                  <a:pt x="6593" y="10800"/>
                </a:lnTo>
                <a:lnTo>
                  <a:pt x="6593" y="17989"/>
                </a:lnTo>
                <a:lnTo>
                  <a:pt x="1097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228600" y="4572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钠的物理性质</a:t>
            </a:r>
            <a:endParaRPr b="1" i="1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1318680"/>
            <a:ext cx="8915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【提问】钠切开一会为什么会变暗？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【操作】将一小块金属钠放在石棉网上，用酒精灯对其加热。 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【提问】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加热过程中，钠的形状发生什么变化？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燃烧时的火焰是什么颜色？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产物是什么颜色？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0" y="0"/>
            <a:ext cx="2556000" cy="7034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细黑"/>
                <a:ea typeface="华文细黑"/>
              </a:rPr>
              <a:t>实验探究</a:t>
            </a:r>
            <a:r>
              <a:rPr b="1" lang="en-US" sz="4000" spc="-1" strike="noStrike">
                <a:solidFill>
                  <a:srgbClr val="ff3300"/>
                </a:solidFill>
                <a:latin typeface="华文细黑"/>
                <a:ea typeface="华文细黑"/>
              </a:rPr>
              <a:t>2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68580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    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4541760"/>
            <a:ext cx="8229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ahoma"/>
              </a:rPr>
              <a:t>现象：</a:t>
            </a:r>
            <a:r>
              <a:rPr b="1" lang="zh-CN" sz="3600" spc="-1" strike="noStrike">
                <a:solidFill>
                  <a:srgbClr val="007a77"/>
                </a:solidFill>
                <a:latin typeface="Tahoma"/>
              </a:rPr>
              <a:t>钠在空气中受热后，先熔化成闪亮的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小球</a:t>
            </a:r>
            <a:r>
              <a:rPr b="1" lang="zh-CN" sz="3600" spc="-1" strike="noStrike">
                <a:solidFill>
                  <a:srgbClr val="007a77"/>
                </a:solidFill>
                <a:latin typeface="Tahoma"/>
              </a:rPr>
              <a:t>后剧烈燃烧产生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黄色火焰</a:t>
            </a:r>
            <a:r>
              <a:rPr b="1" lang="zh-CN" sz="3600" spc="-1" strike="noStrike">
                <a:solidFill>
                  <a:srgbClr val="007a77"/>
                </a:solidFill>
                <a:latin typeface="Tahoma"/>
              </a:rPr>
              <a:t>，生成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淡黄色固体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914400" y="304920"/>
          <a:ext cx="27003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2700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3"/>
          <p:cNvGraphicFramePr/>
          <p:nvPr/>
        </p:nvGraphicFramePr>
        <p:xfrm>
          <a:off x="4419720" y="304920"/>
          <a:ext cx="260640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04920"/>
                    <a:ext cx="26064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5105520" y="2590920"/>
          <a:ext cx="266688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590920"/>
                    <a:ext cx="26668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8" descr="钠燃烧火焰"/>
          <p:cNvPicPr/>
          <p:nvPr/>
        </p:nvPicPr>
        <p:blipFill>
          <a:blip r:embed="rId7"/>
          <a:stretch/>
        </p:blipFill>
        <p:spPr>
          <a:xfrm>
            <a:off x="1523880" y="2514600"/>
            <a:ext cx="2743200" cy="2270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3520" y="114300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钠与氧气反应：          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空气中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缓慢氧化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  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1205640" y="2438280"/>
            <a:ext cx="5133960" cy="510120"/>
            <a:chOff x="1205640" y="2438280"/>
            <a:chExt cx="5133960" cy="510120"/>
          </a:xfrm>
        </p:grpSpPr>
        <p:grpSp>
          <p:nvGrpSpPr>
            <p:cNvPr id="148" name="xjhhxwjfh2"/>
            <p:cNvGrpSpPr/>
            <p:nvPr/>
          </p:nvGrpSpPr>
          <p:grpSpPr>
            <a:xfrm>
              <a:off x="3581280" y="2536920"/>
              <a:ext cx="685800" cy="358560"/>
              <a:chOff x="3581280" y="2536920"/>
              <a:chExt cx="685800" cy="35856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3657240" y="2536920"/>
                <a:ext cx="537840" cy="1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0" name="Text Box 6"/>
              <p:cNvSpPr/>
              <p:nvPr/>
            </p:nvSpPr>
            <p:spPr>
              <a:xfrm>
                <a:off x="3787920" y="2737800"/>
                <a:ext cx="364680" cy="1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3581280" y="2702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3581280" y="2755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53" name="Rectangle 9"/>
            <p:cNvSpPr/>
            <p:nvPr/>
          </p:nvSpPr>
          <p:spPr>
            <a:xfrm>
              <a:off x="1205640" y="2438280"/>
              <a:ext cx="51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4Na       +       O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           2N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  (</a:t>
              </a:r>
              <a:r>
                <a:rPr b="1" lang="zh-CN" sz="2400" spc="-1" strike="noStrike">
                  <a:solidFill>
                    <a:srgbClr val="dc5900"/>
                  </a:solidFill>
                  <a:latin typeface="Times New Roman"/>
                </a:rPr>
                <a:t>白色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)</a:t>
              </a:r>
              <a:endParaRPr b="1" i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4" name="Group 10"/>
          <p:cNvGrpSpPr/>
          <p:nvPr/>
        </p:nvGrpSpPr>
        <p:grpSpPr>
          <a:xfrm>
            <a:off x="304920" y="4038480"/>
            <a:ext cx="6629400" cy="510120"/>
            <a:chOff x="304920" y="4038480"/>
            <a:chExt cx="6629400" cy="510120"/>
          </a:xfrm>
        </p:grpSpPr>
        <p:sp>
          <p:nvSpPr>
            <p:cNvPr id="155" name="Text Box 11"/>
            <p:cNvSpPr/>
            <p:nvPr/>
          </p:nvSpPr>
          <p:spPr>
            <a:xfrm>
              <a:off x="304920" y="4038480"/>
              <a:ext cx="662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Na      +     O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                Na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dc5900"/>
                  </a:solidFill>
                  <a:latin typeface="Times New Roman"/>
                </a:rPr>
                <a:t>淡黄色</a:t>
              </a: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)</a:t>
              </a:r>
              <a:endParaRPr b="1" i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56" name="xjhhxwjfh2"/>
            <p:cNvGrpSpPr/>
            <p:nvPr/>
          </p:nvGrpSpPr>
          <p:grpSpPr>
            <a:xfrm>
              <a:off x="3276720" y="4114800"/>
              <a:ext cx="685800" cy="380880"/>
              <a:chOff x="3276720" y="4114800"/>
              <a:chExt cx="685800" cy="380880"/>
            </a:xfrm>
          </p:grpSpPr>
          <p:sp>
            <p:nvSpPr>
              <p:cNvPr id="157" name="Text Box 13"/>
              <p:cNvSpPr/>
              <p:nvPr/>
            </p:nvSpPr>
            <p:spPr>
              <a:xfrm>
                <a:off x="3352680" y="4114800"/>
                <a:ext cx="537840" cy="18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7a77"/>
                    </a:solidFill>
                    <a:latin typeface="Times New Roman"/>
                  </a:rPr>
                  <a:t>    </a:t>
                </a:r>
                <a:r>
                  <a:rPr b="1" lang="zh-CN" sz="1200" spc="-1" strike="noStrike">
                    <a:solidFill>
                      <a:srgbClr val="007a77"/>
                    </a:solidFill>
                    <a:latin typeface="Times New Roman"/>
                  </a:rPr>
                  <a:t>点燃</a:t>
                </a:r>
                <a:endParaRPr b="1" i="1" lang="en-US" sz="1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8" name="Text Box 14"/>
              <p:cNvSpPr/>
              <p:nvPr/>
            </p:nvSpPr>
            <p:spPr>
              <a:xfrm>
                <a:off x="3483360" y="4338000"/>
                <a:ext cx="364680" cy="1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3276720" y="43023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3276720" y="43556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17"/>
          <p:cNvSpPr/>
          <p:nvPr/>
        </p:nvSpPr>
        <p:spPr>
          <a:xfrm>
            <a:off x="685800" y="3200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钠在空气中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燃烧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3" name="Picture 19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180036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0">
            <a:hlinkClick r:id="" action="ppaction://hlinkshowjump?jump=lastslide"/>
          </p:cNvPr>
          <p:cNvSpPr/>
          <p:nvPr/>
        </p:nvSpPr>
        <p:spPr>
          <a:xfrm>
            <a:off x="8317080" y="609300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11902" y="3837"/>
                </a:moveTo>
                <a:lnTo>
                  <a:pt x="14478" y="6448"/>
                </a:ln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lnTo>
                  <a:pt x="18865" y="10800"/>
                </a:lnTo>
                <a:lnTo>
                  <a:pt x="17211" y="10800"/>
                </a:lnTo>
                <a:lnTo>
                  <a:pt x="17211" y="17989"/>
                </a:lnTo>
                <a:lnTo>
                  <a:pt x="6593" y="17989"/>
                </a:lnTo>
                <a:lnTo>
                  <a:pt x="6593" y="10800"/>
                </a:lnTo>
                <a:lnTo>
                  <a:pt x="4939" y="10800"/>
                </a:lnTo>
                <a:close/>
              </a:path>
              <a:path fill="darkenLess" w="23804" h="21600">
                <a:moveTo>
                  <a:pt x="14478" y="6448"/>
                </a:moveTo>
                <a:lnTo>
                  <a:pt x="14478" y="4707"/>
                </a:lnTo>
                <a:lnTo>
                  <a:pt x="16254" y="4707"/>
                </a:lnTo>
                <a:lnTo>
                  <a:pt x="16254" y="8224"/>
                </a:lnTo>
                <a:close/>
              </a:path>
              <a:path fill="darkenLess" w="23804" h="21600">
                <a:moveTo>
                  <a:pt x="10979" y="14299"/>
                </a:moveTo>
                <a:lnTo>
                  <a:pt x="12825" y="14299"/>
                </a:lnTo>
                <a:lnTo>
                  <a:pt x="12825" y="17989"/>
                </a:lnTo>
                <a:lnTo>
                  <a:pt x="17211" y="17989"/>
                </a:lnTo>
                <a:lnTo>
                  <a:pt x="17211" y="10800"/>
                </a:lnTo>
                <a:lnTo>
                  <a:pt x="6593" y="10800"/>
                </a:lnTo>
                <a:lnTo>
                  <a:pt x="6593" y="17989"/>
                </a:lnTo>
                <a:lnTo>
                  <a:pt x="10979" y="17989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304920" y="4800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0c38"/>
                </a:solidFill>
                <a:latin typeface="Arial"/>
              </a:rPr>
              <a:t>注意：反应物相同，反应条件不同，产物不同！</a:t>
            </a:r>
            <a:endParaRPr b="1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0" y="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二、钠的化学性质</a:t>
            </a:r>
            <a:endParaRPr b="1" i="1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28600" y="1752480"/>
            <a:ext cx="2556000" cy="7034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细黑"/>
                <a:ea typeface="华文细黑"/>
              </a:rPr>
              <a:t>实验探究</a:t>
            </a:r>
            <a:r>
              <a:rPr b="1" lang="en-US" sz="4000" spc="-1" strike="noStrike">
                <a:solidFill>
                  <a:srgbClr val="ff3300"/>
                </a:solidFill>
                <a:latin typeface="华文细黑"/>
                <a:ea typeface="华文细黑"/>
              </a:rPr>
              <a:t>3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25146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    </a:t>
            </a:r>
            <a:r>
              <a:rPr b="1" lang="zh-CN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向一只盛有水的大烧杯中滴加几滴酚酞试液，然后将一小块金属钠</a:t>
            </a:r>
            <a:r>
              <a:rPr b="1" lang="en-US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(</a:t>
            </a:r>
            <a:r>
              <a:rPr b="1" lang="zh-CN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约绿豆般大小</a:t>
            </a:r>
            <a:r>
              <a:rPr b="1" lang="en-US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)</a:t>
            </a:r>
            <a:r>
              <a:rPr b="1" lang="zh-CN" sz="4000" spc="-1" strike="noStrike">
                <a:solidFill>
                  <a:srgbClr val="009900"/>
                </a:solidFill>
                <a:latin typeface="华文细黑"/>
                <a:ea typeface="华文细黑"/>
              </a:rPr>
              <a:t>投入烧杯中，观察实验现象。</a:t>
            </a:r>
            <a:endParaRPr b="1" i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85800" y="762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议一议：钠能否保存在水中？</a:t>
            </a:r>
            <a:endParaRPr b="1" i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2-11-11T00:58:26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