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ABC-0854-436D-97DB-87AF8EA7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059-0A80-4E37-B58D-F4536F1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D3E-742C-49DE-9D6E-AF79AB2E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69A-60CA-4399-8E5D-99ADA633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4BE-AD54-42B8-BDC0-FF2C9BD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227-6ED3-4FFF-BF1B-1DBA69A4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C42-C363-46E3-8CF2-A967221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7B1-03F4-45ED-A934-8243DA68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A4-8FE5-4B81-A360-B54F8A3F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192-4B28-45D5-8DF0-172C4FB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37A-63A0-4DCA-B22A-618FD6CE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481-7738-4422-8815-293E55D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0B4-97F8-497A-B048-60D490AAA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海水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7640" y="1125360"/>
            <a:ext cx="74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1125360"/>
            <a:ext cx="626436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海底世界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/>
          <p:nvPr/>
        </p:nvSpPr>
        <p:spPr>
          <a:xfrm>
            <a:off x="763560" y="5372280"/>
            <a:ext cx="775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庆外国语学校小学部      执教： 毛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429000"/>
            <a:ext cx="550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三年级上册   第十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840" y="0"/>
            <a:ext cx="88218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作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完成习字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请大家练习朗读课文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抢先感受一下海底风光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2771640"/>
            <a:ext cx="45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海水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403280" y="2438280"/>
            <a:ext cx="5958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76500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871640"/>
            <a:ext cx="8096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读书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读正确：不错字、不丢字、不添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读通顺：不读破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标出自然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val 6"/>
          <p:cNvSpPr/>
          <p:nvPr/>
        </p:nvSpPr>
        <p:spPr>
          <a:xfrm>
            <a:off x="533520" y="68580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990720" y="373392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33520" y="15238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04920" y="19810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990720" y="28954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609480" y="3581280"/>
            <a:ext cx="15264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914400"/>
            <a:ext cx="58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3640" cy="1287360"/>
            <a:chOff x="0" y="0"/>
            <a:chExt cx="9143640" cy="128736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616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126160" y="98280"/>
              <a:ext cx="70174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比一比，看谁读的棒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1630440"/>
            <a:ext cx="88390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强烈 闪烁 打鼾 警报  海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参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伸缩  器官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梭子  攻击  乌贼 免费 褐色  海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显微镜 蕴藏  储量 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波涛澎湃 窃窃私语 景色奇异 物产丰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Oval 6"/>
          <p:cNvSpPr/>
          <p:nvPr/>
        </p:nvSpPr>
        <p:spPr>
          <a:xfrm>
            <a:off x="533520" y="68580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990720" y="373392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33520" y="15238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04920" y="19810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990720" y="28954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609480" y="3581280"/>
            <a:ext cx="15264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914400"/>
            <a:ext cx="58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3640" cy="1287360"/>
            <a:chOff x="0" y="0"/>
            <a:chExt cx="9143640" cy="12873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616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126160" y="98280"/>
              <a:ext cx="70174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比一比，看谁读的棒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04920" y="1719360"/>
            <a:ext cx="799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28736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用水中听音器一听，就能听见各种声音：有的像蜜蜂一样嗡嗡，有的像小鸟一样啾啾，有的像小狗一样汪汪，还有的好像在打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773440"/>
            <a:ext cx="82994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他们吃东西的时候发出一种声音，行进的时候发出另一种声音，遇到危险还会发出警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96252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植物的色彩多种多样，有褐色的，有紫色的，还有红色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86900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底蕴藏这丰富的煤、铁、石油和天然气，还有陆地上储藏量很少的稀有金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533520" y="68580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990720" y="373392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533520" y="15238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304920" y="19810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990720" y="28954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09480" y="3581280"/>
            <a:ext cx="15264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804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底真是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景色奇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物产丰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世界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5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7520" y="0"/>
            <a:ext cx="8507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中心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能够概括文章主要内容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11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7520" y="1054080"/>
            <a:ext cx="986472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在段的开头的中心句起概括和总述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在段的末尾的中心句起归纳和总结作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val 6"/>
          <p:cNvSpPr/>
          <p:nvPr/>
        </p:nvSpPr>
        <p:spPr>
          <a:xfrm>
            <a:off x="533520" y="68580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990720" y="373392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533520" y="15238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304920" y="19810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990720" y="2895480"/>
            <a:ext cx="15228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609480" y="3581280"/>
            <a:ext cx="152640" cy="228600"/>
          </a:xfrm>
          <a:prstGeom prst="ellipse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91440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752480"/>
            <a:ext cx="3178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cc"/>
                </a:solidFill>
                <a:latin typeface="Arial"/>
                <a:ea typeface="楷体_GB2312"/>
              </a:rPr>
              <a:t>器</a:t>
            </a: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官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6760" y="1752480"/>
            <a:ext cx="3390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cc"/>
                </a:solidFill>
                <a:latin typeface="Arial"/>
                <a:ea typeface="楷体_GB2312"/>
              </a:rPr>
              <a:t>危</a:t>
            </a: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险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397320"/>
            <a:ext cx="331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强</a:t>
            </a:r>
            <a:r>
              <a:rPr b="1" lang="zh-CN" sz="10000" spc="-1" strike="noStrike">
                <a:solidFill>
                  <a:srgbClr val="ff33cc"/>
                </a:solidFill>
                <a:latin typeface="Arial"/>
                <a:ea typeface="楷体_GB2312"/>
              </a:rPr>
              <a:t>烈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6760" y="3429000"/>
            <a:ext cx="280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是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013360"/>
            <a:ext cx="316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后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76760" y="5013360"/>
            <a:ext cx="280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达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38160"/>
            <a:ext cx="9143640" cy="1287360"/>
            <a:chOff x="0" y="38160"/>
            <a:chExt cx="9143640" cy="12873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38160"/>
              <a:ext cx="212616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126160" y="136440"/>
              <a:ext cx="70174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比一比，看谁写的棒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33:27Z</dcterms:created>
  <dc:creator>sunxiaomei</dc:creator>
  <dc:description/>
  <dc:language>en-US</dc:language>
  <cp:lastModifiedBy>aq</cp:lastModifiedBy>
  <dcterms:modified xsi:type="dcterms:W3CDTF">2012-11-07T12:35:26Z</dcterms:modified>
  <cp:revision>33</cp:revision>
  <dc:subject/>
  <dc:title>幻灯片 1</dc:title>
</cp:coreProperties>
</file>