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97D-5601-49F5-AE2A-4756B681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196-EAD5-426A-903B-2ACDB197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B04-CD0F-4810-83D6-B42F2E8B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B52-ADEB-4CCC-9641-2339F637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7857A-6604-42DB-9750-0926D5D8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C62AA-1F8B-40BB-BBAB-24C5A623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42CDB-6465-431A-98B5-C4FAC97E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B54B4-954A-4B11-8091-27BBC3F5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296EA-8DE5-4B63-9105-ADCBEB27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C7E71-6774-4C92-BA7A-AA8F3147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4A075-BBA7-4483-850A-78E57B84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F47-6DA9-400B-8CDB-41A52F5B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3A324-7AEE-45ED-A5B0-B3DE6F99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44F41-2A99-4CCA-B0ED-097A9271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5676B-DDD8-4598-A838-7B3538D1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B88BE-8CE2-4297-83C2-FFE2FB6B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6582F-D214-40FA-BF6F-C13525BD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7FC-56B3-4336-9618-31B1F7DE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D7F-6295-43C3-878F-5D043E5C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D8F-CA16-4F40-8D21-574B7B6D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9E3-DCAE-40D7-AF16-485540F5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669-04A7-46AB-9551-5B6D1C74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F99-FA42-4D97-B45A-36935493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89F-2271-4609-B11A-1948AB3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CCCA-BB3E-49A7-8F6E-7CD9EF1B6B8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898E-FA76-4873-84D2-B64A9FE26C8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北师大版小学语文</a:t>
            </a:r>
            <a:br>
              <a:rPr sz="4000"/>
            </a:b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                         一年级上册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2640" y="2514240"/>
            <a:ext cx="7010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ahoma"/>
              </a:rPr>
              <a:t>太   阳</a:t>
            </a:r>
            <a:br>
              <a:rPr sz="7200"/>
            </a:br>
            <a:br>
              <a:rPr sz="6000"/>
            </a:b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执教者：安庆市外国语学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                         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小学部       马韦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11539" t="9364" r="17062" b="12493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草  原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 spd="slow">
    <p:cover dir="l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10280" y="-36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1cb75"/>
                </a:solidFill>
                <a:latin typeface="Tahoma"/>
              </a:rPr>
              <a:t>太   阳</a:t>
            </a:r>
            <a:endParaRPr b="0" lang="en-US" sz="32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5562720"/>
            <a:ext cx="624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b80"/>
                </a:solidFill>
                <a:latin typeface="Tahoma"/>
              </a:rPr>
              <a:t>草原上，太阳是从草里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冒</a:t>
            </a:r>
            <a:r>
              <a:rPr b="1" lang="zh-CN" sz="2800" spc="-1" strike="noStrike">
                <a:solidFill>
                  <a:srgbClr val="006b80"/>
                </a:solidFill>
                <a:latin typeface="Tahoma"/>
              </a:rPr>
              <a:t>出来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783480" y="5092200"/>
            <a:ext cx="159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ahoma"/>
              </a:rPr>
              <a:t>森  林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57150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ahoma"/>
              </a:rPr>
              <a:t>森林里，太阳是鸟儿</a:t>
            </a:r>
            <a:r>
              <a:rPr b="1" lang="zh-CN" sz="6000" spc="-1" strike="noStrike">
                <a:solidFill>
                  <a:srgbClr val="66ff33"/>
                </a:solidFill>
                <a:latin typeface="Tahoma"/>
              </a:rPr>
              <a:t>唱</a:t>
            </a:r>
            <a:r>
              <a:rPr b="1" lang="zh-CN" sz="4000" spc="-1" strike="noStrike">
                <a:solidFill>
                  <a:srgbClr val="ff33cc"/>
                </a:solidFill>
                <a:latin typeface="Tahoma"/>
              </a:rPr>
              <a:t>出来的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ahoma"/>
                <a:ea typeface="黑体"/>
              </a:rPr>
              <a:t>山村里，太阳是雄鸡叫出来的。</a:t>
            </a:r>
            <a:endParaRPr b="0" lang="en-US" sz="4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040" y="617184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山  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58000" y="35812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86600" y="615636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雄  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lum contrast="24000"/>
          </a:blip>
          <a:srcRect l="0" t="24717" r="0" b="2580"/>
          <a:stretch/>
        </p:blipFill>
        <p:spPr>
          <a:xfrm>
            <a:off x="0" y="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5627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哦，美丽的世界，是太阳</a:t>
            </a:r>
            <a:r>
              <a:rPr b="1" lang="zh-CN" sz="5400" spc="-1" strike="noStrike">
                <a:solidFill>
                  <a:srgbClr val="0000cc"/>
                </a:solidFill>
                <a:latin typeface="Tahoma"/>
              </a:rPr>
              <a:t>照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出来的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0948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6521e"/>
                </a:solidFill>
                <a:latin typeface="Arial"/>
              </a:rPr>
              <a:t>地球上的光明和温暖，都是太阳送来的。如果没有太阳，地球上将到处是黑暗，到处是寒冷，没有风、雪、雨、露，没有草、木、鸟、兽，自然也不会有人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6521e"/>
                </a:solidFill>
                <a:latin typeface="Arial"/>
              </a:rPr>
              <a:t>所以说，没有太阳，就没有我们这个美丽可爱的世界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33"/>
                </a:solidFill>
                <a:latin typeface="Tahoma"/>
              </a:rPr>
              <a:t>太    阳</a:t>
            </a:r>
            <a:endParaRPr b="0" lang="en-US" sz="5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Tahoma"/>
              </a:rPr>
              <a:t>大海上，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太阳</a:t>
            </a:r>
            <a:r>
              <a:rPr b="1" lang="zh-CN" sz="4000" spc="-1" strike="noStrike">
                <a:solidFill>
                  <a:srgbClr val="06521e"/>
                </a:solidFill>
                <a:latin typeface="Tahoma"/>
              </a:rPr>
              <a:t>是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从</a:t>
            </a:r>
            <a:r>
              <a:rPr b="1" lang="zh-CN" sz="4000" spc="-1" strike="noStrike">
                <a:solidFill>
                  <a:srgbClr val="06521e"/>
                </a:solidFill>
                <a:latin typeface="Tahoma"/>
              </a:rPr>
              <a:t>水里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跳</a:t>
            </a:r>
            <a:r>
              <a:rPr b="1" lang="zh-CN" sz="4000" spc="-1" strike="noStrike">
                <a:solidFill>
                  <a:srgbClr val="06521e"/>
                </a:solidFill>
                <a:latin typeface="Tahoma"/>
              </a:rPr>
              <a:t>出来的。</a:t>
            </a:r>
            <a:r>
              <a:rPr b="1" lang="zh-CN" sz="4000" spc="-1" strike="noStrike">
                <a:solidFill>
                  <a:srgbClr val="08722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草</a:t>
            </a:r>
            <a:r>
              <a:rPr b="1" lang="zh-CN" sz="4000" spc="-1" strike="noStrike">
                <a:solidFill>
                  <a:srgbClr val="06521e"/>
                </a:solidFill>
                <a:latin typeface="Tahoma"/>
              </a:rPr>
              <a:t>原上，太阳是从草里冒出来的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Tahoma"/>
              </a:rPr>
              <a:t>山村里，太阳是雄鸡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叫</a:t>
            </a:r>
            <a:r>
              <a:rPr b="1" lang="zh-CN" sz="4000" spc="-1" strike="noStrike">
                <a:solidFill>
                  <a:srgbClr val="06521e"/>
                </a:solidFill>
                <a:latin typeface="Tahoma"/>
              </a:rPr>
              <a:t>出来的。</a:t>
            </a:r>
            <a:r>
              <a:rPr b="1" lang="zh-CN" sz="4000" spc="-1" strike="noStrike">
                <a:solidFill>
                  <a:srgbClr val="08722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森</a:t>
            </a:r>
            <a:r>
              <a:rPr b="1" lang="zh-CN" sz="4000" spc="-1" strike="noStrike">
                <a:solidFill>
                  <a:srgbClr val="06521e"/>
                </a:solidFill>
                <a:latin typeface="Tahoma"/>
              </a:rPr>
              <a:t>林里，太阳是鸟儿唱出来的</a:t>
            </a:r>
            <a:r>
              <a:rPr b="1" lang="zh-CN" sz="4000" spc="-1" strike="noStrike">
                <a:solidFill>
                  <a:srgbClr val="087229"/>
                </a:solidFill>
                <a:latin typeface="Tahoma"/>
              </a:rPr>
              <a:t>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Tahoma"/>
              </a:rPr>
              <a:t>哦，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美丽</a:t>
            </a:r>
            <a:r>
              <a:rPr b="1" lang="zh-CN" sz="4000" spc="-1" strike="noStrike">
                <a:solidFill>
                  <a:srgbClr val="06521e"/>
                </a:solidFill>
                <a:latin typeface="Tahoma"/>
              </a:rPr>
              <a:t>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世界</a:t>
            </a:r>
            <a:r>
              <a:rPr b="1" lang="zh-CN" sz="4000" spc="-1" strike="noStrike">
                <a:solidFill>
                  <a:srgbClr val="087229"/>
                </a:solidFill>
                <a:latin typeface="Tahoma"/>
              </a:rPr>
              <a:t>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Tahoma"/>
              </a:rPr>
              <a:t>是太阳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照</a:t>
            </a:r>
            <a:r>
              <a:rPr b="1" lang="zh-CN" sz="4000" spc="-1" strike="noStrike">
                <a:solidFill>
                  <a:srgbClr val="06521e"/>
                </a:solidFill>
                <a:latin typeface="Tahoma"/>
              </a:rPr>
              <a:t>出来的。</a:t>
            </a:r>
            <a:r>
              <a:rPr b="1" lang="zh-CN" sz="4000" spc="-1" strike="noStrike">
                <a:solidFill>
                  <a:srgbClr val="08722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1cb75"/>
                </a:solidFill>
                <a:latin typeface="Tahoma"/>
              </a:rPr>
              <a:t>作  业：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认真读背儿歌《太阳》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工整书写“太、从、出、山、叫”五个汉字，每字写一行，笔顺写一遍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想一想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304920"/>
            <a:ext cx="86868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①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城市中，太阳是从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出来的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②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田野中，太阳是从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出来的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③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，太阳是从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出来的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Tahoma"/>
                <a:ea typeface="黑体"/>
              </a:rPr>
              <a:t>猜谜语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一位老公公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面孔红彤彤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晴天早早起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按时来上工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>
            <a:lum bright="-8000"/>
          </a:blip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6600" y="291960"/>
            <a:ext cx="793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b80"/>
                </a:solidFill>
                <a:latin typeface="Tahoma"/>
              </a:rPr>
              <a:t>太     阳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 spd="slow">
    <p:zoom dir="in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7229"/>
                </a:solidFill>
                <a:latin typeface="Tahoma"/>
              </a:rPr>
              <a:t>            </a:t>
            </a:r>
            <a:r>
              <a:rPr b="1" lang="zh-CN" sz="4000" spc="-1" strike="noStrike">
                <a:solidFill>
                  <a:srgbClr val="087229"/>
                </a:solidFill>
                <a:latin typeface="Tahoma"/>
              </a:rPr>
              <a:t>同学们，伴随太阳的升起，我们一起去欣赏那美丽的世界吧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Tahoma"/>
              </a:rPr>
              <a:t>          </a:t>
            </a:r>
            <a:r>
              <a:rPr b="1" lang="zh-CN" sz="4000" spc="-1" strike="noStrike">
                <a:solidFill>
                  <a:srgbClr val="087229"/>
                </a:solidFill>
                <a:latin typeface="Tahoma"/>
              </a:rPr>
              <a:t>我们先读课文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057040" y="11426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Tahoma"/>
              </a:rPr>
              <a:t>海    阳    跳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Tahoma"/>
              </a:rPr>
              <a:t>来    草    唱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Tahoma"/>
              </a:rPr>
              <a:t>美    丽    照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11539" t="9364" r="17062" b="12493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cc"/>
                </a:solidFill>
                <a:latin typeface="Tahoma"/>
              </a:rPr>
              <a:t>太   从   出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cc"/>
                </a:solidFill>
                <a:latin typeface="Tahoma"/>
              </a:rPr>
              <a:t>山     叫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1539" t="9364" r="17062" b="12493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3124440" cy="2243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3200400" cy="2297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466884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715000" y="0"/>
            <a:ext cx="3124080" cy="224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673600" y="2532240"/>
            <a:ext cx="3009960" cy="210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715000" y="4616280"/>
            <a:ext cx="3200400" cy="224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47920" y="13716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美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1219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唱唱跳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1520" y="3581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太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7920" y="3581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大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58672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出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5280" y="5791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草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7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560" y="291600"/>
            <a:ext cx="274608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cb75"/>
                </a:solidFill>
                <a:latin typeface="Tahoma"/>
              </a:rPr>
              <a:t>                                  </a:t>
            </a:r>
            <a:r>
              <a:rPr b="1" lang="zh-CN" sz="4800" spc="-1" strike="noStrike">
                <a:solidFill>
                  <a:srgbClr val="006b80"/>
                </a:solidFill>
                <a:latin typeface="Tahoma"/>
              </a:rPr>
              <a:t>太 阳</a:t>
            </a:r>
            <a:endParaRPr b="0" lang="en-US" sz="4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大 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ahoma"/>
                <a:ea typeface="黑体"/>
              </a:rPr>
              <a:t>大海上，太阳是从水里</a:t>
            </a:r>
            <a:r>
              <a:rPr b="0" lang="zh-CN" sz="6600" spc="-1" strike="noStrike">
                <a:solidFill>
                  <a:srgbClr val="d9e288"/>
                </a:solidFill>
                <a:latin typeface="Tahoma"/>
                <a:ea typeface="黑体"/>
              </a:rPr>
              <a:t>跳</a:t>
            </a:r>
            <a:r>
              <a:rPr b="0" lang="zh-CN" sz="4400" spc="-1" strike="noStrike">
                <a:solidFill>
                  <a:srgbClr val="0000cc"/>
                </a:solidFill>
                <a:latin typeface="Tahoma"/>
                <a:ea typeface="黑体"/>
              </a:rPr>
              <a:t>出来的。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4692600"/>
            <a:ext cx="16891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ahoma"/>
                <a:ea typeface="黑体"/>
              </a:rPr>
              <a:t>跳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06:45:55Z</dcterms:created>
  <dc:creator>acer</dc:creator>
  <dc:description/>
  <dc:language>en-US</dc:language>
  <cp:lastModifiedBy>acer</cp:lastModifiedBy>
  <dcterms:modified xsi:type="dcterms:W3CDTF">2012-11-03T17:21:1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