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042920" y="1413000"/>
            <a:ext cx="7058160" cy="23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隶书"/>
              </a:rPr>
              <a:t>小马过河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纸上得来终觉浅，绝知此事要躬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百问不如一见，百见不如一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小马从磨坊回来后，会对妈妈说些什么呢？写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填空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牛觉得河水（          ），因为（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松鼠觉得河水（          ），因为（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马亲自去（      ），发现河水既不像（     ），也不像（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马过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告诉我们，凡事都要（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马连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èng 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带跳地驮着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ài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子向磨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ò  fǎng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跑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老牛说：“水很浅，刚没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ò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腿，能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āng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过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松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hǔ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说：“当然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ā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！昨天，我的一个伙伴就是在这条河里淹死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马想，如果妈妈在身边，那多好啊！他叹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à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了口气回家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老马说：“哦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，自己不动脑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ǎo   jī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，不去试试是不行的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马   小马   老牛   松鼠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麦子    小河      磨坊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先写小马（为什么要过河），接着写小马（过不了河）的情景，然后写老马（怎样教育小马），最后（写小马趟了过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755640" y="2781360"/>
            <a:ext cx="7775640" cy="3327480"/>
            <a:chOff x="755640" y="2781360"/>
            <a:chExt cx="7775640" cy="332748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4067280" y="3235320"/>
              <a:ext cx="4464000" cy="28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755640" y="2781360"/>
              <a:ext cx="3672000" cy="292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"/>
          <p:cNvGrpSpPr/>
          <p:nvPr/>
        </p:nvGrpSpPr>
        <p:grpSpPr>
          <a:xfrm>
            <a:off x="468360" y="549360"/>
            <a:ext cx="3313080" cy="2305080"/>
            <a:chOff x="468360" y="549360"/>
            <a:chExt cx="3313080" cy="23050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468360" y="549360"/>
              <a:ext cx="331308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7440" y="765360"/>
              <a:ext cx="29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   “</a:t>
              </a:r>
              <a:r>
                <a:rPr b="1" lang="zh-CN" sz="20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怎么不能？我很愿意帮妈妈做事。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500720" y="692280"/>
            <a:ext cx="4211640" cy="2401920"/>
            <a:chOff x="4500720" y="692280"/>
            <a:chExt cx="4211640" cy="2401920"/>
          </a:xfrm>
        </p:grpSpPr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4500720" y="692280"/>
              <a:ext cx="421164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220000" y="908280"/>
              <a:ext cx="302400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你已经长大了？能帮妈妈做点事吗？”</a:t>
              </a:r>
              <a:br>
                <a:rPr sz="2000"/>
              </a:b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“那好啊，你把这半口袋麦子驮到磨坊去吧。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763640" y="4149720"/>
            <a:ext cx="2266920" cy="2282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4284720" y="5589720"/>
            <a:ext cx="655560" cy="91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4572000" y="5589720"/>
            <a:ext cx="655560" cy="917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rcRect l="3044" t="2673" r="0" b="0"/>
          <a:stretch/>
        </p:blipFill>
        <p:spPr>
          <a:xfrm>
            <a:off x="5867280" y="3716280"/>
            <a:ext cx="281808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47876" t="0" r="0" b="-3343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826920" y="907920"/>
            <a:ext cx="3097080" cy="2521080"/>
            <a:chOff x="826920" y="907920"/>
            <a:chExt cx="3097080" cy="2521080"/>
          </a:xfrm>
        </p:grpSpPr>
        <p:sp>
          <p:nvSpPr>
            <p:cNvPr id="61" name=""/>
            <p:cNvSpPr/>
            <p:nvPr/>
          </p:nvSpPr>
          <p:spPr>
            <a:xfrm>
              <a:off x="898200" y="907920"/>
              <a:ext cx="2881440" cy="172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98560" y="2852640"/>
              <a:ext cx="360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87640" y="3284280"/>
              <a:ext cx="28728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6920" y="1123920"/>
              <a:ext cx="3097080" cy="143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“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牛伯伯，这条河，</a:t>
              </a:r>
              <a:br>
                <a:rPr sz="2000"/>
              </a:b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能趟过去吗？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364000" y="1197000"/>
            <a:ext cx="3097080" cy="2376360"/>
            <a:chOff x="5364000" y="1197000"/>
            <a:chExt cx="3097080" cy="2376360"/>
          </a:xfrm>
        </p:grpSpPr>
        <p:sp>
          <p:nvSpPr>
            <p:cNvPr id="66" name=""/>
            <p:cNvSpPr/>
            <p:nvPr/>
          </p:nvSpPr>
          <p:spPr>
            <a:xfrm>
              <a:off x="6227640" y="3500640"/>
              <a:ext cx="21600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35280" y="1197000"/>
              <a:ext cx="2953080" cy="165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27640" y="3068640"/>
              <a:ext cx="360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64000" y="1484280"/>
              <a:ext cx="3097080" cy="11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水很浅，刚没小腿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能过去。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651640" y="3429000"/>
            <a:ext cx="3124080" cy="319104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1403280" y="3860640"/>
            <a:ext cx="2552760" cy="2571840"/>
            <a:chOff x="1403280" y="3860640"/>
            <a:chExt cx="2552760" cy="2571840"/>
          </a:xfrm>
        </p:grpSpPr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1403280" y="3860640"/>
              <a:ext cx="2552760" cy="25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4"/>
            <a:stretch/>
          </p:blipFill>
          <p:spPr>
            <a:xfrm>
              <a:off x="2124000" y="5084640"/>
              <a:ext cx="655560" cy="917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47876" t="0" r="0" b="-3343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5580000" y="1125360"/>
            <a:ext cx="3311640" cy="2760840"/>
            <a:chOff x="5580000" y="1125360"/>
            <a:chExt cx="3311640" cy="2760840"/>
          </a:xfrm>
        </p:grpSpPr>
        <p:sp>
          <p:nvSpPr>
            <p:cNvPr id="76" name=""/>
            <p:cNvSpPr/>
            <p:nvPr/>
          </p:nvSpPr>
          <p:spPr>
            <a:xfrm>
              <a:off x="5580000" y="1125360"/>
              <a:ext cx="3311640" cy="208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51640" y="3357360"/>
              <a:ext cx="42084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740720" y="3717720"/>
              <a:ext cx="338040" cy="168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51280" y="1628640"/>
              <a:ext cx="3168720" cy="143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马！别过河，别过河，河水会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淹死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你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!”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昨天，我的一个小伙伴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就是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在这条河里淹死的！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826920" y="620640"/>
            <a:ext cx="2952720" cy="2448000"/>
            <a:chOff x="826920" y="620640"/>
            <a:chExt cx="2952720" cy="2448000"/>
          </a:xfrm>
        </p:grpSpPr>
        <p:sp>
          <p:nvSpPr>
            <p:cNvPr id="81" name=""/>
            <p:cNvSpPr/>
            <p:nvPr/>
          </p:nvSpPr>
          <p:spPr>
            <a:xfrm>
              <a:off x="826920" y="693720"/>
              <a:ext cx="2952720" cy="1565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0000" y="620640"/>
              <a:ext cx="2735280" cy="141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水很深吗？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11280" y="2636640"/>
              <a:ext cx="360360" cy="14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16000" y="2997000"/>
              <a:ext cx="216000" cy="7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987640" y="2421000"/>
            <a:ext cx="2552760" cy="2571840"/>
            <a:chOff x="2987640" y="2421000"/>
            <a:chExt cx="2552760" cy="257184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2987640" y="2421000"/>
              <a:ext cx="2552760" cy="25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3708360" y="3645000"/>
              <a:ext cx="655560" cy="91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659640" y="4076640"/>
            <a:ext cx="205740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684360" y="2565360"/>
            <a:ext cx="7774920" cy="3327480"/>
            <a:chOff x="684360" y="2565360"/>
            <a:chExt cx="7774920" cy="33274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3995640" y="3019320"/>
              <a:ext cx="4463640" cy="28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684360" y="2565360"/>
              <a:ext cx="3671640" cy="292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"/>
          <p:cNvGrpSpPr/>
          <p:nvPr/>
        </p:nvGrpSpPr>
        <p:grpSpPr>
          <a:xfrm>
            <a:off x="395280" y="333360"/>
            <a:ext cx="4032360" cy="2808360"/>
            <a:chOff x="395280" y="333360"/>
            <a:chExt cx="4032360" cy="2808360"/>
          </a:xfrm>
        </p:grpSpPr>
        <p:sp>
          <p:nvSpPr>
            <p:cNvPr id="93" name=""/>
            <p:cNvSpPr/>
            <p:nvPr/>
          </p:nvSpPr>
          <p:spPr>
            <a:xfrm>
              <a:off x="2627280" y="2997360"/>
              <a:ext cx="28908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95280" y="333360"/>
              <a:ext cx="4032360" cy="2448000"/>
              <a:chOff x="395280" y="333360"/>
              <a:chExt cx="4032360" cy="2448000"/>
            </a:xfrm>
          </p:grpSpPr>
          <p:sp>
            <p:nvSpPr>
              <p:cNvPr id="95" name=""/>
              <p:cNvSpPr/>
              <p:nvPr/>
            </p:nvSpPr>
            <p:spPr>
              <a:xfrm>
                <a:off x="2482920" y="2565360"/>
                <a:ext cx="50328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95280" y="333360"/>
                <a:ext cx="4032360" cy="20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38200" y="693720"/>
                <a:ext cx="3887640" cy="1384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 “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我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……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我没想过。”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5076720" y="907920"/>
            <a:ext cx="3313080" cy="2521080"/>
            <a:chOff x="5076720" y="907920"/>
            <a:chExt cx="3313080" cy="2521080"/>
          </a:xfrm>
        </p:grpSpPr>
        <p:sp>
          <p:nvSpPr>
            <p:cNvPr id="99" name=""/>
            <p:cNvSpPr/>
            <p:nvPr/>
          </p:nvSpPr>
          <p:spPr>
            <a:xfrm>
              <a:off x="5292720" y="907920"/>
              <a:ext cx="3097080" cy="165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76720" y="1197000"/>
              <a:ext cx="3313080" cy="9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河水到底是深还是浅呢？你仔细想过他们的话吗？”“孩子，光听别人说，不能了解河水究竟有多深。你去试一试，就会明白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。”</a:t>
              </a:r>
              <a:br>
                <a:rPr sz="2000"/>
              </a:b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16720" y="2852640"/>
              <a:ext cx="504720" cy="14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45080" y="3284280"/>
              <a:ext cx="360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403280" y="3860640"/>
            <a:ext cx="2552760" cy="2571840"/>
            <a:chOff x="1403280" y="3860640"/>
            <a:chExt cx="2552760" cy="2571840"/>
          </a:xfrm>
        </p:grpSpPr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1403280" y="3860640"/>
              <a:ext cx="2552760" cy="25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4"/>
            <a:stretch/>
          </p:blipFill>
          <p:spPr>
            <a:xfrm>
              <a:off x="2124000" y="5084640"/>
              <a:ext cx="655560" cy="91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" descr=""/>
          <p:cNvPicPr/>
          <p:nvPr/>
        </p:nvPicPr>
        <p:blipFill>
          <a:blip r:embed="rId5"/>
          <a:srcRect l="2969" t="2673" r="0" b="0"/>
          <a:stretch/>
        </p:blipFill>
        <p:spPr>
          <a:xfrm>
            <a:off x="5651640" y="3429000"/>
            <a:ext cx="2909880" cy="32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4000" cy="7174080"/>
            <a:chOff x="0" y="0"/>
            <a:chExt cx="9144000" cy="717408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rcRect l="47876" t="0" r="0" b="-3343"/>
            <a:stretch/>
          </p:blipFill>
          <p:spPr>
            <a:xfrm>
              <a:off x="0" y="0"/>
              <a:ext cx="9144000" cy="717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580000" y="836640"/>
              <a:ext cx="3240000" cy="172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67280" y="981000"/>
              <a:ext cx="28083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小松鼠，我想试一试，你那么小，我这么高，也许我可以过去呀，谢谢你的关心，再见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48360" y="2781360"/>
              <a:ext cx="50328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04000" y="3284640"/>
              <a:ext cx="21600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9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47876" t="0" r="0" b="-3343"/>
          <a:stretch/>
        </p:blipFill>
        <p:spPr>
          <a:xfrm>
            <a:off x="1285920" y="3219480"/>
            <a:ext cx="2381040" cy="1485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rcRect l="47876" t="0" r="0" b="-3343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971640" y="2133720"/>
            <a:ext cx="2016000" cy="1799640"/>
            <a:chOff x="971640" y="2133720"/>
            <a:chExt cx="2016000" cy="1799640"/>
          </a:xfrm>
        </p:grpSpPr>
        <p:sp>
          <p:nvSpPr>
            <p:cNvPr id="117" name=""/>
            <p:cNvSpPr/>
            <p:nvPr/>
          </p:nvSpPr>
          <p:spPr>
            <a:xfrm>
              <a:off x="971640" y="2133720"/>
              <a:ext cx="1871640" cy="115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51280" y="3501720"/>
              <a:ext cx="36036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195640" y="3862080"/>
              <a:ext cx="21600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42920" y="2204640"/>
              <a:ext cx="1944720" cy="9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马小马，你不要命啦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724360" y="189000"/>
            <a:ext cx="3240000" cy="2520360"/>
            <a:chOff x="5724360" y="189000"/>
            <a:chExt cx="3240000" cy="2520360"/>
          </a:xfrm>
        </p:grpSpPr>
        <p:sp>
          <p:nvSpPr>
            <p:cNvPr id="122" name=""/>
            <p:cNvSpPr/>
            <p:nvPr/>
          </p:nvSpPr>
          <p:spPr>
            <a:xfrm>
              <a:off x="5724360" y="189000"/>
              <a:ext cx="3240000" cy="172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48360" y="2636640"/>
              <a:ext cx="216000" cy="7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92720" y="2133360"/>
              <a:ext cx="50328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11640" y="333000"/>
              <a:ext cx="2808360" cy="136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小松鼠，我想试一试，你那么小，我这么高，也许我可以过去呀，谢谢你的关心，再见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356000" y="2421000"/>
            <a:ext cx="2552760" cy="2571840"/>
            <a:chOff x="4356000" y="2421000"/>
            <a:chExt cx="2552760" cy="2571840"/>
          </a:xfrm>
        </p:grpSpPr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4356000" y="2421000"/>
              <a:ext cx="2552760" cy="25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5076720" y="3645000"/>
              <a:ext cx="655560" cy="91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971640" y="4149720"/>
            <a:ext cx="205740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14:12:44Z</dcterms:created>
  <dc:creator>syy</dc:creator>
  <dc:description/>
  <cp:keywords/>
  <dc:language>en-US</dc:language>
  <cp:lastModifiedBy>微软用户</cp:lastModifiedBy>
  <cp:lastPrinted>1899-12-30T00:00:00Z</cp:lastPrinted>
  <dcterms:modified xsi:type="dcterms:W3CDTF">2012-10-21T16:57:16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