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400-DADF-4E46-912A-D7B37266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151-4A7C-4EC4-B292-0ADE64B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34A-5363-4250-976A-FD495415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864-B905-4592-B305-29F59EAF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88F-9766-45F5-A60A-9FC47E59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54E-BE7A-440C-A5D6-DABE4E63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959-6F11-4AA4-9CCE-1E712499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24D-4BF3-4148-B640-3EDF7066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895-6642-4499-8FE7-8798ADFA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BCD-6739-4206-B34B-4C85CBE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D59-EEDF-4B98-839E-BFDF07BC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E1B-DFC0-41A7-AB44-8123AFC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F78B-267D-40D6-8C3B-04D9F0665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0920" y="1546200"/>
            <a:ext cx="51436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上天的蚂蚁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师大版二年级上册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9975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庆市外国语学校（东区）            程茜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22100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只要我一步一步不停地爬，就一定能爬到天上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486640" y="6200640"/>
            <a:ext cx="657360" cy="65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5356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8000" y="1238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蚂蚁在漫长的爬行过程中可能遇到很多意想不到的困难，请同学们想一想它会遇到什么困难呢？你想提醒它注意什么呢？请写在你的作文草稿本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8720" y="112536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云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2536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仰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1125360"/>
            <a:ext cx="144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鼓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270972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自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x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ì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8720" y="270972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常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1238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8720" y="69372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云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69372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仰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692280"/>
            <a:ext cx="14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鼓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206064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198900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常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8720" y="69372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云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69372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仰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692280"/>
            <a:ext cx="14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鼓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06064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2133720"/>
            <a:ext cx="20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试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2560" y="357336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8720" y="198900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常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836640"/>
            <a:ext cx="14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-531720"/>
            <a:ext cx="6181920" cy="770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99000" y="1341360"/>
            <a:ext cx="1521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33720" y="1413000"/>
            <a:ext cx="1521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强力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8720" y="69372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云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69372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仰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692280"/>
            <a:ext cx="14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鼓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206064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2133720"/>
            <a:ext cx="20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试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357336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720" y="1989000"/>
            <a:ext cx="143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常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3573360"/>
            <a:ext cx="25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身强力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一直往上爬，就能爬到天上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422100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g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8000" y="1238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思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棵通天树。”白胡子爷爷告诉一个身材魁伟的巨人，“从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往上爬，就能爬到天上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81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棵通天树。”白胡子爷爷告诉一个身材魁伟的巨人，“从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就能爬到天上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576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能爬到天上去！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充满自信的声音传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在哪儿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您往地上瞧，我是一只蚂蚁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行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能行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要我一步一步不停地爬，就一定能爬到天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6:22:33Z</dcterms:created>
  <dc:creator>User</dc:creator>
  <dc:description/>
  <dc:language>en-US</dc:language>
  <cp:lastModifiedBy>User</cp:lastModifiedBy>
  <dcterms:modified xsi:type="dcterms:W3CDTF">2012-10-15T12:06:23Z</dcterms:modified>
  <cp:revision>5</cp:revision>
  <dc:subject/>
  <dc:title>幻灯片 1</dc:title>
</cp:coreProperties>
</file>