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</p:sldMasterIdLst>
  <p:sldIdLst>
    <p:sldId id="256" r:id="rId50"/>
    <p:sldId id="257" r:id="rId51"/>
    <p:sldId id="258" r:id="rId52"/>
    <p:sldId id="259" r:id="rId53"/>
    <p:sldId id="260" r:id="rId54"/>
    <p:sldId id="261" r:id="rId55"/>
    <p:sldId id="262" r:id="rId56"/>
    <p:sldId id="263" r:id="rId57"/>
    <p:sldId id="264" r:id="rId58"/>
    <p:sldId id="265" r:id="rId59"/>
    <p:sldId id="266" r:id="rId60"/>
    <p:sldId id="267" r:id="rId61"/>
    <p:sldId id="268" r:id="rId62"/>
    <p:sldId id="269" r:id="rId63"/>
    <p:sldId id="270" r:id="rId64"/>
    <p:sldId id="271" r:id="rId65"/>
    <p:sldId id="272" r:id="rId66"/>
    <p:sldId id="273" r:id="rId67"/>
    <p:sldId id="274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" Target="slides/slide1.xml"/><Relationship Id="rId51" Type="http://schemas.openxmlformats.org/officeDocument/2006/relationships/slide" Target="slides/slide2.xml"/><Relationship Id="rId52" Type="http://schemas.openxmlformats.org/officeDocument/2006/relationships/slide" Target="slides/slide3.xml"/><Relationship Id="rId53" Type="http://schemas.openxmlformats.org/officeDocument/2006/relationships/slide" Target="slides/slide4.xml"/><Relationship Id="rId54" Type="http://schemas.openxmlformats.org/officeDocument/2006/relationships/slide" Target="slides/slide5.xml"/><Relationship Id="rId55" Type="http://schemas.openxmlformats.org/officeDocument/2006/relationships/slide" Target="slides/slide6.xml"/><Relationship Id="rId56" Type="http://schemas.openxmlformats.org/officeDocument/2006/relationships/slide" Target="slides/slide7.xml"/><Relationship Id="rId57" Type="http://schemas.openxmlformats.org/officeDocument/2006/relationships/slide" Target="slides/slide8.xml"/><Relationship Id="rId58" Type="http://schemas.openxmlformats.org/officeDocument/2006/relationships/slide" Target="slides/slide9.xml"/><Relationship Id="rId59" Type="http://schemas.openxmlformats.org/officeDocument/2006/relationships/slide" Target="slides/slide10.xml"/><Relationship Id="rId60" Type="http://schemas.openxmlformats.org/officeDocument/2006/relationships/slide" Target="slides/slide11.xml"/><Relationship Id="rId61" Type="http://schemas.openxmlformats.org/officeDocument/2006/relationships/slide" Target="slides/slide12.xml"/><Relationship Id="rId62" Type="http://schemas.openxmlformats.org/officeDocument/2006/relationships/slide" Target="slides/slide13.xml"/><Relationship Id="rId63" Type="http://schemas.openxmlformats.org/officeDocument/2006/relationships/slide" Target="slides/slide14.xml"/><Relationship Id="rId64" Type="http://schemas.openxmlformats.org/officeDocument/2006/relationships/slide" Target="slides/slide15.xml"/><Relationship Id="rId65" Type="http://schemas.openxmlformats.org/officeDocument/2006/relationships/slide" Target="slides/slide16.xml"/><Relationship Id="rId66" Type="http://schemas.openxmlformats.org/officeDocument/2006/relationships/slide" Target="slides/slide17.xml"/><Relationship Id="rId67" Type="http://schemas.openxmlformats.org/officeDocument/2006/relationships/slide" Target="slides/slide18.xml"/><Relationship Id="rId68" Type="http://schemas.openxmlformats.org/officeDocument/2006/relationships/slide" Target="slides/slide19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F839-DBD9-4CFD-81E0-A5D5B2239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82E2-9354-4462-9FF2-689EC1C8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D16EB-4731-45B3-BF1F-1F80F4BA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E41415-1A2C-47EC-B02C-BB123BD8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algn="ctr"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3B4AFE-EFB0-47F7-B3D2-5C8B5516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53F72-21A8-4597-A287-DD13B8A5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D323E5-D5C5-434E-A5F6-4427EB6B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E65E9-CD1A-487F-86F9-82AB970D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4ACB7-2B67-4B63-A6CC-2D214314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6DAFD-BA8C-4BF6-9EE9-040A06975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3DD5F-376B-4E98-BDE5-9D7A0EBED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8A0348-5B5F-4960-AC30-3BFBF8CD6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054A-2E10-46E7-AA18-67DFB41CA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indent="0" algn="ctr"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91D662-0C7B-431C-A150-14457994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70E944-2344-491D-BCBF-D114FBDC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7CAEF8-5F70-478D-B4CC-8FF6402C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72CEFF-2F46-45BB-9328-66137CB2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algn="ctr"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74A9B9-A43A-4640-944A-573D13A8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083A0F-98BC-447C-96A7-5FE61794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59A7F1-A5F4-46A6-889E-A88F6366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531486-C960-4A61-A70A-F6373E02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9CF613-C3D6-418A-8055-B8147F1A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73A9AE-08EE-46A4-84DA-D404F527A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FC83-FAE5-4207-9F86-48FEC1399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1B948F-D9ED-4B66-ABCF-BBBE8A25E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6407D-05CE-4D46-A50E-9999ED0F9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indent="0" algn="ctr"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9F52B-32A7-480E-A932-E0F44054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038AD-6C0A-4406-9D61-222A8986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FD756-7825-4570-A677-555C434E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AA5AD-F944-4285-BBA2-6C6542A2A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algn="ctr"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3E5512-EECF-4DAA-8905-A70893D7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8628D-221A-4F12-9C10-1AD13C36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F6F6FB-6BBA-45C9-8376-90DC12F1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5987A-8181-41B6-BED7-3626EAD2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69F2-4F85-415B-8773-49CD2FFC6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44ABD-ABC8-4800-80DA-5A84EFEF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B4D29-17B1-4C46-B2B5-5320DF026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33768F-8D60-4626-8C22-756AE14E2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82D744-3226-4FD5-974F-119BE1C34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indent="0" algn="ctr"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C08304-FF1F-4CAB-BAB5-5B382C6A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A39FE2-3E6F-46FB-AB25-B960D5B1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E462B-0CE6-4932-BFFC-ACFFF100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4B2FF2-0CE7-45AE-8A68-30BA4DD6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algn="ctr"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C98F5-3D64-4D29-858F-740E5EAD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1300EB-BAC5-497F-AB30-5CC9A8BB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indent="0" algn="ctr"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975E-8525-4F38-8BF9-84501282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B648F7-8235-43DE-BB49-1C7EDF6D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17DF12-3C44-411C-950A-B6E30BDE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465C1C-69FC-47FD-B56E-87561C31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46CCD9-7122-419A-A27E-CF02F762C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79CC0C-273A-4802-8F96-C31FF06AB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2BD604-0628-4930-8A4F-283F364B8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indent="0" algn="ctr"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58E289-5B64-48A4-9375-D3A3F20F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785C07-6839-4CFB-9C2E-F14C10FE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71797F-DCEA-4D07-AB84-D585AED8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2BCEDF-BE62-4480-93AE-2371E336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6CE6-9AEF-4A67-9A50-AE9BE01C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algn="ctr"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700E52-6778-44C6-850F-B2C62ACC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5FDEBD-E001-43A2-BD9C-4D714B59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CB5904-07D5-481D-A03B-2F52A92B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D75CE7-A9F9-42B3-9197-10D49F8C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835E7D-F0C1-4278-8A66-16B9C46A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4D81C5-9B48-4DAB-8AAB-976B2C6C4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4307D6-4DAB-482E-8F57-BE76A7D87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355581-4CC8-4EF7-8DAA-CE7E2FA18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indent="0" algn="ctr"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31072B-4D55-498A-8841-D6FA5F27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4D8E67-B19F-4BB1-BB76-4CC6E609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0A91-9A90-44FD-884F-21705EA0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49989B-24EA-464F-BBCE-83DAEA81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540F2E-CFA3-4B57-96AB-C14DFC67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algn="ctr"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B2B2BC-0B2A-444B-9119-7D2CEB23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9A0B66-36BD-4D04-95C8-80A4C830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368064-90D1-49CA-BE4F-F8F2E846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04F517-CA58-4013-BCCD-CAD2D0E6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CFBD06-FA4F-4AC0-85D4-27D7A6CF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3CD3C5-D226-4821-B9B4-9F3BBB37A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D107ED-F831-4C37-8A57-9B2C01C96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D85069-192F-4439-A28B-168FEDB0E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EE96-0639-4680-BA9E-A72BD2A8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indent="0" algn="ctr"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068005-0CA4-4CEA-BAEE-6BA79649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80AF4F-0E85-41AD-A79A-4ECBE106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27AAE4-87D4-4CA3-A8EA-5D87E218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4C684A-CD79-43E7-B11E-2C6F8144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algn="ctr"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8BF820-871B-4091-8C87-4311C5AD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E8F05D-819D-43E5-ABA4-62CF0A89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94EAEB-8B12-47A1-B1BF-013A94C4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1358C0-6ACD-4A96-9474-E8B752AB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9FC22C-328C-45BE-80B1-846603EC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7942BA-774D-4460-A811-9DFD89474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algn="ctr"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7371B-F3D9-4F42-8A85-F1EDA498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558D48-F44A-4D9C-AAE3-0EBE6CD51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ED28E5-A07D-402F-B6E8-BD5598410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indent="0" algn="ctr"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AAD435-D23A-4094-9D7A-86C0B646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D3348F-C79A-4D1B-A39D-611C9272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01E020-89A1-4F38-9D43-A975FF73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CD8F2A-AB5B-4DE8-904C-C7181F41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algn="ctr"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905D41-0738-40D9-8926-CEE518E8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2D2021-F774-42CD-9D7C-CE41D499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73DD76-F177-48B5-A3B1-37E151DE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334BBD-A67C-4B96-AB81-0DC85EE5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F9F4-A476-4F4B-B336-1E980CE8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155B0E-6637-4297-878B-1767AA91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1FDC7C-5B6A-4535-BC5B-B43DF3210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407E54-BDC6-4014-86E7-496025284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F89C60-AD55-4EA1-A08F-4F6F43EC5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indent="0" algn="ctr"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878118-ABF1-493F-9787-36628C08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987A0E-4911-4871-9D78-01D97998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2F8508-33C2-45BC-972B-FE2DCDC8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797016-D08A-4487-B197-8CE034DA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algn="ctr"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7DFEAA-D51E-4D4C-B3DE-DC94DEBF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C3EED1-7A0E-4862-AE8A-C82DF1E3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indent="0" algn="ctr"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42E0-A297-4CE6-9B57-EB38C556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A0B1-3B3A-4443-B366-1B23A325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463DEF-6211-40D2-8B5B-0E33B1D7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A4F542-3550-4F7B-AE00-DBF18120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3FBC85-045A-4D1C-97C3-D346071A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4B8209-B9CE-4BFA-860E-40CD6B292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D912BA-F224-468C-9D60-7801F4D70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D9F054-8FF5-4CA3-A522-AF24789C9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indent="0" algn="ctr"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B63634-21E3-480A-9B7F-9B454B72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D95E1A-01CE-4751-8909-4EFD84BB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F81871-B127-4133-A879-2080ECBD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406ABF-82F1-49CC-B592-C35F836A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43D3-D0DF-4682-9D39-B3F42FAB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algn="ctr"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DEAB47-50FE-4780-9381-CAFC7905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B02878-1672-46F6-A68C-83DE37D2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8F21D2-529A-4592-BE70-E752AE36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F05912-1A19-4138-A735-0A60BEF1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655001-D33A-45B9-9808-D2776CFC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D21BF8-C9B0-4F72-915C-8B2AF9509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80B504-5CCB-4A40-9F4C-458F8268F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1A2266-01FB-48B1-97F1-094399FE8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indent="0" algn="ctr"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25EF9D-258B-4AB0-BAF6-DB93240C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1FF49E-FDF3-4CE6-B6C3-C8BCEF88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4E47-BD21-4526-83DE-B5FEEA5E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9057BF-69FF-4860-9CFE-0BA3B1CD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6E759D-04AD-4043-B482-9579ADCB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algn="ctr"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CD893A-7CFE-4408-85EA-064F7EC5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7173F4-B143-46A1-AE2B-5B078965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D84A9B-36D0-48C0-804F-F9D211DA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267614-5BA1-4B88-BF02-BDD0E836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55877F-BD6C-4CE7-B971-9F7D34B7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615284-91AE-44EB-9A57-1796311A2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B8617E-006D-446F-AD83-15F6A2D6C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BC0AA8-582B-47C1-B3AA-31A9C09C4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9F9E-0C88-4ABD-B9E1-20D17EE24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indent="0" algn="ctr"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B312E2-9E22-4C65-80F4-B0F3BEAB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175C6D-A1B8-4D53-9E66-09D3805F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5C1CDE-02EB-41B3-99AE-3FE0BCC6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7CCB90-1349-48D6-94A8-4B83A77B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algn="ctr"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7CC723-0B6B-49D8-A538-1B97916E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B24A3C-EFFD-4B46-A285-76212158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9A739E-EFCB-4060-AA50-8D011FBB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07AF79-666F-4442-A413-DD05069F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9D9256-3821-4E74-B0FD-E676DDC7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484B63-F2AB-4848-9EE5-6D11F8923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1738-D3A1-4D05-BE26-D00EBA0F2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FE788F-60A6-4A66-A465-9C5A62A0C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BA7C5E-6B80-4F12-A319-548A15B73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indent="0" algn="ctr"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041DA3-6DB0-4610-96A9-F023AB9F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AE016B-597A-483F-8D2E-A254138C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CDEE4D-6DB2-4B90-9896-4FCFDE3F1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4E3480-5F77-48F2-81C4-DF723D6C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algn="ctr"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98EABD-FE38-4521-98B1-20CA25FC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07761B-A55D-4A1D-BEC1-C9CC0E83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2D102D-443B-4218-9F73-ECAC21A1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C5D39D-16A3-491E-99F2-9E8DE17F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1523B-AA93-4C0F-84E5-E8736A705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B73774-7721-47FD-A54D-08366A85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64FADE-5C07-48B5-9980-499C03631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113C59-924E-442D-8F10-092F0DD73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23CF47-C285-4067-91DA-81B0A5D0E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indent="0" algn="ctr"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F91C13-6AA2-40C7-B926-C689F712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38898A-3925-4A56-8D74-A3885900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04A3ED-8C78-4A62-B019-7250ADE7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E1DE09-8AB8-4C2C-92ED-2FBAE029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algn="ctr"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F3CB23-C09B-43D8-AC33-A8F5A9AB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65014F-AD76-4FBF-90B4-6BAEF379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indent="0" algn="ctr"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12CCB-BB79-4733-A38A-3D3C8C17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76C4E5-470D-472C-8B46-68F03164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2927AC-FA64-4997-A7CF-125FC6EA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658B52-599D-42E9-8090-3BD4443D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728F46-737E-4B9A-8D7D-C591BF493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C1ECCA-6F51-4A25-A7A5-6E10614E2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44CC58-005A-479E-8509-ABBFF6231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indent="0" algn="ctr"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4B3032-6D91-4B6D-995A-493DE813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3CFB80-3114-4399-9670-5279F041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A562DF-292D-436A-964B-4774F2BF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43FBF7-0F6E-47BF-9BD5-901B36CB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5E591-973B-4487-8142-AD585044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algn="ctr"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177D0D-2AE5-48B8-B296-C9CA4785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86C447-44B0-4BAF-8749-D2B7CBCA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353B89-848F-40F8-994E-0BEAF919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8A0C72-64C0-4A66-BD05-AA9CA5CD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573B80-EE8D-47C5-B7A9-2A6A10F8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29D282-70F3-49E8-B9EC-49C819A69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FB1496-7A0A-4444-A3A1-DB4059529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42BB948-45AB-4142-91B2-808130241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indent="0" algn="ctr"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926CEA-28C5-43E5-BDE4-004D2A2C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F56B2E8-79E8-44AB-A7BA-142A4EF2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D83DC-7219-480A-8B41-D2BCD46E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AA12C3-041B-4D63-AC1C-9D786BA35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3DD4A9-5CCC-41FC-8418-3C31A536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algn="ctr"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5DA396-1028-4956-8C9D-438F84E7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2193D4-12F2-4FC6-AE44-ECC1F7DC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B26032-2B22-4571-A6F3-FD525F06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AFCB56-1559-4F0C-9FAF-14076AC4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EDDDCB-D6DF-4460-A135-D4679D87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1A08A9-71C5-4996-B521-4346361B0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047743-6EB2-494E-9666-21CF49074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84A5A88-2CD0-4905-A833-49FA4AA0A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DDC5C-5B88-4193-BC65-03D8C162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indent="0" algn="ctr"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06D05F-8E23-42A1-A09F-C81528C7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035B19B-9237-455E-A8DA-A183A388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557975-BEFB-4D0E-95AF-0FBA1D55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1E46827-9722-4CBC-86CA-64A4C2D0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algn="ctr"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09B31EB-87B4-491B-8262-2F3C8A68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B5C8D4-8E47-4272-A006-B1B30A48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25AF2B5-C27B-4787-897D-E3743F07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C904FCA-DC32-4CE4-9BCD-1F413DA1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298FFC-3941-4C59-AC01-32E4B33D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5392603-A7E9-45D1-96C5-63E1081B0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5B67-76CE-435A-88FD-E52DB1AB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algn="ctr"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FCC46-DCCE-4896-A89A-23E1FFC8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3DF4612-13C8-469A-A445-21A50B45B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5955A7B-B3CF-4EA7-99E3-89561B29E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indent="0" algn="ctr"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738EDD8-83B8-4477-ABB8-62D97E5D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D2943F8-C3E8-421C-B19A-3BF6AACE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E32CF9A-77E9-4933-A5B5-7F0D945F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80C2B91-8830-4BC5-9495-71675725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algn="ctr"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B736105-B1EE-4B3B-9923-0DC97582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F3001C4-A2C3-43B9-AEF6-B6D98EC0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21E29C9-5B03-40FB-BA57-A040C864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4E2E829-ED9D-41E5-BF9E-D5ED42D7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B322C-E8D7-447F-9A7D-A0AA7081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438DF02-6A70-42D4-B93E-8D537BCF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7C7D728-C6EA-43B5-AAB2-BD1338FDE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4F5FD07-DD41-437F-8CFE-68D691144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CD23F49-256D-43C9-9753-B45711718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indent="0" algn="ctr"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13329D3-B658-4C52-BE84-4046C057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1E0438B-389F-4394-AE05-687BBEAC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911E14B-D740-4ED8-BC45-4FE8847A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988B297-8F2B-4785-9EC2-C47A0732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algn="ctr"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DF2763E-E84C-47E4-AF12-67D2BA9A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358FB06-2D3A-4642-9452-C912FAA0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02DF4-20AC-4F5A-B44A-2E5DA121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34607C9-F033-4D25-8F22-64C790DD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AA81FE5-5E9E-47B2-90C5-45E35EF3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DDF371B-15E9-476C-BD6E-3ABE32BE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7C8B6DD-D81C-42AE-B9E7-5E3CCEEA7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43428D0-5B9B-4439-969C-27C3AC9F5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3428C79-B912-4AD9-99FC-F52251358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indent="0" algn="ctr"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C59C5AC-93F3-4E76-952A-CF7087A3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26F1661-2797-4D51-A00F-CB28F159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CF4B1D4-DC72-42B5-99B5-59AC134A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CDAD936-1F13-441A-8A10-B6C61418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852EE-74DF-4DFF-84DA-25FD276A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algn="ctr"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BE3A9A2-9312-4F57-8788-BD38D7BA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A410F5B-6287-488B-85DE-30D2DAC6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48AF174-1574-4D54-8F95-89D5D197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07CD719-0C53-41C0-97C8-1910624C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665C7A3-FC1C-486E-8FAA-F224FFED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EA36B7E-1277-4B89-A07E-C4E76EE9A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62AFC1A-EEE2-49E3-9764-5BEB0669F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D6726E4-2EE7-4E8B-B1C7-07E396927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indent="0" algn="ctr"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4CBB7ED-C558-4CFA-95C1-CF37919E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86D4988-7C00-48D8-B99C-255F16EB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8D57A-481C-49E3-8ADE-7F407E21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3978556-4F9E-437D-8B34-C6FD1E531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987D987-DB30-41A2-A991-DDD1A913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algn="ctr"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9EDABDC-80AF-4812-88CC-B424EE21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221CAEA-9DCE-4AC2-800E-3C69C4FC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706DA82-C6B7-4801-9D3C-4B4F08A3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982C09B-9B87-498E-ABF0-334A76D5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335EB47-EC94-4FE7-97F0-BEA88265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EC70F30-4020-4E1E-9C9A-186C5166D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BAC37CF-F450-4A4A-8FAC-531AFE9C5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9161EA7-0F80-4D15-AE90-D28A630E1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BE0AB-D911-4251-BCAF-CECB5C279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indent="0" algn="ctr"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D2F9A04-8AC3-4873-BA63-88AF3E8F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E168447-B31F-4BD4-838D-0526C56C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B11D691-B0EF-4C00-BC80-86D5D310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2400A39-3758-446F-9771-7A8873A6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algn="ctr"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4E7845B-053C-4315-8EAF-93404C71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C49C17F-DAE9-4D5A-BF40-F93656C8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DCD4F09-1D19-44FA-B009-70FA9874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3AB8CF4-16C1-453C-88CB-19A6FA99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A60E1FC-072C-4869-9314-C54BD9E4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E38984C-26C0-4E68-8E88-BB3D53DD4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35FA4-FFD1-4028-8E4D-A4892CBEF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6D90407-AA3F-4EC5-B2B9-AED4C3E4C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A06779E-0782-40B0-939E-15CB80023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indent="0" algn="ctr"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80D890-CC39-48B4-BC70-713ECED8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2CD4EB9-E328-43CA-9934-C3A9B197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C1FE8FA-9B49-405D-BB75-1A50BD59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FA69CD7-5A58-4969-BCDA-64D7B91E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algn="ctr"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B55BC4A-50E8-4DC1-B654-CB7921A8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02AB213-D125-4794-88D8-EB65750C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8CE4513-A3B3-44DE-97F7-2A37B1B8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AAD3DBA-FF50-43D1-8AFE-6CFB813B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4CF37-B392-4833-BC8E-9185BFA53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009C365-B4D4-409F-B408-2AAE906B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CF7239E-3375-457D-9413-59F9D62BC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51824D6-E785-4981-A6F0-E1436B586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DF88C78-E593-402E-89BF-6B02ACD77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indent="0" algn="ctr"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43D22DD-EE83-4010-8364-37E6BFAD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013DD7B-D2E2-498B-A4AA-D7ED5A3E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681BDA6-2026-4BEC-AF56-576BCD8C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E435C47-4D87-46E2-9589-56CA3104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algn="ctr"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4A586C0-C296-4343-9674-6091BF18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15A013D-1850-431A-AA60-4744129F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indent="0" algn="ctr"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6F02B-4C51-4CA6-9FB7-3737D0800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48B256C-D1BB-42BA-8136-1E156D27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8B9D845-64B3-4551-BBE8-D5FFF926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67F9F44-77D7-49D7-BD20-BD82C870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00D2459-4839-4D3D-8A9F-1923015BC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4FA0E6B-791D-4409-964B-ED2DDC001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5F3CFDD-39B5-4667-8620-D54A20AB8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indent="0" algn="ctr"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BF5632C-E2B9-4050-B383-D9C5AD1F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001C262-4465-47F1-9504-D1970AAE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69DBF5E-8FBD-499D-A904-E19AAC11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7D34A7E-4889-45C0-BAE1-DFEA2965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CAA6B-986E-403C-8600-40CC4F67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algn="ctr"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3D92091-F8E9-4DD3-A002-3F5B39C9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67797F4-C8CC-419A-A7D9-CB53F0CF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4C784EF-7AB6-4B28-AB5B-5015D83B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531A3BF-A9C0-45B9-A4A3-D3DC7CB4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47129F5-2CB6-4D68-ACB8-5DBCBE8D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BF959E5-8B27-45DE-9EE4-D44E93B8C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04A96A1-39C8-4928-B639-76CFD9048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6A14A73-C56F-4970-905C-E897DBF81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indent="0" algn="ctr"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06B0F44-4209-42AC-9A73-4E8F0DFC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A8F73F5-A618-4800-9846-E1768C77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05B7-6CAA-4C51-8687-9E5D4364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09CE0-0CEB-4A48-B3C7-BECD82C9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1662959-4932-4A32-B2EB-D075DB00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B9745FB-03C0-4420-92ED-EEFE1879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algn="ctr"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052A516-E6CB-4F60-B880-21030EE5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17107FC-BDA4-4DC2-B9D1-24A7B04E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A4F2F10-6D6A-43A7-BBF1-8D36B642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0B3433A-E008-4D53-802B-83A617F1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598E0A4-0371-4EC3-9B08-BCF7B65D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1CED7C8-67F3-42EA-B270-D068BED67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00AAC97-C724-463D-965F-8E12FB008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9897DFD-A39C-4194-9A71-BA86A84F3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2C579-9ACC-4A5D-9781-B9E6DFCF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indent="0" algn="ctr"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CAD9CA6-DC63-460C-9A56-80919217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23EA51B-BFE7-4048-8E70-27B8F6B2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DAAF67A-31F6-4DCE-ABC3-096C0978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C655DA5-9B51-46A5-B4C0-F76C2B7C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algn="ctr"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0A6A2B6-613D-4C8A-9D2C-518904ED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3899462-163E-4A6A-9BFE-E116447E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EFDF58D-508E-4932-A4BD-9E5B0FC6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0E3DEE4-BBDE-4903-9968-777F02D4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913301C-5F71-45AB-BEF6-A1ADA687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D29935A-5374-4E15-A426-79BA1A91B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algn="ctr"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3A8B0-77A3-4AC5-B244-14E60FCC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CD4D8BD-6637-497A-8DD2-0D54F0551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095DC13-2F99-4305-B565-83EA88A32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indent="0" algn="ctr"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5D9604E-B778-47AD-997F-A4B4F208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98A751E-9A39-4D79-982A-C0BAEBB2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2F2DF40-2012-4DBC-AA00-4AAE97C2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D36984A-6FAE-4ECB-AC4E-0F175CF0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algn="ctr"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AE0871E-8650-4107-A6F2-6EC79FE8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35DF92C-7430-4185-AAB1-9D469C58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259F2A2-16F9-4436-B493-9942B726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48099CD-76F5-4BCD-A61F-83AC61D0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B2601-3093-46F0-8999-4A4E8116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1C6B57F-F343-4D14-BE15-CAD44516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03E22B5-3B13-4489-AA14-2B8E63448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025E4C5-93E9-4FCD-B4B4-5117C6787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D829C9A-196C-4D01-8766-F1E0624FC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indent="0" algn="ctr"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26A78F6-8178-4AFD-9410-45CC3E3D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DBEB4D0-955A-4BD7-A21F-6448B165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AB1B99A-105A-40F2-AD20-CB0F88DA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9869F72-D0AF-49A8-997E-B45EB7D9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algn="ctr"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8272612-27EF-4016-8968-0E411A0C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F70C099-FEA3-40DC-A075-9E43AC59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634EF-9E2A-4D2C-8EB6-C8D00C19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4BD6805-F3EC-4C47-9F5D-A4F0D322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44EC2CD-6740-4B4B-AA62-EA7C7583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AAD906F-5D26-44E2-8498-57651B01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FBA8F23-1AAE-4864-BF7A-A06F11F9A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6496341-FA53-47F4-9F9B-3FD31F5FD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E172DE1-DE9F-4A08-9DF0-6C318612D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indent="0" algn="ctr"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2A80C15-2EA7-487F-B1A2-C8228523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B946E84-3E6B-49C3-A805-A703CA3A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F87230E-F32E-4579-AE05-118E7264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C3C6FC6-EA16-45C1-B91C-65C0E565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260CD-4AA7-41FF-8DFE-D1B4DC17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algn="ctr"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D0C036E-928E-4AB0-A7B9-C66C349A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AF9C152-7926-4369-AB40-093C2AC8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1C764DB-048B-486C-A1AC-1350FE5E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ECBF8BD-05D6-4044-9837-E7892ADD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F53B107-5F1D-4838-9DA3-348B6AF3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C07D76C-E495-4BB3-A958-65B3D52DC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4F5059B-E0D3-4C90-B338-81599ECFF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E2076B5-67DC-4CF4-A576-A19AC1522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indent="0" algn="ctr"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19B4562-6F73-4D2A-8E91-8177F727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4A8D611-E91B-4858-994D-B17818F1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43CBE-95E0-484E-A0ED-E64691D0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EFBB4E4-7F0B-416D-8654-36E3B35B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118779A-9381-48D5-9FD5-19152966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algn="ctr"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67843F7-B9BF-4D5C-AFB3-A7CCDE3B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27E2136-7CDA-481E-AF44-CBBF1513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45E3649-791C-433F-AE40-0DC97898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BA560EA-F0C8-4F36-BCBD-56AC19BD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B50B5ED-DE27-4114-B767-9199E617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E87D9B1-51E0-43AE-9DC2-A3ECF978F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8FA64C4-7AA9-4D87-AA5C-96C0786F5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3414AF3-0485-4DE2-8593-971A60B24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B2AE6-7F81-4328-82C4-5F856F782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indent="0" algn="ctr"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B2CE55C-FE32-4272-B156-8CA61D50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F7674E9-E07F-4323-BEB0-51EE36B3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D718986-CBA2-4569-AB05-08A5B03C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3D2AEA0-093D-44C6-B72F-A16CEA96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algn="ctr"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EEFBB3D-309B-44EA-ABE0-BBED076B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BB16789-02A8-4E11-83FF-17336CD2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E3D1A1C-86D1-4214-AAE3-8E5DAE33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8A1230D-B4D6-4987-8490-07262CC7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EDDD504-3117-4C2E-B063-BEE1A310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59564DD-FD72-4B69-9FA1-DA32F1159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6DCB4-D606-40AB-8A7F-55E0BB137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0CDAAB5-459C-4478-9C36-128E3F9CC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B805BD5-2187-43EF-A88E-A699CD242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indent="0" algn="ctr"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16E88CB-066B-4B34-87E2-97FE9F29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8211315-BB4C-435C-9647-35BC75ED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BBCF60D-EE5A-4ACB-B580-1340A891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CA17AD4-948B-48B5-A1F1-8A809C2B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algn="ctr"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2739C7C-CADA-4ED6-96C3-F0F0526B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F4D12D2-BC62-4AC7-9097-6372D710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52A5C8C-2F55-40A6-BF27-01C54045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10242F3-B58E-4332-9B96-EE1E4EC2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11E85-BFE2-438A-A54B-B11B912F5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E9A57A4-6EAC-4174-8F7A-735917B7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EAA710C-3F53-4784-BBAC-301BC1666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9A0C24B-FE65-4F7B-A40F-0EC4B01FA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F356978-F11F-4BCC-9880-D51FFA23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indent="0" algn="ctr"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24D6F4A-1CBB-4A78-A260-F6BDFF2C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3D2B6E4-934B-4D6B-B5A3-4CAA040F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86D0561-9ED5-4A9C-9133-5F372E9B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C8DE204-9865-4987-B4D8-E922113C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algn="ctr"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EC60BBE-0C56-40AE-84E8-424138D0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45457AC-B49E-4188-B22B-30200509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668A-1958-49C4-B354-5D6F167A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indent="0" algn="ctr"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2308A-79B1-42E2-A885-837B91814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FC6C5A5-E466-49B2-B1AB-DEF583BD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8EDDD6F-8F2D-41E3-B8CB-87CB39E9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12F6061-8C0B-49A3-8054-DDDDAFEB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3828DC6-3230-4BF3-ACD3-C75C72B2C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CC65912-1F13-40FB-8BB5-76C2EACF9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F6661AC9-08E2-4D8C-BC48-487FC3154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indent="0" algn="ctr"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DA36511-9B83-4DF1-A888-168FA50C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D1BB967-E143-43C6-BE88-2AD50F1B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4DE3769-CFF2-4B5D-A56D-F479E3CF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D01BC66-2C01-4DE7-9353-9235B2E8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5E172-95CB-4895-994D-807ED327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algn="ctr"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0E1BB6C-81DF-4E6C-A87B-BAF06209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23DF72C-DCE6-4113-A186-44CC06F9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92A4E04-4631-40EA-A805-C84499D4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55E3133-2021-4A7D-A0B9-9C719B33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80A1DB9-2D8D-4531-A86A-C4648BD8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A539961-A381-49DA-A401-484D04FF8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A610D29-C68C-4072-8C88-AA266B5D1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F6E0857-1119-4EE4-9E48-C69AE7861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indent="0" algn="ctr"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8026240-6CD3-4A1F-9C07-9FF827BB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52E30F1-9C31-4522-8F14-6E8EF290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0B9F3-6004-4D07-ACCA-C42EAF1A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1A1EF7A-E741-402C-A27A-B9C5967D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3447944-F67C-4E2C-BD2A-D0347EAD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algn="ctr"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FD10E15-0E09-4862-825F-6B7A4C5E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6D2558E-3007-4BEA-805C-9655586A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6E1F3F6-626B-42F2-97F8-EB888726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16E4FF3-B09C-4DCD-BD35-5C6FE308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FFED8AE-9F3B-4BCD-97C6-675A8CD1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5C9192A-CA42-412F-A892-F25C47A5B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05B62BC-59B0-493C-B9C5-A10D91FC0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A07DC7D-B52F-45D6-A3E8-708D7C6A5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253FE-B3E5-4294-89DD-9FA6B7F5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indent="0" algn="ctr"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2530DD4-2B69-4880-BAFA-0B1CC05E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0057BF1-73AA-43FD-A3CC-3D09888E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4628184-8E3D-4CB7-987D-1F6C31D5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BAEADAE-1953-475E-9390-CB86146B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algn="ctr"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B7D4913-1EEE-4018-BC07-F28C777F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AECBC6B-CF15-4FE2-AB2A-EED296EC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CACF080-32AC-480B-955C-498F67FD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FF8DC43-366E-4A90-9961-87474BC9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A69CE45-4D60-44D3-949B-B29AB9C4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7064E0D-3170-4298-AD7B-C1BFAF4F4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algn="ctr"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DC82E-2B9B-4B40-809A-8D258B4F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8273153-1D10-4E4C-8688-242346B4C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38D6BEB-4CCE-4441-B882-E3F5EFD03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indent="0" algn="ctr"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2FCF9DC-FD94-48A2-BAC2-34F79098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2BEC93A-A4D6-4745-AC4B-634EF3EF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8541738-2AA2-4B58-9365-73470C7F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5E1235C-1AB4-4ABB-9089-4F5704A1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algn="ctr"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90EC851-BBBA-49CE-9822-43F61F28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0ACDD26-5540-4F4A-97F1-6CADC193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6369203-A202-4BA5-A41D-E4E02185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6E52544-4388-4B9B-8A7F-42458599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2BDC1-7CD3-4BEB-8322-1E7EE47F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5FC6F32-1860-4E3E-90BE-FCD35757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7654395-60BC-410E-B988-1BBFD4E07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994DEFF-067F-4028-8A7A-9B3CFD634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5FE9167-7144-4499-B621-0BA485F67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indent="0" algn="ctr"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D00B7E2-5271-407E-89AD-74B4C554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51362AB-D46F-45B1-A2CA-B90D601C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21FA5D4-189D-458A-A2AC-0BBB7374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7465B95-E7FC-4A0E-8DCB-AD99B1D3F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algn="ctr"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0ACB5B0-2E39-4B91-AC13-FBC844E3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65B4FE8-3521-4F51-A2B3-8803888A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1E190-7BF0-4744-B1F9-5D933D03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AAB815B-7598-4F60-B0D1-5DAACEBD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378796B-0512-4BEA-8842-5E94CA30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2E5003D-12AE-479E-ABB8-CE5C536F7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D902FF0-AAF5-4CF6-8501-A1ECAE17C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CBB2B25-A3F7-4DCC-913C-8DF079F87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B38BB56-3169-4A4E-850C-886ADAD0C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indent="0" algn="ctr"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20D791C-D42F-4AE6-BBC7-5AACE9E8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07BF39E-B791-4D30-816B-913D81FE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3815A06-BE89-4520-95DC-EB41F845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B25154D-98B8-4E91-9669-211425FB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DE897E-DBC3-4181-ADBA-9BE06489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algn="ctr"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F3907AC-8C51-40D6-B149-7DD1209F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A46E764-96A3-42BE-8902-D1320F7E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C129796-8601-4F28-B57D-ABDB11FF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2CA0E99-EDD3-48FD-8502-04DE3661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600C670-4782-4609-89CE-37C64705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AA6DF08-DB28-46FD-AE1B-2B6E283EC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79319EC-66C4-4A71-AF77-17FAEB019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9B960-D261-4E16-A3B4-8BD9173D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4B1D2-DDD6-445B-9A5C-7D7CD9318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algn="ctr"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FF65-D7D2-40AF-A8B5-DB9B5864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EAC62-BAAF-4171-9271-D3C3A63F2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9CD9F-58A2-4DFA-A4B5-0E8C6AC5B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indent="0" algn="ctr"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84FC1-7196-4CB3-ABC2-737FBDC2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C8B4F-433D-4864-BCE3-14E4BED0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25CBA-6D43-4EE8-BC00-7F301C5A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B2F41-2202-4E22-B84B-040B8E94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algn="ctr"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A859A-8B09-4A65-B37E-C304B0CA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30B75-3B09-4922-A196-1185277D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33D86-5FE4-459E-B1F1-E46071E2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1376E-203C-4423-8C38-7EDD616E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DDFC-1617-46D5-ADE8-CF6DB0EB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207FE-951C-4535-BA58-2A1A9374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F9150-35DE-4E97-9322-735DD9A4B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CB8E3-599D-4D5F-8E08-1EB5B2C8A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D6A14-5E59-413C-9250-50D6FB7CA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indent="0" algn="ctr"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5BA92-F6D7-4E28-BF0C-55A74A4B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D3F83-ECA2-454D-9691-58F0949D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DF865-B4CB-4FE2-898F-0D97C606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67262-8DB2-4B96-86CA-BCF900CE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algn="ctr"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8FCB2-74D9-4844-8E52-0B8B5790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66C96-A09B-485E-BF09-B16B71D1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9F06-BDB8-4761-9C1A-3A150AFA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95B58-F042-4493-B0B8-CC2C4311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A7F1D-64FF-49FA-89F2-337DE5D1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B1922-0C82-4683-912E-83CBB534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7B761-6F79-48DF-8ABD-FB73B51DD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9241C-3DA8-44E3-BD8E-89A2CCFB9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8196F-8DD6-4701-BBC4-1E6D93BBD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indent="0" algn="ctr"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A8BF8-A521-4E28-9C4C-B41C6D24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D706B-E926-4823-A99C-509B27B5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90727-1993-4A56-A009-3DB52EA4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3A808-CC46-486C-A541-598A4A86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BB5B-F931-4556-B27E-7FB18880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algn="ctr"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9E109-617D-47CB-90DA-1503ED11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2788B-2499-4CB0-ADCA-92A4F28D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BE05F-1C38-4B32-A413-BAEDC131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E0484-8990-4D5D-AB2E-CE5B8512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E1BCB-30C4-4240-8F85-E6F6682A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9D686-B0BC-4986-BD02-33D2112A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D1B66-5DA9-4B03-8F04-EBFC75D93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775CE-78F4-43E2-9E12-F12E47612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1240" indent="0" algn="ctr"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3CC044-17FB-427F-B49B-C637FD33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7C211F-C885-450E-8EFA-DF306B6A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角三角形 13"/>
          <p:cNvSpPr/>
          <p:nvPr/>
        </p:nvSpPr>
        <p:spPr>
          <a:xfrm>
            <a:off x="0" y="5791320"/>
            <a:ext cx="3397320" cy="108108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直接连接符 14"/>
          <p:cNvSpPr/>
          <p:nvPr/>
        </p:nvSpPr>
        <p:spPr>
          <a:xfrm>
            <a:off x="0" y="5788080"/>
            <a:ext cx="3397320" cy="1084320"/>
          </a:xfrm>
          <a:prstGeom prst="line">
            <a:avLst/>
          </a:prstGeom>
          <a:ln w="12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727680" y="6407280"/>
            <a:ext cx="1919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70BF-238A-42FB-AA64-AB78A2DFD0EF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379400" y="640728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647200" y="640728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F2E9-4BCE-41EA-978D-A720570684C3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直角三角形 13"/>
          <p:cNvSpPr/>
          <p:nvPr/>
        </p:nvSpPr>
        <p:spPr>
          <a:xfrm>
            <a:off x="0" y="5791320"/>
            <a:ext cx="3397320" cy="108108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直接连接符 14"/>
          <p:cNvSpPr/>
          <p:nvPr/>
        </p:nvSpPr>
        <p:spPr>
          <a:xfrm>
            <a:off x="0" y="5788080"/>
            <a:ext cx="3397320" cy="1084320"/>
          </a:xfrm>
          <a:prstGeom prst="line">
            <a:avLst/>
          </a:prstGeom>
          <a:ln w="12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727680" y="6407280"/>
            <a:ext cx="1919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9CFE-6306-4899-88FD-AD2043885D58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4379400" y="640728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728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00D5-842A-42D3-A07E-403632F573F2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直角三角形 13"/>
          <p:cNvSpPr/>
          <p:nvPr/>
        </p:nvSpPr>
        <p:spPr>
          <a:xfrm>
            <a:off x="0" y="5791320"/>
            <a:ext cx="3397320" cy="108108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直接连接符 14"/>
          <p:cNvSpPr/>
          <p:nvPr/>
        </p:nvSpPr>
        <p:spPr>
          <a:xfrm>
            <a:off x="0" y="5788080"/>
            <a:ext cx="3397320" cy="1084320"/>
          </a:xfrm>
          <a:prstGeom prst="line">
            <a:avLst/>
          </a:prstGeom>
          <a:ln w="12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727680" y="6407280"/>
            <a:ext cx="1919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1D59-9114-42B7-BBD6-EBC0D1A82874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4379400" y="640728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728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01BA-490A-4B33-9CB9-5B9323124852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直角三角形 13"/>
          <p:cNvSpPr/>
          <p:nvPr/>
        </p:nvSpPr>
        <p:spPr>
          <a:xfrm>
            <a:off x="0" y="5791320"/>
            <a:ext cx="3397320" cy="108108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直接连接符 14"/>
          <p:cNvSpPr/>
          <p:nvPr/>
        </p:nvSpPr>
        <p:spPr>
          <a:xfrm>
            <a:off x="0" y="5788080"/>
            <a:ext cx="3397320" cy="1084320"/>
          </a:xfrm>
          <a:prstGeom prst="line">
            <a:avLst/>
          </a:prstGeom>
          <a:ln w="12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727680" y="6407280"/>
            <a:ext cx="1919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3E24-C2F4-4DF3-8DE1-BA8AEF0B2553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4379400" y="640728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728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9B41-FE85-45E7-804C-C6985153BE55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直角三角形 13"/>
          <p:cNvSpPr/>
          <p:nvPr/>
        </p:nvSpPr>
        <p:spPr>
          <a:xfrm>
            <a:off x="0" y="5791320"/>
            <a:ext cx="3397320" cy="108108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直接连接符 14"/>
          <p:cNvSpPr/>
          <p:nvPr/>
        </p:nvSpPr>
        <p:spPr>
          <a:xfrm>
            <a:off x="0" y="5788080"/>
            <a:ext cx="3397320" cy="1084320"/>
          </a:xfrm>
          <a:prstGeom prst="line">
            <a:avLst/>
          </a:prstGeom>
          <a:ln w="12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7"/>
          </p:nvPr>
        </p:nvSpPr>
        <p:spPr>
          <a:xfrm>
            <a:off x="6727680" y="6407280"/>
            <a:ext cx="1919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CE83-B41C-49DE-AB18-F4D14FC6E32B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8"/>
          </p:nvPr>
        </p:nvSpPr>
        <p:spPr>
          <a:xfrm>
            <a:off x="4379400" y="640728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9"/>
          </p:nvPr>
        </p:nvSpPr>
        <p:spPr>
          <a:xfrm>
            <a:off x="8647200" y="640728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D857-7CF7-4923-9D17-DBFB07D9B075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直角三角形 13"/>
          <p:cNvSpPr/>
          <p:nvPr/>
        </p:nvSpPr>
        <p:spPr>
          <a:xfrm>
            <a:off x="0" y="5791320"/>
            <a:ext cx="3397320" cy="108108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直接连接符 14"/>
          <p:cNvSpPr/>
          <p:nvPr/>
        </p:nvSpPr>
        <p:spPr>
          <a:xfrm>
            <a:off x="0" y="5788080"/>
            <a:ext cx="3397320" cy="1084320"/>
          </a:xfrm>
          <a:prstGeom prst="line">
            <a:avLst/>
          </a:prstGeom>
          <a:ln w="12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40"/>
          </p:nvPr>
        </p:nvSpPr>
        <p:spPr>
          <a:xfrm>
            <a:off x="6727680" y="6407280"/>
            <a:ext cx="1919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1153-D0E6-4BF9-8966-CC7366F5582B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41"/>
          </p:nvPr>
        </p:nvSpPr>
        <p:spPr>
          <a:xfrm>
            <a:off x="4379400" y="640728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42"/>
          </p:nvPr>
        </p:nvSpPr>
        <p:spPr>
          <a:xfrm>
            <a:off x="8647200" y="640728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391C-1D6C-4446-850C-C9F6B594E1D1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直角三角形 13"/>
          <p:cNvSpPr/>
          <p:nvPr/>
        </p:nvSpPr>
        <p:spPr>
          <a:xfrm>
            <a:off x="0" y="5791320"/>
            <a:ext cx="3397320" cy="108108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直接连接符 14"/>
          <p:cNvSpPr/>
          <p:nvPr/>
        </p:nvSpPr>
        <p:spPr>
          <a:xfrm>
            <a:off x="0" y="5788080"/>
            <a:ext cx="3397320" cy="1084320"/>
          </a:xfrm>
          <a:prstGeom prst="line">
            <a:avLst/>
          </a:prstGeom>
          <a:ln w="12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3"/>
          </p:nvPr>
        </p:nvSpPr>
        <p:spPr>
          <a:xfrm>
            <a:off x="6727680" y="6407280"/>
            <a:ext cx="1919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5EF7-3361-4056-8B39-82FD516028D6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4"/>
          </p:nvPr>
        </p:nvSpPr>
        <p:spPr>
          <a:xfrm>
            <a:off x="4379400" y="640728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5"/>
          </p:nvPr>
        </p:nvSpPr>
        <p:spPr>
          <a:xfrm>
            <a:off x="8647200" y="640728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25CC-5434-4D01-BB88-51FAC90880D8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直角三角形 13"/>
          <p:cNvSpPr/>
          <p:nvPr/>
        </p:nvSpPr>
        <p:spPr>
          <a:xfrm>
            <a:off x="0" y="5791320"/>
            <a:ext cx="3397320" cy="108108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直接连接符 14"/>
          <p:cNvSpPr/>
          <p:nvPr/>
        </p:nvSpPr>
        <p:spPr>
          <a:xfrm>
            <a:off x="0" y="5788080"/>
            <a:ext cx="3397320" cy="1084320"/>
          </a:xfrm>
          <a:prstGeom prst="line">
            <a:avLst/>
          </a:prstGeom>
          <a:ln w="12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dt" idx="46"/>
          </p:nvPr>
        </p:nvSpPr>
        <p:spPr>
          <a:xfrm>
            <a:off x="6727680" y="6407280"/>
            <a:ext cx="1919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2EB9-EF30-4312-904C-47C7B2E29EB8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ftr" idx="47"/>
          </p:nvPr>
        </p:nvSpPr>
        <p:spPr>
          <a:xfrm>
            <a:off x="4379400" y="640728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sldNum" idx="48"/>
          </p:nvPr>
        </p:nvSpPr>
        <p:spPr>
          <a:xfrm>
            <a:off x="8647200" y="640728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B3E0-2945-4E36-9D5F-ADE61BD5740D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直角三角形 13"/>
          <p:cNvSpPr/>
          <p:nvPr/>
        </p:nvSpPr>
        <p:spPr>
          <a:xfrm>
            <a:off x="0" y="5791320"/>
            <a:ext cx="3397320" cy="108108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直接连接符 14"/>
          <p:cNvSpPr/>
          <p:nvPr/>
        </p:nvSpPr>
        <p:spPr>
          <a:xfrm>
            <a:off x="0" y="5788080"/>
            <a:ext cx="3397320" cy="1084320"/>
          </a:xfrm>
          <a:prstGeom prst="line">
            <a:avLst/>
          </a:prstGeom>
          <a:ln w="12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49"/>
          </p:nvPr>
        </p:nvSpPr>
        <p:spPr>
          <a:xfrm>
            <a:off x="6727680" y="6407280"/>
            <a:ext cx="1919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54CE-5BF7-468E-96A2-67327B283622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50"/>
          </p:nvPr>
        </p:nvSpPr>
        <p:spPr>
          <a:xfrm>
            <a:off x="4379400" y="640728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51"/>
          </p:nvPr>
        </p:nvSpPr>
        <p:spPr>
          <a:xfrm>
            <a:off x="8647200" y="640728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DED2-A0EE-4180-90C7-A745030067D6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直角三角形 13"/>
          <p:cNvSpPr/>
          <p:nvPr/>
        </p:nvSpPr>
        <p:spPr>
          <a:xfrm>
            <a:off x="0" y="5791320"/>
            <a:ext cx="3397320" cy="108108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直接连接符 14"/>
          <p:cNvSpPr/>
          <p:nvPr/>
        </p:nvSpPr>
        <p:spPr>
          <a:xfrm>
            <a:off x="0" y="5788080"/>
            <a:ext cx="3397320" cy="1084320"/>
          </a:xfrm>
          <a:prstGeom prst="line">
            <a:avLst/>
          </a:prstGeom>
          <a:ln w="12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dt" idx="52"/>
          </p:nvPr>
        </p:nvSpPr>
        <p:spPr>
          <a:xfrm>
            <a:off x="6727680" y="6407280"/>
            <a:ext cx="1919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4199-F390-4CE5-8A83-5B06AB497EC6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 type="ftr" idx="53"/>
          </p:nvPr>
        </p:nvSpPr>
        <p:spPr>
          <a:xfrm>
            <a:off x="4379400" y="640728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 type="sldNum" idx="54"/>
          </p:nvPr>
        </p:nvSpPr>
        <p:spPr>
          <a:xfrm>
            <a:off x="8647200" y="640728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8F26-DA9E-4127-B83A-523A95247CDF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直角三角形 13"/>
          <p:cNvSpPr/>
          <p:nvPr/>
        </p:nvSpPr>
        <p:spPr>
          <a:xfrm>
            <a:off x="0" y="5791320"/>
            <a:ext cx="3397320" cy="108108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直接连接符 14"/>
          <p:cNvSpPr/>
          <p:nvPr/>
        </p:nvSpPr>
        <p:spPr>
          <a:xfrm>
            <a:off x="0" y="5788080"/>
            <a:ext cx="3397320" cy="1084320"/>
          </a:xfrm>
          <a:prstGeom prst="line">
            <a:avLst/>
          </a:prstGeom>
          <a:ln w="12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 type="dt" idx="55"/>
          </p:nvPr>
        </p:nvSpPr>
        <p:spPr>
          <a:xfrm>
            <a:off x="6727680" y="6407280"/>
            <a:ext cx="1919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AE73-D6C7-44C5-8B20-9D2EE00D57E5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 type="ftr" idx="56"/>
          </p:nvPr>
        </p:nvSpPr>
        <p:spPr>
          <a:xfrm>
            <a:off x="4379400" y="640728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 type="sldNum" idx="57"/>
          </p:nvPr>
        </p:nvSpPr>
        <p:spPr>
          <a:xfrm>
            <a:off x="8647200" y="640728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68B7-7A8F-44BE-910C-64D854106A21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直角三角形 13"/>
          <p:cNvSpPr/>
          <p:nvPr/>
        </p:nvSpPr>
        <p:spPr>
          <a:xfrm>
            <a:off x="0" y="5791320"/>
            <a:ext cx="3397320" cy="108108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接连接符 14"/>
          <p:cNvSpPr/>
          <p:nvPr/>
        </p:nvSpPr>
        <p:spPr>
          <a:xfrm>
            <a:off x="0" y="5788080"/>
            <a:ext cx="3397320" cy="1084320"/>
          </a:xfrm>
          <a:prstGeom prst="line">
            <a:avLst/>
          </a:prstGeom>
          <a:ln w="12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727680" y="6407280"/>
            <a:ext cx="1919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AC70-053B-4EFA-8DDB-131DF4007773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379400" y="640728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728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CB15-B8C6-40C0-9BF0-2D63CF8BC6DB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直角三角形 13"/>
          <p:cNvSpPr/>
          <p:nvPr/>
        </p:nvSpPr>
        <p:spPr>
          <a:xfrm>
            <a:off x="0" y="5791320"/>
            <a:ext cx="3397320" cy="108108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直接连接符 14"/>
          <p:cNvSpPr/>
          <p:nvPr/>
        </p:nvSpPr>
        <p:spPr>
          <a:xfrm>
            <a:off x="0" y="5788080"/>
            <a:ext cx="3397320" cy="1084320"/>
          </a:xfrm>
          <a:prstGeom prst="line">
            <a:avLst/>
          </a:prstGeom>
          <a:ln w="12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58"/>
          </p:nvPr>
        </p:nvSpPr>
        <p:spPr>
          <a:xfrm>
            <a:off x="6727680" y="6407280"/>
            <a:ext cx="1919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5D83-BE89-4A7B-8E57-3768CAEEB883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59"/>
          </p:nvPr>
        </p:nvSpPr>
        <p:spPr>
          <a:xfrm>
            <a:off x="4379400" y="640728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60"/>
          </p:nvPr>
        </p:nvSpPr>
        <p:spPr>
          <a:xfrm>
            <a:off x="8647200" y="640728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B510-43EA-4F76-A2BF-00B98EA8D920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直角三角形 13"/>
          <p:cNvSpPr/>
          <p:nvPr/>
        </p:nvSpPr>
        <p:spPr>
          <a:xfrm>
            <a:off x="0" y="5791320"/>
            <a:ext cx="3397320" cy="108108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直接连接符 14"/>
          <p:cNvSpPr/>
          <p:nvPr/>
        </p:nvSpPr>
        <p:spPr>
          <a:xfrm>
            <a:off x="0" y="5788080"/>
            <a:ext cx="3397320" cy="1084320"/>
          </a:xfrm>
          <a:prstGeom prst="line">
            <a:avLst/>
          </a:prstGeom>
          <a:ln w="12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61"/>
          </p:nvPr>
        </p:nvSpPr>
        <p:spPr>
          <a:xfrm>
            <a:off x="6727680" y="6407280"/>
            <a:ext cx="1919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F88F-398F-46FB-9D77-8F085CDF7BDF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62"/>
          </p:nvPr>
        </p:nvSpPr>
        <p:spPr>
          <a:xfrm>
            <a:off x="4379400" y="640728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63"/>
          </p:nvPr>
        </p:nvSpPr>
        <p:spPr>
          <a:xfrm>
            <a:off x="8647200" y="640728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20CF-C23D-47A0-A8FC-96BC37E2C9CB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直角三角形 13"/>
          <p:cNvSpPr/>
          <p:nvPr/>
        </p:nvSpPr>
        <p:spPr>
          <a:xfrm>
            <a:off x="0" y="5791320"/>
            <a:ext cx="3397320" cy="108108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直接连接符 14"/>
          <p:cNvSpPr/>
          <p:nvPr/>
        </p:nvSpPr>
        <p:spPr>
          <a:xfrm>
            <a:off x="0" y="5788080"/>
            <a:ext cx="3397320" cy="1084320"/>
          </a:xfrm>
          <a:prstGeom prst="line">
            <a:avLst/>
          </a:prstGeom>
          <a:ln w="12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 type="dt" idx="64"/>
          </p:nvPr>
        </p:nvSpPr>
        <p:spPr>
          <a:xfrm>
            <a:off x="6727680" y="6407280"/>
            <a:ext cx="1919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939C-727C-4BB4-AD4B-9B58A0F5E2C2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 type="ftr" idx="65"/>
          </p:nvPr>
        </p:nvSpPr>
        <p:spPr>
          <a:xfrm>
            <a:off x="4379400" y="640728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 type="sldNum" idx="66"/>
          </p:nvPr>
        </p:nvSpPr>
        <p:spPr>
          <a:xfrm>
            <a:off x="8647200" y="640728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8D99-91CE-4968-B5A5-6C7090167E21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直角三角形 13"/>
          <p:cNvSpPr/>
          <p:nvPr/>
        </p:nvSpPr>
        <p:spPr>
          <a:xfrm>
            <a:off x="0" y="5791320"/>
            <a:ext cx="3397320" cy="108108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直接连接符 14"/>
          <p:cNvSpPr/>
          <p:nvPr/>
        </p:nvSpPr>
        <p:spPr>
          <a:xfrm>
            <a:off x="0" y="5788080"/>
            <a:ext cx="3397320" cy="1084320"/>
          </a:xfrm>
          <a:prstGeom prst="line">
            <a:avLst/>
          </a:prstGeom>
          <a:ln w="12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 type="dt" idx="67"/>
          </p:nvPr>
        </p:nvSpPr>
        <p:spPr>
          <a:xfrm>
            <a:off x="6727680" y="6407280"/>
            <a:ext cx="1919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2A79-05D1-4A9D-B3B6-BB79492E1DB9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 type="ftr" idx="68"/>
          </p:nvPr>
        </p:nvSpPr>
        <p:spPr>
          <a:xfrm>
            <a:off x="4379400" y="640728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 type="sldNum" idx="69"/>
          </p:nvPr>
        </p:nvSpPr>
        <p:spPr>
          <a:xfrm>
            <a:off x="8647200" y="640728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C00F-958F-4445-B9C0-8C0C0E195909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直角三角形 13"/>
          <p:cNvSpPr/>
          <p:nvPr/>
        </p:nvSpPr>
        <p:spPr>
          <a:xfrm>
            <a:off x="0" y="5791320"/>
            <a:ext cx="3397320" cy="108108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直接连接符 14"/>
          <p:cNvSpPr/>
          <p:nvPr/>
        </p:nvSpPr>
        <p:spPr>
          <a:xfrm>
            <a:off x="0" y="5788080"/>
            <a:ext cx="3397320" cy="1084320"/>
          </a:xfrm>
          <a:prstGeom prst="line">
            <a:avLst/>
          </a:prstGeom>
          <a:ln w="12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 type="dt" idx="70"/>
          </p:nvPr>
        </p:nvSpPr>
        <p:spPr>
          <a:xfrm>
            <a:off x="6727680" y="6407280"/>
            <a:ext cx="1919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5C7B-A836-453C-BCC7-E4314A4DFE33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 type="ftr" idx="71"/>
          </p:nvPr>
        </p:nvSpPr>
        <p:spPr>
          <a:xfrm>
            <a:off x="4379400" y="640728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 type="sldNum" idx="72"/>
          </p:nvPr>
        </p:nvSpPr>
        <p:spPr>
          <a:xfrm>
            <a:off x="8647200" y="640728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7D51-A89C-483A-AF5B-605982C989F8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直角三角形 13"/>
          <p:cNvSpPr/>
          <p:nvPr/>
        </p:nvSpPr>
        <p:spPr>
          <a:xfrm>
            <a:off x="0" y="5791320"/>
            <a:ext cx="3397320" cy="108108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直接连接符 14"/>
          <p:cNvSpPr/>
          <p:nvPr/>
        </p:nvSpPr>
        <p:spPr>
          <a:xfrm>
            <a:off x="0" y="5788080"/>
            <a:ext cx="3397320" cy="1084320"/>
          </a:xfrm>
          <a:prstGeom prst="line">
            <a:avLst/>
          </a:prstGeom>
          <a:ln w="12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 type="dt" idx="73"/>
          </p:nvPr>
        </p:nvSpPr>
        <p:spPr>
          <a:xfrm>
            <a:off x="6727680" y="6407280"/>
            <a:ext cx="1919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5BC6-358C-42AF-AAD4-A11ECC2C10A9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 type="ftr" idx="74"/>
          </p:nvPr>
        </p:nvSpPr>
        <p:spPr>
          <a:xfrm>
            <a:off x="4379400" y="640728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 type="sldNum" idx="75"/>
          </p:nvPr>
        </p:nvSpPr>
        <p:spPr>
          <a:xfrm>
            <a:off x="8647200" y="640728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F32D-8C53-4F25-9814-318C6211AF76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直角三角形 13"/>
          <p:cNvSpPr/>
          <p:nvPr/>
        </p:nvSpPr>
        <p:spPr>
          <a:xfrm>
            <a:off x="0" y="5791320"/>
            <a:ext cx="3397320" cy="108108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直接连接符 14"/>
          <p:cNvSpPr/>
          <p:nvPr/>
        </p:nvSpPr>
        <p:spPr>
          <a:xfrm>
            <a:off x="0" y="5788080"/>
            <a:ext cx="3397320" cy="1084320"/>
          </a:xfrm>
          <a:prstGeom prst="line">
            <a:avLst/>
          </a:prstGeom>
          <a:ln w="12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 type="dt" idx="76"/>
          </p:nvPr>
        </p:nvSpPr>
        <p:spPr>
          <a:xfrm>
            <a:off x="6727680" y="6407280"/>
            <a:ext cx="1919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C69D-58E8-403F-B5EE-D4AC4679DBE1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 type="ftr" idx="77"/>
          </p:nvPr>
        </p:nvSpPr>
        <p:spPr>
          <a:xfrm>
            <a:off x="4379400" y="640728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 type="sldNum" idx="78"/>
          </p:nvPr>
        </p:nvSpPr>
        <p:spPr>
          <a:xfrm>
            <a:off x="8647200" y="640728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A4B8-CE5B-431A-90A2-04B409617EC5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直角三角形 13"/>
          <p:cNvSpPr/>
          <p:nvPr/>
        </p:nvSpPr>
        <p:spPr>
          <a:xfrm>
            <a:off x="0" y="5791320"/>
            <a:ext cx="3397320" cy="108108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直接连接符 14"/>
          <p:cNvSpPr/>
          <p:nvPr/>
        </p:nvSpPr>
        <p:spPr>
          <a:xfrm>
            <a:off x="0" y="5788080"/>
            <a:ext cx="3397320" cy="1084320"/>
          </a:xfrm>
          <a:prstGeom prst="line">
            <a:avLst/>
          </a:prstGeom>
          <a:ln w="12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 type="dt" idx="79"/>
          </p:nvPr>
        </p:nvSpPr>
        <p:spPr>
          <a:xfrm>
            <a:off x="6727680" y="6407280"/>
            <a:ext cx="1919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2FE8-9F48-4375-82B2-2B19BB6387E3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 type="ftr" idx="80"/>
          </p:nvPr>
        </p:nvSpPr>
        <p:spPr>
          <a:xfrm>
            <a:off x="4379400" y="640728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5"/>
          <p:cNvSpPr>
            <a:spLocks noGrp="1"/>
          </p:cNvSpPr>
          <p:nvPr>
            <p:ph type="sldNum" idx="81"/>
          </p:nvPr>
        </p:nvSpPr>
        <p:spPr>
          <a:xfrm>
            <a:off x="8647200" y="640728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8895-9BBF-4421-BC65-7587B9801869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直角三角形 13"/>
          <p:cNvSpPr/>
          <p:nvPr/>
        </p:nvSpPr>
        <p:spPr>
          <a:xfrm>
            <a:off x="0" y="5791320"/>
            <a:ext cx="3397320" cy="108108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直接连接符 14"/>
          <p:cNvSpPr/>
          <p:nvPr/>
        </p:nvSpPr>
        <p:spPr>
          <a:xfrm>
            <a:off x="0" y="5788080"/>
            <a:ext cx="3397320" cy="1084320"/>
          </a:xfrm>
          <a:prstGeom prst="line">
            <a:avLst/>
          </a:prstGeom>
          <a:ln w="12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 type="dt" idx="82"/>
          </p:nvPr>
        </p:nvSpPr>
        <p:spPr>
          <a:xfrm>
            <a:off x="6727680" y="6407280"/>
            <a:ext cx="1919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6F9F-BF9E-43DE-8633-686CF85F020C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 type="ftr" idx="83"/>
          </p:nvPr>
        </p:nvSpPr>
        <p:spPr>
          <a:xfrm>
            <a:off x="4379400" y="640728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 type="sldNum" idx="84"/>
          </p:nvPr>
        </p:nvSpPr>
        <p:spPr>
          <a:xfrm>
            <a:off x="8647200" y="640728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82F6-81A4-4198-82FF-B06748E52EEE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直角三角形 13"/>
          <p:cNvSpPr/>
          <p:nvPr/>
        </p:nvSpPr>
        <p:spPr>
          <a:xfrm>
            <a:off x="0" y="5791320"/>
            <a:ext cx="3397320" cy="108108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直接连接符 14"/>
          <p:cNvSpPr/>
          <p:nvPr/>
        </p:nvSpPr>
        <p:spPr>
          <a:xfrm>
            <a:off x="0" y="5788080"/>
            <a:ext cx="3397320" cy="1084320"/>
          </a:xfrm>
          <a:prstGeom prst="line">
            <a:avLst/>
          </a:prstGeom>
          <a:ln w="12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 type="dt" idx="85"/>
          </p:nvPr>
        </p:nvSpPr>
        <p:spPr>
          <a:xfrm>
            <a:off x="6727680" y="6407280"/>
            <a:ext cx="1919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672D4-7273-4A35-8291-E4C0C1DB94E0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 type="ftr" idx="86"/>
          </p:nvPr>
        </p:nvSpPr>
        <p:spPr>
          <a:xfrm>
            <a:off x="4379400" y="640728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 type="sldNum" idx="87"/>
          </p:nvPr>
        </p:nvSpPr>
        <p:spPr>
          <a:xfrm>
            <a:off x="8647200" y="640728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D5AA-AF6F-420C-B0C9-A3CD9567B94A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直角三角形 13"/>
          <p:cNvSpPr/>
          <p:nvPr/>
        </p:nvSpPr>
        <p:spPr>
          <a:xfrm>
            <a:off x="0" y="5791320"/>
            <a:ext cx="3397320" cy="108108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接连接符 14"/>
          <p:cNvSpPr/>
          <p:nvPr/>
        </p:nvSpPr>
        <p:spPr>
          <a:xfrm>
            <a:off x="0" y="5788080"/>
            <a:ext cx="3397320" cy="1084320"/>
          </a:xfrm>
          <a:prstGeom prst="line">
            <a:avLst/>
          </a:prstGeom>
          <a:ln w="12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727680" y="6407280"/>
            <a:ext cx="1919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1367-1957-42D6-BAD3-CA02DFA2C29F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379400" y="640728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647200" y="640728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5AED-00CB-4AD4-85BA-F2BE8D7C49EB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直角三角形 13"/>
          <p:cNvSpPr/>
          <p:nvPr/>
        </p:nvSpPr>
        <p:spPr>
          <a:xfrm>
            <a:off x="0" y="5791320"/>
            <a:ext cx="3397320" cy="108108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直接连接符 14"/>
          <p:cNvSpPr/>
          <p:nvPr/>
        </p:nvSpPr>
        <p:spPr>
          <a:xfrm>
            <a:off x="0" y="5788080"/>
            <a:ext cx="3397320" cy="1084320"/>
          </a:xfrm>
          <a:prstGeom prst="line">
            <a:avLst/>
          </a:prstGeom>
          <a:ln w="12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 type="dt" idx="88"/>
          </p:nvPr>
        </p:nvSpPr>
        <p:spPr>
          <a:xfrm>
            <a:off x="6727680" y="6407280"/>
            <a:ext cx="1919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8E4C-B58A-48A8-97E2-86B62C623588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 type="ftr" idx="89"/>
          </p:nvPr>
        </p:nvSpPr>
        <p:spPr>
          <a:xfrm>
            <a:off x="4379400" y="640728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 type="sldNum" idx="90"/>
          </p:nvPr>
        </p:nvSpPr>
        <p:spPr>
          <a:xfrm>
            <a:off x="8647200" y="640728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A473-27D1-48AD-A0C9-855C63E0A3AF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直角三角形 13"/>
          <p:cNvSpPr/>
          <p:nvPr/>
        </p:nvSpPr>
        <p:spPr>
          <a:xfrm>
            <a:off x="0" y="5791320"/>
            <a:ext cx="3397320" cy="108108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直接连接符 14"/>
          <p:cNvSpPr/>
          <p:nvPr/>
        </p:nvSpPr>
        <p:spPr>
          <a:xfrm>
            <a:off x="0" y="5788080"/>
            <a:ext cx="3397320" cy="1084320"/>
          </a:xfrm>
          <a:prstGeom prst="line">
            <a:avLst/>
          </a:prstGeom>
          <a:ln w="12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 type="dt" idx="91"/>
          </p:nvPr>
        </p:nvSpPr>
        <p:spPr>
          <a:xfrm>
            <a:off x="6727680" y="6407280"/>
            <a:ext cx="1919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843B-5324-4A60-A5ED-172F96DD1544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 type="ftr" idx="92"/>
          </p:nvPr>
        </p:nvSpPr>
        <p:spPr>
          <a:xfrm>
            <a:off x="4379400" y="640728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5"/>
          <p:cNvSpPr>
            <a:spLocks noGrp="1"/>
          </p:cNvSpPr>
          <p:nvPr>
            <p:ph type="sldNum" idx="93"/>
          </p:nvPr>
        </p:nvSpPr>
        <p:spPr>
          <a:xfrm>
            <a:off x="8647200" y="640728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28CE-718B-4A4B-BF8D-5FDAE539A1BC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直角三角形 13"/>
          <p:cNvSpPr/>
          <p:nvPr/>
        </p:nvSpPr>
        <p:spPr>
          <a:xfrm>
            <a:off x="0" y="5791320"/>
            <a:ext cx="3397320" cy="108108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直接连接符 14"/>
          <p:cNvSpPr/>
          <p:nvPr/>
        </p:nvSpPr>
        <p:spPr>
          <a:xfrm>
            <a:off x="0" y="5788080"/>
            <a:ext cx="3397320" cy="1084320"/>
          </a:xfrm>
          <a:prstGeom prst="line">
            <a:avLst/>
          </a:prstGeom>
          <a:ln w="12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 type="dt" idx="94"/>
          </p:nvPr>
        </p:nvSpPr>
        <p:spPr>
          <a:xfrm>
            <a:off x="6727680" y="6407280"/>
            <a:ext cx="1919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BBB8-8D75-4EE3-BB7B-9601E6549AE3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 type="ftr" idx="95"/>
          </p:nvPr>
        </p:nvSpPr>
        <p:spPr>
          <a:xfrm>
            <a:off x="4379400" y="640728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5"/>
          <p:cNvSpPr>
            <a:spLocks noGrp="1"/>
          </p:cNvSpPr>
          <p:nvPr>
            <p:ph type="sldNum" idx="96"/>
          </p:nvPr>
        </p:nvSpPr>
        <p:spPr>
          <a:xfrm>
            <a:off x="8647200" y="640728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F773-9A4F-4AB0-82DA-FBD205118AD8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直角三角形 13"/>
          <p:cNvSpPr/>
          <p:nvPr/>
        </p:nvSpPr>
        <p:spPr>
          <a:xfrm>
            <a:off x="0" y="5791320"/>
            <a:ext cx="3397320" cy="108108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直接连接符 14"/>
          <p:cNvSpPr/>
          <p:nvPr/>
        </p:nvSpPr>
        <p:spPr>
          <a:xfrm>
            <a:off x="0" y="5788080"/>
            <a:ext cx="3397320" cy="1084320"/>
          </a:xfrm>
          <a:prstGeom prst="line">
            <a:avLst/>
          </a:prstGeom>
          <a:ln w="12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 type="dt" idx="97"/>
          </p:nvPr>
        </p:nvSpPr>
        <p:spPr>
          <a:xfrm>
            <a:off x="6727680" y="6407280"/>
            <a:ext cx="1919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E38D-A68E-4659-BEDA-8A03C4DF64D5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 type="ftr" idx="98"/>
          </p:nvPr>
        </p:nvSpPr>
        <p:spPr>
          <a:xfrm>
            <a:off x="4379400" y="640728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 type="sldNum" idx="99"/>
          </p:nvPr>
        </p:nvSpPr>
        <p:spPr>
          <a:xfrm>
            <a:off x="8647200" y="640728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1141-3B16-4E82-BCAA-0FFE79078CBB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直角三角形 13"/>
          <p:cNvSpPr/>
          <p:nvPr/>
        </p:nvSpPr>
        <p:spPr>
          <a:xfrm>
            <a:off x="0" y="5791320"/>
            <a:ext cx="3397320" cy="108108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直接连接符 14"/>
          <p:cNvSpPr/>
          <p:nvPr/>
        </p:nvSpPr>
        <p:spPr>
          <a:xfrm>
            <a:off x="0" y="5788080"/>
            <a:ext cx="3397320" cy="1084320"/>
          </a:xfrm>
          <a:prstGeom prst="line">
            <a:avLst/>
          </a:prstGeom>
          <a:ln w="12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 type="dt" idx="100"/>
          </p:nvPr>
        </p:nvSpPr>
        <p:spPr>
          <a:xfrm>
            <a:off x="6727680" y="6407280"/>
            <a:ext cx="1919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606B-DBA1-4176-A43B-8B6941EB8CA3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 type="ftr" idx="101"/>
          </p:nvPr>
        </p:nvSpPr>
        <p:spPr>
          <a:xfrm>
            <a:off x="4379400" y="640728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5"/>
          <p:cNvSpPr>
            <a:spLocks noGrp="1"/>
          </p:cNvSpPr>
          <p:nvPr>
            <p:ph type="sldNum" idx="102"/>
          </p:nvPr>
        </p:nvSpPr>
        <p:spPr>
          <a:xfrm>
            <a:off x="8647200" y="640728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B0D1-A63E-48B7-9D74-5C2FD3602779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直角三角形 13"/>
          <p:cNvSpPr/>
          <p:nvPr/>
        </p:nvSpPr>
        <p:spPr>
          <a:xfrm>
            <a:off x="0" y="5791320"/>
            <a:ext cx="3397320" cy="108108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直接连接符 14"/>
          <p:cNvSpPr/>
          <p:nvPr/>
        </p:nvSpPr>
        <p:spPr>
          <a:xfrm>
            <a:off x="0" y="5788080"/>
            <a:ext cx="3397320" cy="1084320"/>
          </a:xfrm>
          <a:prstGeom prst="line">
            <a:avLst/>
          </a:prstGeom>
          <a:ln w="12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 type="dt" idx="103"/>
          </p:nvPr>
        </p:nvSpPr>
        <p:spPr>
          <a:xfrm>
            <a:off x="6727680" y="6407280"/>
            <a:ext cx="1919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12E2-1009-4F79-A296-5F0613F96323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 type="ftr" idx="104"/>
          </p:nvPr>
        </p:nvSpPr>
        <p:spPr>
          <a:xfrm>
            <a:off x="4379400" y="640728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 type="sldNum" idx="105"/>
          </p:nvPr>
        </p:nvSpPr>
        <p:spPr>
          <a:xfrm>
            <a:off x="8647200" y="640728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2F01-AD09-4B47-9821-F0811015E5BA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直角三角形 13"/>
          <p:cNvSpPr/>
          <p:nvPr/>
        </p:nvSpPr>
        <p:spPr>
          <a:xfrm>
            <a:off x="0" y="5791320"/>
            <a:ext cx="3397320" cy="108108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直接连接符 14"/>
          <p:cNvSpPr/>
          <p:nvPr/>
        </p:nvSpPr>
        <p:spPr>
          <a:xfrm>
            <a:off x="0" y="5788080"/>
            <a:ext cx="3397320" cy="1084320"/>
          </a:xfrm>
          <a:prstGeom prst="line">
            <a:avLst/>
          </a:prstGeom>
          <a:ln w="12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 type="dt" idx="106"/>
          </p:nvPr>
        </p:nvSpPr>
        <p:spPr>
          <a:xfrm>
            <a:off x="6727680" y="6407280"/>
            <a:ext cx="1919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42B0-08E6-4B10-A276-45FE6E370E76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 type="ftr" idx="107"/>
          </p:nvPr>
        </p:nvSpPr>
        <p:spPr>
          <a:xfrm>
            <a:off x="4379400" y="640728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5"/>
          <p:cNvSpPr>
            <a:spLocks noGrp="1"/>
          </p:cNvSpPr>
          <p:nvPr>
            <p:ph type="sldNum" idx="108"/>
          </p:nvPr>
        </p:nvSpPr>
        <p:spPr>
          <a:xfrm>
            <a:off x="8647200" y="640728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A8E7-E178-4984-94EC-6640828FF937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直角三角形 13"/>
          <p:cNvSpPr/>
          <p:nvPr/>
        </p:nvSpPr>
        <p:spPr>
          <a:xfrm>
            <a:off x="0" y="5791320"/>
            <a:ext cx="3397320" cy="108108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直接连接符 14"/>
          <p:cNvSpPr/>
          <p:nvPr/>
        </p:nvSpPr>
        <p:spPr>
          <a:xfrm>
            <a:off x="0" y="5788080"/>
            <a:ext cx="3397320" cy="1084320"/>
          </a:xfrm>
          <a:prstGeom prst="line">
            <a:avLst/>
          </a:prstGeom>
          <a:ln w="12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 type="dt" idx="109"/>
          </p:nvPr>
        </p:nvSpPr>
        <p:spPr>
          <a:xfrm>
            <a:off x="6727680" y="6407280"/>
            <a:ext cx="1919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3AB4-1B88-43EC-AD84-7C1F761D5DDD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 type="ftr" idx="110"/>
          </p:nvPr>
        </p:nvSpPr>
        <p:spPr>
          <a:xfrm>
            <a:off x="4379400" y="640728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5"/>
          <p:cNvSpPr>
            <a:spLocks noGrp="1"/>
          </p:cNvSpPr>
          <p:nvPr>
            <p:ph type="sldNum" idx="111"/>
          </p:nvPr>
        </p:nvSpPr>
        <p:spPr>
          <a:xfrm>
            <a:off x="8647200" y="640728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2D75-2997-43AE-A204-F2DC5B5F0969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直角三角形 13"/>
          <p:cNvSpPr/>
          <p:nvPr/>
        </p:nvSpPr>
        <p:spPr>
          <a:xfrm>
            <a:off x="0" y="5791320"/>
            <a:ext cx="3397320" cy="108108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直接连接符 14"/>
          <p:cNvSpPr/>
          <p:nvPr/>
        </p:nvSpPr>
        <p:spPr>
          <a:xfrm>
            <a:off x="0" y="5788080"/>
            <a:ext cx="3397320" cy="1084320"/>
          </a:xfrm>
          <a:prstGeom prst="line">
            <a:avLst/>
          </a:prstGeom>
          <a:ln w="12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 type="dt" idx="112"/>
          </p:nvPr>
        </p:nvSpPr>
        <p:spPr>
          <a:xfrm>
            <a:off x="6727680" y="6407280"/>
            <a:ext cx="1919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2ED7-6E8A-4F13-AAD6-3DD88E640293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 type="ftr" idx="113"/>
          </p:nvPr>
        </p:nvSpPr>
        <p:spPr>
          <a:xfrm>
            <a:off x="4379400" y="640728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 type="sldNum" idx="114"/>
          </p:nvPr>
        </p:nvSpPr>
        <p:spPr>
          <a:xfrm>
            <a:off x="8647200" y="640728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6F94-5CC5-4670-BC5A-9C377E89CFE7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直角三角形 13"/>
          <p:cNvSpPr/>
          <p:nvPr/>
        </p:nvSpPr>
        <p:spPr>
          <a:xfrm>
            <a:off x="0" y="5791320"/>
            <a:ext cx="3397320" cy="108108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直接连接符 14"/>
          <p:cNvSpPr/>
          <p:nvPr/>
        </p:nvSpPr>
        <p:spPr>
          <a:xfrm>
            <a:off x="0" y="5788080"/>
            <a:ext cx="3397320" cy="1084320"/>
          </a:xfrm>
          <a:prstGeom prst="line">
            <a:avLst/>
          </a:prstGeom>
          <a:ln w="12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 type="dt" idx="115"/>
          </p:nvPr>
        </p:nvSpPr>
        <p:spPr>
          <a:xfrm>
            <a:off x="6727680" y="6407280"/>
            <a:ext cx="1919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9F7C-22ED-4966-9132-D585BA00C2A1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 type="ftr" idx="116"/>
          </p:nvPr>
        </p:nvSpPr>
        <p:spPr>
          <a:xfrm>
            <a:off x="4379400" y="640728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5"/>
          <p:cNvSpPr>
            <a:spLocks noGrp="1"/>
          </p:cNvSpPr>
          <p:nvPr>
            <p:ph type="sldNum" idx="117"/>
          </p:nvPr>
        </p:nvSpPr>
        <p:spPr>
          <a:xfrm>
            <a:off x="8647200" y="640728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74A0-323D-490E-BFCA-27C286DF822D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直角三角形 13"/>
          <p:cNvSpPr/>
          <p:nvPr/>
        </p:nvSpPr>
        <p:spPr>
          <a:xfrm>
            <a:off x="0" y="5791320"/>
            <a:ext cx="3397320" cy="108108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14"/>
          <p:cNvSpPr/>
          <p:nvPr/>
        </p:nvSpPr>
        <p:spPr>
          <a:xfrm>
            <a:off x="0" y="5788080"/>
            <a:ext cx="3397320" cy="1084320"/>
          </a:xfrm>
          <a:prstGeom prst="line">
            <a:avLst/>
          </a:prstGeom>
          <a:ln w="12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6727680" y="6407280"/>
            <a:ext cx="1919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690A-4478-4F7A-8A33-9911712AEE3E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4379400" y="640728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728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6DDF-1993-4B47-A525-B9F65D2A65B5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直角三角形 13"/>
          <p:cNvSpPr/>
          <p:nvPr/>
        </p:nvSpPr>
        <p:spPr>
          <a:xfrm>
            <a:off x="0" y="5791320"/>
            <a:ext cx="3397320" cy="108108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直接连接符 14"/>
          <p:cNvSpPr/>
          <p:nvPr/>
        </p:nvSpPr>
        <p:spPr>
          <a:xfrm>
            <a:off x="0" y="5788080"/>
            <a:ext cx="3397320" cy="1084320"/>
          </a:xfrm>
          <a:prstGeom prst="line">
            <a:avLst/>
          </a:prstGeom>
          <a:ln w="12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 type="dt" idx="118"/>
          </p:nvPr>
        </p:nvSpPr>
        <p:spPr>
          <a:xfrm>
            <a:off x="6727680" y="6407280"/>
            <a:ext cx="1919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0799-D21D-412D-9A3A-C72C9BDC3AED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 type="ftr" idx="119"/>
          </p:nvPr>
        </p:nvSpPr>
        <p:spPr>
          <a:xfrm>
            <a:off x="4379400" y="640728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5"/>
          <p:cNvSpPr>
            <a:spLocks noGrp="1"/>
          </p:cNvSpPr>
          <p:nvPr>
            <p:ph type="sldNum" idx="120"/>
          </p:nvPr>
        </p:nvSpPr>
        <p:spPr>
          <a:xfrm>
            <a:off x="8647200" y="640728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979C-A48C-4888-922E-D1C530CD99CD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直角三角形 13"/>
          <p:cNvSpPr/>
          <p:nvPr/>
        </p:nvSpPr>
        <p:spPr>
          <a:xfrm>
            <a:off x="0" y="5791320"/>
            <a:ext cx="3397320" cy="108108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直接连接符 14"/>
          <p:cNvSpPr/>
          <p:nvPr/>
        </p:nvSpPr>
        <p:spPr>
          <a:xfrm>
            <a:off x="0" y="5788080"/>
            <a:ext cx="3397320" cy="1084320"/>
          </a:xfrm>
          <a:prstGeom prst="line">
            <a:avLst/>
          </a:prstGeom>
          <a:ln w="12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 type="dt" idx="121"/>
          </p:nvPr>
        </p:nvSpPr>
        <p:spPr>
          <a:xfrm>
            <a:off x="6727680" y="6407280"/>
            <a:ext cx="1919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65D9-651C-4F99-AFB6-FA0D207530FD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 type="ftr" idx="122"/>
          </p:nvPr>
        </p:nvSpPr>
        <p:spPr>
          <a:xfrm>
            <a:off x="4379400" y="640728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 type="sldNum" idx="123"/>
          </p:nvPr>
        </p:nvSpPr>
        <p:spPr>
          <a:xfrm>
            <a:off x="8647200" y="640728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6AD5-8858-4C06-9FBD-3911FCE2151D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直角三角形 13"/>
          <p:cNvSpPr/>
          <p:nvPr/>
        </p:nvSpPr>
        <p:spPr>
          <a:xfrm>
            <a:off x="0" y="5791320"/>
            <a:ext cx="3397320" cy="108108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直接连接符 14"/>
          <p:cNvSpPr/>
          <p:nvPr/>
        </p:nvSpPr>
        <p:spPr>
          <a:xfrm>
            <a:off x="0" y="5788080"/>
            <a:ext cx="3397320" cy="1084320"/>
          </a:xfrm>
          <a:prstGeom prst="line">
            <a:avLst/>
          </a:prstGeom>
          <a:ln w="12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 type="dt" idx="124"/>
          </p:nvPr>
        </p:nvSpPr>
        <p:spPr>
          <a:xfrm>
            <a:off x="6727680" y="6407280"/>
            <a:ext cx="1919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B364-3658-4C84-B194-6EB15019F642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PlaceHolder 4"/>
          <p:cNvSpPr>
            <a:spLocks noGrp="1"/>
          </p:cNvSpPr>
          <p:nvPr>
            <p:ph type="ftr" idx="125"/>
          </p:nvPr>
        </p:nvSpPr>
        <p:spPr>
          <a:xfrm>
            <a:off x="4379400" y="640728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5"/>
          <p:cNvSpPr>
            <a:spLocks noGrp="1"/>
          </p:cNvSpPr>
          <p:nvPr>
            <p:ph type="sldNum" idx="126"/>
          </p:nvPr>
        </p:nvSpPr>
        <p:spPr>
          <a:xfrm>
            <a:off x="8647200" y="640728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0813-DEDA-4D8D-A820-36789DCB1F3A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直角三角形 13"/>
          <p:cNvSpPr/>
          <p:nvPr/>
        </p:nvSpPr>
        <p:spPr>
          <a:xfrm>
            <a:off x="0" y="5791320"/>
            <a:ext cx="3397320" cy="108108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直接连接符 14"/>
          <p:cNvSpPr/>
          <p:nvPr/>
        </p:nvSpPr>
        <p:spPr>
          <a:xfrm>
            <a:off x="0" y="5788080"/>
            <a:ext cx="3397320" cy="1084320"/>
          </a:xfrm>
          <a:prstGeom prst="line">
            <a:avLst/>
          </a:prstGeom>
          <a:ln w="12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0" name="PlaceHolder 3"/>
          <p:cNvSpPr>
            <a:spLocks noGrp="1"/>
          </p:cNvSpPr>
          <p:nvPr>
            <p:ph type="dt" idx="127"/>
          </p:nvPr>
        </p:nvSpPr>
        <p:spPr>
          <a:xfrm>
            <a:off x="6727680" y="6407280"/>
            <a:ext cx="1919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C0A3-1283-4E21-A1DD-E7EB32F96AAB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PlaceHolder 4"/>
          <p:cNvSpPr>
            <a:spLocks noGrp="1"/>
          </p:cNvSpPr>
          <p:nvPr>
            <p:ph type="ftr" idx="128"/>
          </p:nvPr>
        </p:nvSpPr>
        <p:spPr>
          <a:xfrm>
            <a:off x="4379400" y="640728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5"/>
          <p:cNvSpPr>
            <a:spLocks noGrp="1"/>
          </p:cNvSpPr>
          <p:nvPr>
            <p:ph type="sldNum" idx="129"/>
          </p:nvPr>
        </p:nvSpPr>
        <p:spPr>
          <a:xfrm>
            <a:off x="8647200" y="640728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9483-2EDA-4BE5-81F2-7E76BC22FEA0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直角三角形 13"/>
          <p:cNvSpPr/>
          <p:nvPr/>
        </p:nvSpPr>
        <p:spPr>
          <a:xfrm>
            <a:off x="0" y="5791320"/>
            <a:ext cx="3397320" cy="108108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直接连接符 14"/>
          <p:cNvSpPr/>
          <p:nvPr/>
        </p:nvSpPr>
        <p:spPr>
          <a:xfrm>
            <a:off x="0" y="5788080"/>
            <a:ext cx="3397320" cy="1084320"/>
          </a:xfrm>
          <a:prstGeom prst="line">
            <a:avLst/>
          </a:prstGeom>
          <a:ln w="12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 type="dt" idx="130"/>
          </p:nvPr>
        </p:nvSpPr>
        <p:spPr>
          <a:xfrm>
            <a:off x="6727680" y="6407280"/>
            <a:ext cx="1919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66B5D-2199-463D-8865-A2C230F9066F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PlaceHolder 4"/>
          <p:cNvSpPr>
            <a:spLocks noGrp="1"/>
          </p:cNvSpPr>
          <p:nvPr>
            <p:ph type="ftr" idx="131"/>
          </p:nvPr>
        </p:nvSpPr>
        <p:spPr>
          <a:xfrm>
            <a:off x="4379400" y="640728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5"/>
          <p:cNvSpPr>
            <a:spLocks noGrp="1"/>
          </p:cNvSpPr>
          <p:nvPr>
            <p:ph type="sldNum" idx="132"/>
          </p:nvPr>
        </p:nvSpPr>
        <p:spPr>
          <a:xfrm>
            <a:off x="8647200" y="640728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526E-008F-4093-8D60-B8FEF7FC3177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直角三角形 13"/>
          <p:cNvSpPr/>
          <p:nvPr/>
        </p:nvSpPr>
        <p:spPr>
          <a:xfrm>
            <a:off x="0" y="5791320"/>
            <a:ext cx="3397320" cy="108108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直接连接符 14"/>
          <p:cNvSpPr/>
          <p:nvPr/>
        </p:nvSpPr>
        <p:spPr>
          <a:xfrm>
            <a:off x="0" y="5788080"/>
            <a:ext cx="3397320" cy="1084320"/>
          </a:xfrm>
          <a:prstGeom prst="line">
            <a:avLst/>
          </a:prstGeom>
          <a:ln w="12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 type="dt" idx="133"/>
          </p:nvPr>
        </p:nvSpPr>
        <p:spPr>
          <a:xfrm>
            <a:off x="6727680" y="6407280"/>
            <a:ext cx="1919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E14B-C8C6-4EFE-ACE3-9C40A01E1332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PlaceHolder 4"/>
          <p:cNvSpPr>
            <a:spLocks noGrp="1"/>
          </p:cNvSpPr>
          <p:nvPr>
            <p:ph type="ftr" idx="134"/>
          </p:nvPr>
        </p:nvSpPr>
        <p:spPr>
          <a:xfrm>
            <a:off x="4379400" y="640728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5"/>
          <p:cNvSpPr>
            <a:spLocks noGrp="1"/>
          </p:cNvSpPr>
          <p:nvPr>
            <p:ph type="sldNum" idx="135"/>
          </p:nvPr>
        </p:nvSpPr>
        <p:spPr>
          <a:xfrm>
            <a:off x="8647200" y="640728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9709-E464-4672-BD4F-BA8A7C2DEDEA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直角三角形 13"/>
          <p:cNvSpPr/>
          <p:nvPr/>
        </p:nvSpPr>
        <p:spPr>
          <a:xfrm>
            <a:off x="0" y="5791320"/>
            <a:ext cx="3397320" cy="108108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直接连接符 14"/>
          <p:cNvSpPr/>
          <p:nvPr/>
        </p:nvSpPr>
        <p:spPr>
          <a:xfrm>
            <a:off x="0" y="5788080"/>
            <a:ext cx="3397320" cy="1084320"/>
          </a:xfrm>
          <a:prstGeom prst="line">
            <a:avLst/>
          </a:prstGeom>
          <a:ln w="12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 type="dt" idx="136"/>
          </p:nvPr>
        </p:nvSpPr>
        <p:spPr>
          <a:xfrm>
            <a:off x="6727680" y="6407280"/>
            <a:ext cx="1919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6D4D-D5D5-4558-95D8-B3DAE599A7BA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PlaceHolder 4"/>
          <p:cNvSpPr>
            <a:spLocks noGrp="1"/>
          </p:cNvSpPr>
          <p:nvPr>
            <p:ph type="ftr" idx="137"/>
          </p:nvPr>
        </p:nvSpPr>
        <p:spPr>
          <a:xfrm>
            <a:off x="4379400" y="640728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5"/>
          <p:cNvSpPr>
            <a:spLocks noGrp="1"/>
          </p:cNvSpPr>
          <p:nvPr>
            <p:ph type="sldNum" idx="138"/>
          </p:nvPr>
        </p:nvSpPr>
        <p:spPr>
          <a:xfrm>
            <a:off x="8647200" y="640728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BB0E-4F41-4508-8A12-835285ACE045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直角三角形 13"/>
          <p:cNvSpPr/>
          <p:nvPr/>
        </p:nvSpPr>
        <p:spPr>
          <a:xfrm>
            <a:off x="0" y="5791320"/>
            <a:ext cx="3397320" cy="108108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直接连接符 14"/>
          <p:cNvSpPr/>
          <p:nvPr/>
        </p:nvSpPr>
        <p:spPr>
          <a:xfrm>
            <a:off x="0" y="5788080"/>
            <a:ext cx="3397320" cy="1084320"/>
          </a:xfrm>
          <a:prstGeom prst="line">
            <a:avLst/>
          </a:prstGeom>
          <a:ln w="12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 type="dt" idx="139"/>
          </p:nvPr>
        </p:nvSpPr>
        <p:spPr>
          <a:xfrm>
            <a:off x="6727680" y="6407280"/>
            <a:ext cx="1919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196F-58D9-4B0B-B887-C76EBDFFA420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 type="ftr" idx="140"/>
          </p:nvPr>
        </p:nvSpPr>
        <p:spPr>
          <a:xfrm>
            <a:off x="4379400" y="640728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PlaceHolder 5"/>
          <p:cNvSpPr>
            <a:spLocks noGrp="1"/>
          </p:cNvSpPr>
          <p:nvPr>
            <p:ph type="sldNum" idx="141"/>
          </p:nvPr>
        </p:nvSpPr>
        <p:spPr>
          <a:xfrm>
            <a:off x="8647200" y="640728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DDC6-9472-4CE2-884F-4DF3AE5B4793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直角三角形 13"/>
          <p:cNvSpPr/>
          <p:nvPr/>
        </p:nvSpPr>
        <p:spPr>
          <a:xfrm>
            <a:off x="0" y="5791320"/>
            <a:ext cx="3397320" cy="108108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直接连接符 14"/>
          <p:cNvSpPr/>
          <p:nvPr/>
        </p:nvSpPr>
        <p:spPr>
          <a:xfrm>
            <a:off x="0" y="5788080"/>
            <a:ext cx="3397320" cy="1084320"/>
          </a:xfrm>
          <a:prstGeom prst="line">
            <a:avLst/>
          </a:prstGeom>
          <a:ln w="12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 type="dt" idx="142"/>
          </p:nvPr>
        </p:nvSpPr>
        <p:spPr>
          <a:xfrm>
            <a:off x="6727680" y="6407280"/>
            <a:ext cx="1919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B898-AB84-4F3A-8675-29AF4DE919F9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 type="ftr" idx="143"/>
          </p:nvPr>
        </p:nvSpPr>
        <p:spPr>
          <a:xfrm>
            <a:off x="4379400" y="640728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PlaceHolder 5"/>
          <p:cNvSpPr>
            <a:spLocks noGrp="1"/>
          </p:cNvSpPr>
          <p:nvPr>
            <p:ph type="sldNum" idx="144"/>
          </p:nvPr>
        </p:nvSpPr>
        <p:spPr>
          <a:xfrm>
            <a:off x="8647200" y="640728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A535-A16C-45AC-B135-92AD04BA67B0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直角三角形 13"/>
          <p:cNvSpPr/>
          <p:nvPr/>
        </p:nvSpPr>
        <p:spPr>
          <a:xfrm>
            <a:off x="0" y="5791320"/>
            <a:ext cx="3397320" cy="108108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14"/>
          <p:cNvSpPr/>
          <p:nvPr/>
        </p:nvSpPr>
        <p:spPr>
          <a:xfrm>
            <a:off x="0" y="5788080"/>
            <a:ext cx="3397320" cy="1084320"/>
          </a:xfrm>
          <a:prstGeom prst="line">
            <a:avLst/>
          </a:prstGeom>
          <a:ln w="12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727680" y="6407280"/>
            <a:ext cx="1919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A64C-EAFE-4D20-A222-F47843B5F775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4379400" y="640728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728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D2CA-CF2A-44D4-8492-09A0777E3960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直角三角形 13"/>
          <p:cNvSpPr/>
          <p:nvPr/>
        </p:nvSpPr>
        <p:spPr>
          <a:xfrm>
            <a:off x="0" y="5791320"/>
            <a:ext cx="3397320" cy="108108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直接连接符 14"/>
          <p:cNvSpPr/>
          <p:nvPr/>
        </p:nvSpPr>
        <p:spPr>
          <a:xfrm>
            <a:off x="0" y="5788080"/>
            <a:ext cx="3397320" cy="1084320"/>
          </a:xfrm>
          <a:prstGeom prst="line">
            <a:avLst/>
          </a:prstGeom>
          <a:ln w="12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727680" y="6407280"/>
            <a:ext cx="1919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AE28-5C7A-4AE2-99B9-32C709118197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4379400" y="640728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728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177A-550E-433E-9953-543739F31F14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直角三角形 13"/>
          <p:cNvSpPr/>
          <p:nvPr/>
        </p:nvSpPr>
        <p:spPr>
          <a:xfrm>
            <a:off x="0" y="5791320"/>
            <a:ext cx="3397320" cy="108108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接连接符 14"/>
          <p:cNvSpPr/>
          <p:nvPr/>
        </p:nvSpPr>
        <p:spPr>
          <a:xfrm>
            <a:off x="0" y="5788080"/>
            <a:ext cx="3397320" cy="1084320"/>
          </a:xfrm>
          <a:prstGeom prst="line">
            <a:avLst/>
          </a:prstGeom>
          <a:ln w="12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727680" y="6407280"/>
            <a:ext cx="1919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75F1-9393-4083-9CF5-C94DCCAE036E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4379400" y="640728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728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1928-1E04-48F8-928C-C7F99CE7C05A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直角三角形 13"/>
          <p:cNvSpPr/>
          <p:nvPr/>
        </p:nvSpPr>
        <p:spPr>
          <a:xfrm>
            <a:off x="0" y="5791320"/>
            <a:ext cx="3397320" cy="108108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14"/>
          <p:cNvSpPr/>
          <p:nvPr/>
        </p:nvSpPr>
        <p:spPr>
          <a:xfrm>
            <a:off x="0" y="5788080"/>
            <a:ext cx="3397320" cy="1084320"/>
          </a:xfrm>
          <a:prstGeom prst="line">
            <a:avLst/>
          </a:prstGeom>
          <a:ln w="12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6727680" y="6407280"/>
            <a:ext cx="1919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F830E-3BA9-406F-883E-F7914DD4ED80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4379400" y="640728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728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6C50-E27F-4771-AE5A-6A4B8E3FE3AE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直角三角形 13"/>
          <p:cNvSpPr/>
          <p:nvPr/>
        </p:nvSpPr>
        <p:spPr>
          <a:xfrm>
            <a:off x="0" y="5791320"/>
            <a:ext cx="3397320" cy="108108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直接连接符 14"/>
          <p:cNvSpPr/>
          <p:nvPr/>
        </p:nvSpPr>
        <p:spPr>
          <a:xfrm>
            <a:off x="0" y="5788080"/>
            <a:ext cx="3397320" cy="1084320"/>
          </a:xfrm>
          <a:prstGeom prst="line">
            <a:avLst/>
          </a:prstGeom>
          <a:ln w="1224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2440" indent="-228600">
              <a:spcBef>
                <a:spcPts val="400"/>
              </a:spcBef>
              <a:buClr>
                <a:srgbClr val="2da2bf"/>
              </a:buClr>
              <a:buSzPct val="68000"/>
              <a:buFont typeface="Verdana"/>
              <a:buChar char="◦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604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6727680" y="6407280"/>
            <a:ext cx="19195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F955-BE2F-47BB-AB53-EAD9BCB0FFD5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4379400" y="640728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728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76CD-F60B-4846-A442-53006D6642D2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206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6" name="TextBox 5"/>
          <p:cNvSpPr/>
          <p:nvPr/>
        </p:nvSpPr>
        <p:spPr>
          <a:xfrm>
            <a:off x="7462800" y="620640"/>
            <a:ext cx="862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华文行楷"/>
                <a:ea typeface="华文行楷"/>
              </a:rPr>
              <a:t>生命因你而动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7" name="命运交响曲.mp3" descr="命运交响曲"/>
          <p:cNvPicPr/>
          <p:nvPr/>
        </p:nvPicPr>
        <p:blipFill>
          <a:blip r:embed="rId2"/>
          <a:stretch/>
        </p:blipFill>
        <p:spPr>
          <a:xfrm>
            <a:off x="7524720" y="6022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06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06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6554" fill="hold"/>
                                        <p:tgtEl>
                                          <p:spTgt spid="20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4665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4646"/>
                </a:solidFill>
                <a:latin typeface="Lucida Sans Unicode"/>
              </a:rPr>
              <a:t>学生心智的引领者</a:t>
            </a:r>
            <a:br>
              <a:rPr sz="3200"/>
            </a:br>
            <a:r>
              <a:rPr b="1" lang="zh-CN" sz="3200" spc="-1" strike="noStrike">
                <a:solidFill>
                  <a:srgbClr val="464646"/>
                </a:solidFill>
                <a:latin typeface="Lucida Sans Unicode"/>
              </a:rPr>
              <a:t>          “所有的生命都是值得尊重的”</a:t>
            </a:r>
            <a:br>
              <a:rPr sz="3200"/>
            </a:br>
            <a:endParaRPr b="1" lang="en-US" sz="32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2089" name="Picture 2" descr=""/>
          <p:cNvPicPr/>
          <p:nvPr/>
        </p:nvPicPr>
        <p:blipFill>
          <a:blip r:embed="rId1"/>
          <a:stretch/>
        </p:blipFill>
        <p:spPr>
          <a:xfrm>
            <a:off x="2916360" y="2565360"/>
            <a:ext cx="3333600" cy="2219400"/>
          </a:xfrm>
          <a:prstGeom prst="rect">
            <a:avLst/>
          </a:prstGeom>
          <a:ln w="0">
            <a:noFill/>
          </a:ln>
        </p:spPr>
      </p:pic>
      <p:sp>
        <p:nvSpPr>
          <p:cNvPr id="2090" name="TextBox 6"/>
          <p:cNvSpPr/>
          <p:nvPr/>
        </p:nvSpPr>
        <p:spPr>
          <a:xfrm>
            <a:off x="2843280" y="133992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鼓励的语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TextBox 7"/>
          <p:cNvSpPr/>
          <p:nvPr/>
        </p:nvSpPr>
        <p:spPr>
          <a:xfrm>
            <a:off x="1260360" y="2060640"/>
            <a:ext cx="719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TextBox 8"/>
          <p:cNvSpPr/>
          <p:nvPr/>
        </p:nvSpPr>
        <p:spPr>
          <a:xfrm>
            <a:off x="7236000" y="1989000"/>
            <a:ext cx="50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TextBox 9"/>
          <p:cNvSpPr/>
          <p:nvPr/>
        </p:nvSpPr>
        <p:spPr>
          <a:xfrm>
            <a:off x="3348000" y="515772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鞭策的严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665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4646"/>
                </a:solidFill>
                <a:latin typeface="Lucida Sans Unicode"/>
              </a:rPr>
              <a:t>学生生活的指导者</a:t>
            </a:r>
            <a:br>
              <a:rPr sz="3200"/>
            </a:br>
            <a:endParaRPr b="1" lang="en-US" sz="32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2095" name="Picture 3" descr=""/>
          <p:cNvPicPr/>
          <p:nvPr/>
        </p:nvPicPr>
        <p:blipFill>
          <a:blip r:embed="rId1"/>
          <a:stretch/>
        </p:blipFill>
        <p:spPr>
          <a:xfrm>
            <a:off x="6656400" y="0"/>
            <a:ext cx="2487600" cy="2881440"/>
          </a:xfrm>
          <a:prstGeom prst="rect">
            <a:avLst/>
          </a:prstGeom>
          <a:ln w="0">
            <a:noFill/>
          </a:ln>
        </p:spPr>
      </p:pic>
      <p:pic>
        <p:nvPicPr>
          <p:cNvPr id="2096" name="Picture 4" descr=""/>
          <p:cNvPicPr/>
          <p:nvPr/>
        </p:nvPicPr>
        <p:blipFill>
          <a:blip r:embed="rId2"/>
          <a:stretch/>
        </p:blipFill>
        <p:spPr>
          <a:xfrm rot="21300000">
            <a:off x="4617720" y="2825640"/>
            <a:ext cx="4538520" cy="4573800"/>
          </a:xfrm>
          <a:prstGeom prst="rect">
            <a:avLst/>
          </a:prstGeom>
          <a:ln w="0">
            <a:noFill/>
          </a:ln>
        </p:spPr>
      </p:pic>
      <p:pic>
        <p:nvPicPr>
          <p:cNvPr id="2097" name="Picture 5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4249800" cy="4737240"/>
          </a:xfrm>
          <a:prstGeom prst="rect">
            <a:avLst/>
          </a:prstGeom>
          <a:ln w="0">
            <a:noFill/>
          </a:ln>
        </p:spPr>
      </p:pic>
      <p:sp>
        <p:nvSpPr>
          <p:cNvPr id="2098" name="Text Box 6"/>
          <p:cNvSpPr/>
          <p:nvPr/>
        </p:nvSpPr>
        <p:spPr>
          <a:xfrm>
            <a:off x="682560" y="2637000"/>
            <a:ext cx="381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光明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江生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汪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余佳佳  崔明礼  江正应         吴艳霞  江善东  彭胜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文铭   陈旺华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江善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Text Box 7"/>
          <p:cNvSpPr/>
          <p:nvPr/>
        </p:nvSpPr>
        <p:spPr>
          <a:xfrm>
            <a:off x="5364000" y="3933720"/>
            <a:ext cx="352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生祥       张可九  张艳方融中   方晴   杨旭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正勤 黄显丹 朱仁革   许方家 何沛沛 聂林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杨胜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李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Text Box 8"/>
          <p:cNvSpPr/>
          <p:nvPr/>
        </p:nvSpPr>
        <p:spPr>
          <a:xfrm>
            <a:off x="5149800" y="1806480"/>
            <a:ext cx="1222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Text Box 9"/>
          <p:cNvSpPr/>
          <p:nvPr/>
        </p:nvSpPr>
        <p:spPr>
          <a:xfrm>
            <a:off x="7524720" y="907920"/>
            <a:ext cx="140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进生 江善东 徐最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2" name="Picture 10" descr=""/>
          <p:cNvPicPr/>
          <p:nvPr/>
        </p:nvPicPr>
        <p:blipFill>
          <a:blip r:embed="rId4"/>
          <a:stretch/>
        </p:blipFill>
        <p:spPr>
          <a:xfrm>
            <a:off x="4572000" y="476280"/>
            <a:ext cx="2244600" cy="2376360"/>
          </a:xfrm>
          <a:prstGeom prst="rect">
            <a:avLst/>
          </a:prstGeom>
          <a:ln w="0">
            <a:noFill/>
          </a:ln>
        </p:spPr>
      </p:pic>
      <p:sp>
        <p:nvSpPr>
          <p:cNvPr id="2103" name="Text Box 11"/>
          <p:cNvSpPr/>
          <p:nvPr/>
        </p:nvSpPr>
        <p:spPr>
          <a:xfrm rot="21420000">
            <a:off x="4644720" y="974880"/>
            <a:ext cx="201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青青  吴 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陈  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杨  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"/>
          <p:cNvSpPr txBox="1"/>
          <p:nvPr/>
        </p:nvSpPr>
        <p:spPr>
          <a:xfrm rot="21274200">
            <a:off x="1427040" y="1718640"/>
            <a:ext cx="1944720" cy="5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38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zh-CN" sz="2700" spc="-1" strike="noStrike">
                <a:solidFill>
                  <a:srgbClr val="000000"/>
                </a:solidFill>
                <a:latin typeface="华文琥珀"/>
                <a:ea typeface="华文琥珀"/>
              </a:rPr>
              <a:t>早恋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38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464646"/>
                </a:solidFill>
                <a:latin typeface="Lucida Sans Unicode"/>
              </a:rPr>
              <a:t>常见问题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6" name="内容占位符 1"/>
          <p:cNvSpPr/>
          <p:nvPr/>
        </p:nvSpPr>
        <p:spPr>
          <a:xfrm rot="1341600">
            <a:off x="2842920" y="1628640"/>
            <a:ext cx="194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38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700" spc="-1" strike="noStrike">
                <a:solidFill>
                  <a:srgbClr val="000000"/>
                </a:solidFill>
                <a:latin typeface="华文琥珀"/>
                <a:ea typeface="华文琥珀"/>
              </a:rPr>
              <a:t>游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38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内容占位符 1"/>
          <p:cNvSpPr/>
          <p:nvPr/>
        </p:nvSpPr>
        <p:spPr>
          <a:xfrm rot="21274200">
            <a:off x="2152800" y="4671720"/>
            <a:ext cx="1944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38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700" spc="-1" strike="noStrike">
                <a:solidFill>
                  <a:srgbClr val="000000"/>
                </a:solidFill>
                <a:latin typeface="华文琥珀"/>
                <a:ea typeface="华文琥珀"/>
              </a:rPr>
              <a:t>打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38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38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内容占位符 1"/>
          <p:cNvSpPr/>
          <p:nvPr/>
        </p:nvSpPr>
        <p:spPr>
          <a:xfrm rot="19030800">
            <a:off x="4390920" y="3296880"/>
            <a:ext cx="194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38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38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700" spc="-1" strike="noStrike">
                <a:solidFill>
                  <a:srgbClr val="000000"/>
                </a:solidFill>
                <a:latin typeface="华文琥珀"/>
                <a:ea typeface="华文琥珀"/>
              </a:rPr>
              <a:t>不听课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38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内容占位符 1"/>
          <p:cNvSpPr/>
          <p:nvPr/>
        </p:nvSpPr>
        <p:spPr>
          <a:xfrm rot="21274200">
            <a:off x="5025600" y="5319360"/>
            <a:ext cx="194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38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700" spc="-1" strike="noStrike">
                <a:solidFill>
                  <a:srgbClr val="000000"/>
                </a:solidFill>
                <a:latin typeface="华文琥珀"/>
                <a:ea typeface="华文琥珀"/>
              </a:rPr>
              <a:t>作业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38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内容占位符 1"/>
          <p:cNvSpPr/>
          <p:nvPr/>
        </p:nvSpPr>
        <p:spPr>
          <a:xfrm rot="286200">
            <a:off x="1946160" y="3250800"/>
            <a:ext cx="194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38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700" spc="-1" strike="noStrike">
                <a:solidFill>
                  <a:srgbClr val="000000"/>
                </a:solidFill>
                <a:latin typeface="华文琥珀"/>
                <a:ea typeface="华文琥珀"/>
              </a:rPr>
              <a:t>性格问题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38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内容占位符 1"/>
          <p:cNvSpPr/>
          <p:nvPr/>
        </p:nvSpPr>
        <p:spPr>
          <a:xfrm rot="21274200">
            <a:off x="4451040" y="2367000"/>
            <a:ext cx="194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38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700" spc="-1" strike="noStrike">
                <a:solidFill>
                  <a:srgbClr val="000000"/>
                </a:solidFill>
                <a:latin typeface="华文琥珀"/>
                <a:ea typeface="华文琥珀"/>
              </a:rPr>
              <a:t>行为习惯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38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内容占位符 1"/>
          <p:cNvSpPr/>
          <p:nvPr/>
        </p:nvSpPr>
        <p:spPr>
          <a:xfrm rot="21274200">
            <a:off x="6537240" y="409572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38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700" spc="-1" strike="noStrike">
                <a:solidFill>
                  <a:srgbClr val="000000"/>
                </a:solidFill>
                <a:latin typeface="华文琥珀"/>
                <a:ea typeface="华文琥珀"/>
              </a:rPr>
              <a:t>家长沟通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38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内容占位符 1"/>
          <p:cNvSpPr/>
          <p:nvPr/>
        </p:nvSpPr>
        <p:spPr>
          <a:xfrm rot="21274200">
            <a:off x="5797440" y="1413000"/>
            <a:ext cx="19432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38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700" spc="-1" strike="noStrike">
                <a:solidFill>
                  <a:srgbClr val="000000"/>
                </a:solidFill>
                <a:latin typeface="华文琥珀"/>
                <a:ea typeface="华文琥珀"/>
              </a:rPr>
              <a:t>手机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38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内容占位符 1"/>
          <p:cNvSpPr/>
          <p:nvPr/>
        </p:nvSpPr>
        <p:spPr>
          <a:xfrm rot="21441600">
            <a:off x="826560" y="4005000"/>
            <a:ext cx="1944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38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700" spc="-1" strike="noStrike">
                <a:solidFill>
                  <a:srgbClr val="000000"/>
                </a:solidFill>
                <a:latin typeface="华文琥珀"/>
                <a:ea typeface="华文琥珀"/>
              </a:rPr>
              <a:t>安全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38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"/>
          <p:cNvSpPr txBox="1"/>
          <p:nvPr/>
        </p:nvSpPr>
        <p:spPr>
          <a:xfrm>
            <a:off x="609480" y="1123920"/>
            <a:ext cx="7778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3800">
              <a:lnSpc>
                <a:spcPct val="8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0" lang="zh-CN" sz="2300" spc="-1" strike="noStrike">
                <a:solidFill>
                  <a:srgbClr val="000000"/>
                </a:solidFill>
                <a:latin typeface="Lucida Sans Unicode"/>
              </a:rPr>
              <a:t>教育的目的要让受教育者健康快乐的成长，教育的任务是要为受教育者终身的幸福奠定基础。一所学校不同与任何一所工厂，工厂的产品是无生命的，不合格的可以返工重做；而学校是培养人的地方，她要对一个个鲜活的生命负责，她要用教育的爱洒满每个人的未来路。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3800">
              <a:lnSpc>
                <a:spcPct val="8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0" lang="zh-CN" sz="2300" spc="-1" strike="noStrike">
                <a:solidFill>
                  <a:srgbClr val="000000"/>
                </a:solidFill>
                <a:latin typeface="Lucida Sans Unicode"/>
              </a:rPr>
              <a:t>大家都知道中央台的这样一则公益广告，一位年轻的母亲为年迈的婆婆洗脚，转身却看到自己幼小的孩子泼泼洒洒地端来一盆洗脚水，仰着小脸稚气的说：妈妈，您也泡泡脚吧！广告词写道：把爱传递下去。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3800">
              <a:lnSpc>
                <a:spcPct val="8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0" lang="zh-CN" sz="2300" spc="-1" strike="noStrike">
                <a:solidFill>
                  <a:srgbClr val="000000"/>
                </a:solidFill>
                <a:latin typeface="Lucida Sans Unicode"/>
              </a:rPr>
              <a:t>在家里父母是孩子的榜样，在学校里老师就是孩子的榜样。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3800">
              <a:lnSpc>
                <a:spcPct val="8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0" lang="zh-CN" sz="2300" spc="-1" strike="noStrike">
                <a:solidFill>
                  <a:srgbClr val="000000"/>
                </a:solidFill>
                <a:latin typeface="Lucida Sans Unicode"/>
              </a:rPr>
              <a:t>清晨，你总能早早地微笑地迎接每个孩子走进教室，你的学生就会懂得守时，就会在对你的敬佩中产生对自己迟到的内疚，连偷懒的孩子也不敢拖拉抄袭作业，你的早读课也就少了一些训斥，一天的好心情由此开始。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38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3800">
              <a:lnSpc>
                <a:spcPct val="8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4646"/>
                </a:solidFill>
                <a:latin typeface="Lucida Sans Unicode"/>
              </a:rPr>
              <a:t>让教育把爱传递下去</a:t>
            </a:r>
            <a:endParaRPr b="1" lang="en-US" sz="28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"/>
          <p:cNvSpPr txBox="1"/>
          <p:nvPr/>
        </p:nvSpPr>
        <p:spPr>
          <a:xfrm>
            <a:off x="755280" y="1268280"/>
            <a:ext cx="800244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3800">
              <a:spcBef>
                <a:spcPts val="400"/>
              </a:spcBef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zh-CN" sz="2300" spc="-1" strike="noStrike">
                <a:solidFill>
                  <a:srgbClr val="000000"/>
                </a:solidFill>
                <a:latin typeface="Lucida Sans Unicode"/>
              </a:rPr>
              <a:t>课前三分钟，你总是静静地站在教室门前，让孩子平息课间的骚动，在期待中开始你精彩的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45</a:t>
            </a:r>
            <a:r>
              <a:rPr b="0" lang="zh-CN" sz="2300" spc="-1" strike="noStrike">
                <a:solidFill>
                  <a:srgbClr val="000000"/>
                </a:solidFill>
                <a:latin typeface="Lucida Sans Unicode"/>
              </a:rPr>
              <a:t>分钟。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3800">
              <a:spcBef>
                <a:spcPts val="400"/>
              </a:spcBef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0" lang="zh-CN" sz="2300" spc="-1" strike="noStrike">
                <a:solidFill>
                  <a:srgbClr val="000000"/>
                </a:solidFill>
                <a:latin typeface="Lucida Sans Unicode"/>
              </a:rPr>
              <a:t>你不要为孩子课堂的小动作大动肝火，孩子吗，个个都不样，总有好动的，用责备的目光看着他，用问题的形式提醒他，用幽默的方式制止他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2300" spc="-1" strike="noStrike">
                <a:solidFill>
                  <a:srgbClr val="000000"/>
                </a:solidFill>
                <a:latin typeface="Lucida Sans Unicode"/>
              </a:rPr>
              <a:t>这都是爱心的批评，孩子会因此学会涵养和冷静。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3800">
              <a:spcBef>
                <a:spcPts val="400"/>
              </a:spcBef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         </a:t>
            </a:r>
            <a:r>
              <a:rPr b="0" lang="zh-CN" sz="2300" spc="-1" strike="noStrike">
                <a:solidFill>
                  <a:srgbClr val="000000"/>
                </a:solidFill>
                <a:latin typeface="Lucida Sans Unicode"/>
              </a:rPr>
              <a:t>别轻视作业上那几句批语，它会胜过千万句叮咛，孩子会认为你是最关心他的，最欣赏他的。爱你，他就会爱你上的每一节课，爱你这个学科。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3800">
              <a:spcBef>
                <a:spcPts val="400"/>
              </a:spcBef>
              <a:tabLst>
                <a:tab algn="l" pos="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Lucida Sans Unicode"/>
              </a:rPr>
              <a:t>          </a:t>
            </a:r>
            <a:r>
              <a:rPr b="0" lang="zh-CN" sz="2300" spc="-1" strike="noStrike">
                <a:solidFill>
                  <a:srgbClr val="000000"/>
                </a:solidFill>
                <a:latin typeface="Lucida Sans Unicode"/>
              </a:rPr>
              <a:t>微笑的面对孩子的质疑，耐心的解答孩子的问题，礼貌的请孩子发言，孩子就会懂得人与人要相互尊重，相互学习，相互帮助。他也会以同样的态度对待同学、朋友、家人和比他更小的孩子。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3800">
              <a:spcBef>
                <a:spcPts val="400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3800">
              <a:spcBef>
                <a:spcPts val="400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4646"/>
                </a:solidFill>
                <a:latin typeface="Lucida Sans Unicode"/>
              </a:rPr>
              <a:t>让教育把爱传递下去</a:t>
            </a:r>
            <a:endParaRPr b="1" lang="en-US" sz="28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"/>
          <p:cNvSpPr txBox="1"/>
          <p:nvPr/>
        </p:nvSpPr>
        <p:spPr>
          <a:xfrm>
            <a:off x="826920" y="1052280"/>
            <a:ext cx="7707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3800">
              <a:spcBef>
                <a:spcPts val="400"/>
              </a:spcBef>
              <a:tabLst>
                <a:tab algn="l" pos="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en-US" sz="3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3800">
              <a:spcBef>
                <a:spcPts val="400"/>
              </a:spcBef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         </a:t>
            </a:r>
            <a:r>
              <a:rPr b="0" lang="zh-CN" sz="2300" spc="-1" strike="noStrike">
                <a:solidFill>
                  <a:srgbClr val="000000"/>
                </a:solidFill>
                <a:latin typeface="Lucida Sans Unicode"/>
              </a:rPr>
              <a:t>当你感谢课代表帮你发本子，当你感谢值日生把黑板擦干净，当你感谢孩子们听好每一节课，当你感谢孩子们在雨天为你撑伞，当你感谢孩子们勇于承担错误，孩子们就感受到了平等的爱，学会了感恩、学会了感动，学会带着感激的心情去爱自己的父母、老师和同学，爱身边的一草一木，爱世间的一切美丽的东西；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3800">
              <a:spcBef>
                <a:spcPts val="400"/>
              </a:spcBef>
              <a:tabLst>
                <a:tab algn="l" pos="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0" lang="zh-CN" sz="2300" spc="-1" strike="noStrike">
                <a:solidFill>
                  <a:srgbClr val="000000"/>
                </a:solidFill>
                <a:latin typeface="Lucida Sans Unicode"/>
              </a:rPr>
              <a:t>当你随手捡起地上的纸屑，当你将未放好的自行车挪齐，当你和孩子一道排队上车，当你遇到红灯时耐心等待，孩子就会知道不仅要爱班级、爱学校，还要爱这个社会。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3800">
              <a:spcBef>
                <a:spcPts val="400"/>
              </a:spcBef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4646"/>
                </a:solidFill>
                <a:latin typeface="Lucida Sans Unicode"/>
              </a:rPr>
              <a:t>让教育把爱传递下去</a:t>
            </a:r>
            <a:endParaRPr b="1" lang="en-US" sz="28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"/>
          <p:cNvSpPr txBox="1"/>
          <p:nvPr/>
        </p:nvSpPr>
        <p:spPr>
          <a:xfrm>
            <a:off x="610920" y="982800"/>
            <a:ext cx="79232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3800">
              <a:spcBef>
                <a:spcPts val="400"/>
              </a:spcBef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3800">
              <a:spcBef>
                <a:spcPts val="400"/>
              </a:spcBef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0" lang="zh-CN" sz="2300" spc="-1" strike="noStrike">
                <a:solidFill>
                  <a:srgbClr val="000000"/>
                </a:solidFill>
                <a:latin typeface="Lucida Sans Unicode"/>
              </a:rPr>
              <a:t>当你为生病的孩子倒杯热水，当你和悲痛的孩子一道流泪，当你为身患绝症的孩子捐款，当你因孩子的进步和成绩拥抱他，孩子会感到爱心是多么的宽广、无私，这颗爱的种子会在他们的心底发芽，生长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3800">
              <a:spcBef>
                <a:spcPts val="400"/>
              </a:spcBef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0" lang="zh-CN" sz="2300" spc="-1" strike="noStrike">
                <a:solidFill>
                  <a:srgbClr val="000000"/>
                </a:solidFill>
                <a:latin typeface="Lucida Sans Unicode"/>
              </a:rPr>
              <a:t>老师啊，你的一言一行都是在播种，播一颗爱的种子，就会长一颗爱的苗，结好多爱的果实，这爱让人善良、让人顽强、让人自信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2300" spc="-1" strike="noStrike">
                <a:solidFill>
                  <a:srgbClr val="000000"/>
                </a:solidFill>
                <a:latin typeface="Lucida Sans Unicode"/>
              </a:rPr>
              <a:t>孩子就在这些爱的细节中，创造着生命的财富，丰富着人生的道路。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3800">
              <a:spcBef>
                <a:spcPts val="400"/>
              </a:spcBef>
              <a:tabLst>
                <a:tab algn="l" pos="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0" lang="zh-CN" sz="2300" spc="-1" strike="noStrike">
                <a:solidFill>
                  <a:srgbClr val="000000"/>
                </a:solidFill>
                <a:latin typeface="Lucida Sans Unicode"/>
              </a:rPr>
              <a:t>英语有句名言：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Love can waken love. </a:t>
            </a:r>
            <a:r>
              <a:rPr b="0" lang="zh-CN" sz="2300" spc="-1" strike="noStrike">
                <a:solidFill>
                  <a:srgbClr val="000000"/>
                </a:solidFill>
                <a:latin typeface="Lucida Sans Unicode"/>
              </a:rPr>
              <a:t>（爱可以唤起爱），让我们教育者将这爱传递下去。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3800">
              <a:spcBef>
                <a:spcPts val="400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4646"/>
                </a:solidFill>
                <a:latin typeface="Lucida Sans Unicode"/>
              </a:rPr>
              <a:t>让教育把爱传递下去</a:t>
            </a:r>
            <a:endParaRPr b="1" lang="en-US" sz="28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"/>
          <p:cNvSpPr txBox="1"/>
          <p:nvPr/>
        </p:nvSpPr>
        <p:spPr>
          <a:xfrm>
            <a:off x="1042560" y="1557000"/>
            <a:ext cx="2521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br>
              <a:rPr sz="2600"/>
            </a:br>
            <a:r>
              <a:rPr b="0" lang="zh-CN" sz="1800" spc="-1" strike="noStrike">
                <a:solidFill>
                  <a:srgbClr val="000000"/>
                </a:solidFill>
                <a:latin typeface="Lucida Sans Unicode"/>
              </a:rPr>
              <a:t>国产：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Lucida Sans Unicode"/>
              </a:rPr>
              <a:t>美丽的大脚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》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Lucida Sans Unicode"/>
              </a:rPr>
              <a:t>冯志远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》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Lucida Sans Unicode"/>
              </a:rPr>
              <a:t>一个都不能少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》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Lucida Sans Unicode"/>
              </a:rPr>
              <a:t>凤凰琴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》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Lucida Sans Unicode"/>
              </a:rPr>
              <a:t>天那边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》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Lucida Sans Unicode"/>
              </a:rPr>
              <a:t>烛光里的微笑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》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Lucida Sans Unicode"/>
              </a:rPr>
              <a:t>上一当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》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Lucida Sans Unicode"/>
              </a:rPr>
              <a:t>泉水叮咚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》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Lucida Sans Unicode"/>
              </a:rPr>
              <a:t>我的教师生涯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》</a:t>
            </a:r>
            <a:br>
              <a:rPr sz="4500"/>
            </a:br>
            <a:r>
              <a:rPr b="0" lang="zh-CN" sz="4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endParaRPr b="0" lang="en-US" sz="4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464646"/>
                </a:solidFill>
                <a:latin typeface="Lucida Sans Unicode"/>
              </a:rPr>
              <a:t>推荐电影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5" name="TextBox 3"/>
          <p:cNvSpPr/>
          <p:nvPr/>
        </p:nvSpPr>
        <p:spPr>
          <a:xfrm>
            <a:off x="5796000" y="1917720"/>
            <a:ext cx="2376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国外：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Lucida Sans Unicode"/>
                <a:ea typeface="黑体"/>
              </a:rPr>
              <a:t>生命因你而动听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》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Lucida Sans Unicode"/>
                <a:ea typeface="黑体"/>
              </a:rPr>
              <a:t>热血教师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》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Lucida Sans Unicode"/>
                <a:ea typeface="黑体"/>
              </a:rPr>
              <a:t>音乐之声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》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Lucida Sans Unicode"/>
                <a:ea typeface="黑体"/>
              </a:rPr>
              <a:t>死亡诗社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》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Lucida Sans Unicode"/>
                <a:ea typeface="黑体"/>
              </a:rPr>
              <a:t>放牛班的春天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》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Lucida Sans Unicode"/>
                <a:ea typeface="黑体"/>
              </a:rPr>
              <a:t>乡村女教师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》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Lucida Sans Unicode"/>
                <a:ea typeface="黑体"/>
              </a:rPr>
              <a:t>旋动我心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》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心灵捕手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》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山区女教师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》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TextBox 4"/>
          <p:cNvSpPr/>
          <p:nvPr/>
        </p:nvSpPr>
        <p:spPr>
          <a:xfrm>
            <a:off x="3995640" y="1628640"/>
            <a:ext cx="172872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国产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Lucida Sans Unicode"/>
                <a:ea typeface="黑体"/>
              </a:rPr>
              <a:t>苗苗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》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孩子王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》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Lucida Sans Unicode"/>
                <a:ea typeface="黑体"/>
              </a:rPr>
              <a:t>春晖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》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Lucida Sans Unicode"/>
                <a:ea typeface="黑体"/>
              </a:rPr>
              <a:t>晨曲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》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Lucida Sans Unicode"/>
                <a:ea typeface="黑体"/>
              </a:rPr>
              <a:t>虹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》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Lucida Sans Unicode"/>
                <a:ea typeface="黑体"/>
              </a:rPr>
              <a:t>九月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》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多彩的晨光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》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孩子王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》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Lucida Sans Unicode"/>
                <a:ea typeface="黑体"/>
              </a:rPr>
              <a:t>朝霞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》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2720" indent="-3427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著名的法国电影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放牛班的春天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影片中马修老师利用自己在音乐方面的特长（他曾是一个音乐家），把一个乱糟糟的班和一群出现了各种问题的孩子引入音乐的殿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成立了一个合唱团，亲自写歌，指挥孩子们演唱。我总是那么迷醉地看着他们歌唱时那天使般的面庞，屏住呼吸聆听那天籁般的声音，他们无数次地打动了我，也让我感受到了用心教育的力量。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12720" indent="-3427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苏霍姆林斯基曾对孩子们有这样一番无比坦诚而深情的告白，从中我们可以领悟到一个教师对孩子发自心灵的爱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来，我拉着你们的手一步一步向前走，我把整个的心都给了你们。诚然，这颗心也有过疲倦的时刻。而每当它筋疲力竭时，孩子们啊，我就尽快到你们身旁来。你们的欢声笑语就给我的心田注入新的力量，你们的张张笑脸使我的精神重新焕发，你们渴求知识的目光激发我去思考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12720" indent="-3427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464646"/>
                </a:solidFill>
                <a:latin typeface="Lucida Sans Unicode"/>
              </a:rPr>
              <a:t>品尝教育的辛苦和幸福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213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1" name="TextBox 5"/>
          <p:cNvSpPr/>
          <p:nvPr/>
        </p:nvSpPr>
        <p:spPr>
          <a:xfrm>
            <a:off x="7462800" y="620640"/>
            <a:ext cx="862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华文行楷"/>
                <a:ea typeface="华文行楷"/>
              </a:rPr>
              <a:t>生命因你而动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206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0" name="TextBox 5"/>
          <p:cNvSpPr/>
          <p:nvPr/>
        </p:nvSpPr>
        <p:spPr>
          <a:xfrm>
            <a:off x="7462800" y="620640"/>
            <a:ext cx="862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华文行楷"/>
                <a:ea typeface="华文行楷"/>
              </a:rPr>
              <a:t>生命因你而动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"/>
          <p:cNvSpPr txBox="1"/>
          <p:nvPr/>
        </p:nvSpPr>
        <p:spPr>
          <a:xfrm>
            <a:off x="2266560" y="1844640"/>
            <a:ext cx="63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zh-CN" sz="3200" spc="-1" strike="noStrike">
                <a:solidFill>
                  <a:srgbClr val="000000"/>
                </a:solidFill>
                <a:latin typeface="Lucida Sans Unicode"/>
              </a:rPr>
              <a:t>学校思想的执行者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zh-CN" sz="3200" spc="-1" strike="noStrike">
                <a:solidFill>
                  <a:srgbClr val="000000"/>
                </a:solidFill>
                <a:latin typeface="Lucida Sans Unicode"/>
              </a:rPr>
              <a:t>班级工作的管理者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zh-CN" sz="3200" spc="-1" strike="noStrike">
                <a:solidFill>
                  <a:srgbClr val="000000"/>
                </a:solidFill>
                <a:latin typeface="Lucida Sans Unicode"/>
              </a:rPr>
              <a:t>班级团队的领军者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zh-CN" sz="3200" spc="-1" strike="noStrike">
                <a:solidFill>
                  <a:srgbClr val="000000"/>
                </a:solidFill>
                <a:latin typeface="Lucida Sans Unicode"/>
              </a:rPr>
              <a:t>学生活动的组织者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zh-CN" sz="3200" spc="-1" strike="noStrike">
                <a:solidFill>
                  <a:srgbClr val="000000"/>
                </a:solidFill>
                <a:latin typeface="Lucida Sans Unicode"/>
              </a:rPr>
              <a:t>学生素质的熏陶者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zh-CN" sz="3200" spc="-1" strike="noStrike">
                <a:solidFill>
                  <a:srgbClr val="000000"/>
                </a:solidFill>
                <a:latin typeface="Lucida Sans Unicode"/>
              </a:rPr>
              <a:t>学生心智的引领者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zh-CN" sz="3200" spc="-1" strike="noStrike">
                <a:solidFill>
                  <a:srgbClr val="000000"/>
                </a:solidFill>
                <a:latin typeface="Lucida Sans Unicode"/>
              </a:rPr>
              <a:t>学生生活的指导者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464646"/>
                </a:solidFill>
                <a:latin typeface="Lucida Sans Unicode"/>
              </a:rPr>
              <a:t>班主任   </a:t>
            </a:r>
            <a:r>
              <a:rPr b="1" lang="zh-CN" sz="3700" spc="-1" strike="noStrike">
                <a:solidFill>
                  <a:srgbClr val="464646"/>
                </a:solidFill>
                <a:latin typeface="华文行楷"/>
                <a:ea typeface="华文行楷"/>
              </a:rPr>
              <a:t>对人的一生最具影响力的人</a:t>
            </a: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394920" y="1917360"/>
            <a:ext cx="432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4646"/>
                </a:solidFill>
                <a:latin typeface="Lucida Sans Unicode"/>
              </a:rPr>
              <a:t>学校思想的执行者</a:t>
            </a:r>
            <a:br>
              <a:rPr sz="3200"/>
            </a:br>
            <a:endParaRPr b="1" lang="en-US" sz="32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2074" name="Picture 2" descr=""/>
          <p:cNvPicPr/>
          <p:nvPr/>
        </p:nvPicPr>
        <p:blipFill>
          <a:blip r:embed="rId1"/>
          <a:stretch/>
        </p:blipFill>
        <p:spPr>
          <a:xfrm>
            <a:off x="5003640" y="981000"/>
            <a:ext cx="349596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4646"/>
                </a:solidFill>
                <a:latin typeface="Lucida Sans Unicode"/>
              </a:rPr>
              <a:t>班级工作的管理者</a:t>
            </a:r>
            <a:br>
              <a:rPr sz="3200"/>
            </a:br>
            <a:endParaRPr b="1" lang="en-US" sz="32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6" name=""/>
          <p:cNvSpPr txBox="1"/>
          <p:nvPr/>
        </p:nvSpPr>
        <p:spPr>
          <a:xfrm>
            <a:off x="1763280" y="148104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3800">
              <a:spcBef>
                <a:spcPts val="400"/>
              </a:spcBef>
              <a:tabLst>
                <a:tab algn="l" pos="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Lucida Sans Unicode"/>
              </a:rPr>
              <a:t>印象最深的班会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zh-CN" sz="2700" spc="-1" strike="noStrike">
                <a:solidFill>
                  <a:srgbClr val="000000"/>
                </a:solidFill>
                <a:latin typeface="Lucida Sans Unicode"/>
              </a:rPr>
              <a:t>《让宽容与美丽同在》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zh-CN" sz="2700" spc="-1" strike="noStrike">
                <a:solidFill>
                  <a:srgbClr val="000000"/>
                </a:solidFill>
                <a:latin typeface="Lucida Sans Unicode"/>
              </a:rPr>
              <a:t>《感谢有您》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zh-CN" sz="2700" spc="-1" strike="noStrike">
                <a:solidFill>
                  <a:srgbClr val="000000"/>
                </a:solidFill>
                <a:latin typeface="Lucida Sans Unicode"/>
              </a:rPr>
              <a:t>《学习就是我们自己的事》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zh-CN" sz="2700" spc="-1" strike="noStrike">
                <a:solidFill>
                  <a:srgbClr val="000000"/>
                </a:solidFill>
                <a:latin typeface="Lucida Sans Unicode"/>
              </a:rPr>
              <a:t>《诚信是一种习惯》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zh-CN" sz="2700" spc="-1" strike="noStrike">
                <a:solidFill>
                  <a:srgbClr val="000000"/>
                </a:solidFill>
                <a:latin typeface="Lucida Sans Unicode"/>
              </a:rPr>
              <a:t>《小太阳不是我》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zh-CN" sz="2700" spc="-1" strike="noStrike">
                <a:solidFill>
                  <a:srgbClr val="000000"/>
                </a:solidFill>
                <a:latin typeface="Lucida Sans Unicode"/>
              </a:rPr>
              <a:t>《说说我同桌的优点》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《</a:t>
            </a:r>
            <a:r>
              <a:rPr b="1" lang="zh-CN" sz="2700" spc="-1" strike="noStrike">
                <a:solidFill>
                  <a:srgbClr val="000000"/>
                </a:solidFill>
                <a:latin typeface="Lucida Sans Unicode"/>
              </a:rPr>
              <a:t>早恋只是一种感觉而已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》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《</a:t>
            </a:r>
            <a:r>
              <a:rPr b="1" lang="zh-CN" sz="2700" spc="-1" strike="noStrike">
                <a:solidFill>
                  <a:srgbClr val="000000"/>
                </a:solidFill>
                <a:latin typeface="Lucida Sans Unicode"/>
              </a:rPr>
              <a:t>小时后悔的事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》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4646"/>
                </a:solidFill>
                <a:latin typeface="Lucida Sans Unicode"/>
              </a:rPr>
              <a:t>班级团队的领军者</a:t>
            </a:r>
            <a:br>
              <a:rPr sz="3200"/>
            </a:br>
            <a:endParaRPr b="1" lang="en-US" sz="32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2078" name="Picture 2" descr=""/>
          <p:cNvPicPr/>
          <p:nvPr/>
        </p:nvPicPr>
        <p:blipFill>
          <a:blip r:embed="rId1"/>
          <a:stretch/>
        </p:blipFill>
        <p:spPr>
          <a:xfrm rot="654000">
            <a:off x="1236240" y="1274400"/>
            <a:ext cx="3333960" cy="2352600"/>
          </a:xfrm>
          <a:prstGeom prst="rect">
            <a:avLst/>
          </a:prstGeom>
          <a:ln w="0">
            <a:noFill/>
          </a:ln>
        </p:spPr>
      </p:pic>
      <p:pic>
        <p:nvPicPr>
          <p:cNvPr id="2079" name="Picture 4" descr=""/>
          <p:cNvPicPr/>
          <p:nvPr/>
        </p:nvPicPr>
        <p:blipFill>
          <a:blip r:embed="rId2"/>
          <a:stretch/>
        </p:blipFill>
        <p:spPr>
          <a:xfrm>
            <a:off x="5003640" y="1700280"/>
            <a:ext cx="3333960" cy="1781280"/>
          </a:xfrm>
          <a:prstGeom prst="rect">
            <a:avLst/>
          </a:prstGeom>
          <a:ln w="0">
            <a:noFill/>
          </a:ln>
        </p:spPr>
      </p:pic>
      <p:pic>
        <p:nvPicPr>
          <p:cNvPr id="2080" name="Picture 6" descr=""/>
          <p:cNvPicPr/>
          <p:nvPr/>
        </p:nvPicPr>
        <p:blipFill>
          <a:blip r:embed="rId3"/>
          <a:stretch/>
        </p:blipFill>
        <p:spPr>
          <a:xfrm rot="20890200">
            <a:off x="5273280" y="3495600"/>
            <a:ext cx="2997360" cy="2247840"/>
          </a:xfrm>
          <a:prstGeom prst="rect">
            <a:avLst/>
          </a:prstGeom>
          <a:ln w="0">
            <a:noFill/>
          </a:ln>
        </p:spPr>
      </p:pic>
      <p:pic>
        <p:nvPicPr>
          <p:cNvPr id="2081" name="Picture 8" descr=""/>
          <p:cNvPicPr/>
          <p:nvPr/>
        </p:nvPicPr>
        <p:blipFill>
          <a:blip r:embed="rId4"/>
          <a:stretch/>
        </p:blipFill>
        <p:spPr>
          <a:xfrm>
            <a:off x="1979640" y="4005360"/>
            <a:ext cx="316872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日期占位符 3"/>
          <p:cNvSpPr/>
          <p:nvPr/>
        </p:nvSpPr>
        <p:spPr>
          <a:xfrm>
            <a:off x="6727680" y="6407280"/>
            <a:ext cx="19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98C4-3A4C-4B12-BED8-15E3838CAC06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zh-CN" sz="3000" spc="-1" strike="noStrike">
                <a:solidFill>
                  <a:srgbClr val="000000"/>
                </a:solidFill>
                <a:latin typeface="Lucida Sans Unicode"/>
              </a:rPr>
              <a:t>窦桂梅</a:t>
            </a:r>
            <a:r>
              <a:rPr b="0" lang="zh-CN" sz="3000" spc="-1" strike="noStrike">
                <a:solidFill>
                  <a:srgbClr val="000000"/>
                </a:solidFill>
                <a:latin typeface="Lucida Sans Unicode"/>
              </a:rPr>
              <a:t>：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好教材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超越教材，立足课堂，超越课堂。阅读和欣赏着人类最伟大的生命杰作。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zh-CN" sz="3000" spc="-1" strike="noStrike">
                <a:solidFill>
                  <a:srgbClr val="000000"/>
                </a:solidFill>
                <a:latin typeface="Lucida Sans Unicode"/>
              </a:rPr>
              <a:t>任小艾</a:t>
            </a:r>
            <a:r>
              <a:rPr b="0" lang="zh-CN" sz="3000" spc="-1" strike="noStrike">
                <a:solidFill>
                  <a:srgbClr val="000000"/>
                </a:solidFill>
                <a:latin typeface="Lucida Sans Unicode"/>
              </a:rPr>
              <a:t>：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生不会因为你班带的好而课教的差而原谅你；也不会因为你课教的好班带的差而迁就你，教书育人缺一不可。如果在你的班主任工作中忽略了家长这力量，你永远是一条腿走路。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zh-CN" sz="3000" spc="-1" strike="noStrike">
                <a:solidFill>
                  <a:srgbClr val="000000"/>
                </a:solidFill>
                <a:latin typeface="Lucida Sans Unicode"/>
              </a:rPr>
              <a:t>魏书生</a:t>
            </a:r>
            <a:r>
              <a:rPr b="0" lang="zh-CN" sz="3000" spc="-1" strike="noStrike">
                <a:solidFill>
                  <a:srgbClr val="000000"/>
                </a:solidFill>
                <a:latin typeface="Lucida Sans Unicode"/>
              </a:rPr>
              <a:t>：</a:t>
            </a:r>
            <a:r>
              <a:rPr b="0" lang="zh-CN" sz="30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民主管理和制度管理。每个人都是班级的管理者，让每扇窗户都有人管理。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zh-CN" sz="3000" spc="-1" strike="noStrike">
                <a:solidFill>
                  <a:srgbClr val="000000"/>
                </a:solidFill>
                <a:latin typeface="Lucida Sans Unicode"/>
              </a:rPr>
              <a:t>李镇西</a:t>
            </a:r>
            <a:r>
              <a:rPr b="0" lang="zh-CN" sz="3000" spc="-1" strike="noStrike">
                <a:solidFill>
                  <a:srgbClr val="000000"/>
                </a:solidFill>
                <a:latin typeface="Lucida Sans Unicode"/>
              </a:rPr>
              <a:t>：</a:t>
            </a:r>
            <a:r>
              <a:rPr b="0" lang="zh-CN" sz="30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一抓质量二抓心灵，做最好的自己、最好的老师、最好的班主任、最好的校长。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4646"/>
                </a:solidFill>
                <a:latin typeface="Lucida Sans Unicode"/>
              </a:rPr>
              <a:t>学生活动的组织者</a:t>
            </a:r>
            <a:br>
              <a:rPr sz="3200"/>
            </a:br>
            <a:endParaRPr b="1" lang="en-US" sz="32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5" name=""/>
          <p:cNvSpPr txBox="1"/>
          <p:nvPr/>
        </p:nvSpPr>
        <p:spPr>
          <a:xfrm>
            <a:off x="2050560" y="1481040"/>
            <a:ext cx="66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3800">
              <a:spcBef>
                <a:spcPts val="400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Lucida Sans Unicode"/>
              </a:rPr>
              <a:t>一班一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zh-CN" sz="2800" spc="-1" strike="noStrike">
                <a:solidFill>
                  <a:srgbClr val="000000"/>
                </a:solidFill>
                <a:latin typeface="Lucida Sans Unicode"/>
              </a:rPr>
              <a:t>硬笔、书法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zh-CN" sz="2800" spc="-1" strike="noStrike">
                <a:solidFill>
                  <a:srgbClr val="000000"/>
                </a:solidFill>
                <a:latin typeface="Lucida Sans Unicode"/>
              </a:rPr>
              <a:t>手工、十字绣、刻章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zh-CN" sz="2800" spc="-1" strike="noStrike">
                <a:solidFill>
                  <a:srgbClr val="000000"/>
                </a:solidFill>
                <a:latin typeface="Lucida Sans Unicode"/>
              </a:rPr>
              <a:t>钢笔画、卡通画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zh-CN" sz="2800" spc="-1" strike="noStrike">
                <a:solidFill>
                  <a:srgbClr val="000000"/>
                </a:solidFill>
                <a:latin typeface="Lucida Sans Unicode"/>
              </a:rPr>
              <a:t>植物、烹饪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zh-CN" sz="2800" spc="-1" strike="noStrike">
                <a:solidFill>
                  <a:srgbClr val="000000"/>
                </a:solidFill>
                <a:latin typeface="Lucida Sans Unicode"/>
              </a:rPr>
              <a:t>小发明、模型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zh-CN" sz="2800" spc="-1" strike="noStrike">
                <a:solidFill>
                  <a:srgbClr val="000000"/>
                </a:solidFill>
                <a:latin typeface="Lucida Sans Unicode"/>
              </a:rPr>
              <a:t>朗诵、诗歌、经典诵读、英语歌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zh-CN" sz="2800" spc="-1" strike="noStrike">
                <a:solidFill>
                  <a:srgbClr val="000000"/>
                </a:solidFill>
                <a:latin typeface="Lucida Sans Unicode"/>
              </a:rPr>
              <a:t>演讲、说书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zh-CN" sz="2800" spc="-1" strike="noStrike">
                <a:solidFill>
                  <a:srgbClr val="000000"/>
                </a:solidFill>
                <a:latin typeface="Lucida Sans Unicode"/>
              </a:rPr>
              <a:t>武术、乒乓球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64646"/>
                </a:solidFill>
                <a:latin typeface="Lucida Sans Unicode"/>
              </a:rPr>
              <a:t>学生素质的熏陶者</a:t>
            </a:r>
            <a:br>
              <a:rPr sz="3200"/>
            </a:br>
            <a:endParaRPr b="1" lang="en-US" sz="32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zh-CN" sz="3200" spc="-1" strike="noStrike">
                <a:solidFill>
                  <a:srgbClr val="000000"/>
                </a:solidFill>
                <a:latin typeface="Lucida Sans Unicode"/>
              </a:rPr>
              <a:t>学生喜欢的班主任：有美感、有气质、有才华（丰富的知识、精彩的课堂）、有趣味、有幽默、有智慧、公正、有责任心、有爱心、有威信、多赞扬、多信任、多宽容。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zh-CN" sz="3200" spc="-1" strike="noStrike">
                <a:solidFill>
                  <a:srgbClr val="000000"/>
                </a:solidFill>
                <a:latin typeface="Lucida Sans Unicode"/>
              </a:rPr>
              <a:t>学生不喜欢的班主任：邋遢、粗鲁、体罚、不用心、不关心、没爱心、狠心、无能、请家长、知识错误、罗嗦、乡音重。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38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12:55:00Z</dcterms:created>
  <dc:creator>chen</dc:creator>
  <dc:description/>
  <cp:keywords/>
  <dc:language>en-US</dc:language>
  <cp:lastModifiedBy>Administrator</cp:lastModifiedBy>
  <cp:lastPrinted>1899-12-30T00:00:00Z</cp:lastPrinted>
  <dcterms:modified xsi:type="dcterms:W3CDTF">2012-11-01T02:37:53Z</dcterms:modified>
  <cp:revision>3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