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062-A828-435A-A382-485DE95B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357-DC0D-4740-91B6-0FF2829E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EA0-951B-4505-BFB4-9B997B08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0FC-F902-4FD2-B040-0065AAB3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FCC-5B12-4E0E-8F5D-063C07D2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36E-D00B-4251-95F8-F27C85AC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BA4-F779-4A82-ACE4-FC9BC45D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1EC-CFF4-4B79-A88B-5CFFE9D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DA0-1690-4C11-9F37-DCF37ECE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3E1-1C82-4A5A-AA5B-CD4A101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1A1-8F7C-4DE7-AF8A-8FA7B4C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7F3-5803-4878-8653-833B92F5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1CF0-3648-4B0B-959E-1CFF68DF8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539640" y="1628640"/>
            <a:ext cx="7345440" cy="16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 Narrow"/>
              </a:rPr>
              <a:t>Unit2 B Let's lear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 Narrow"/>
              <a:ea typeface="Arial Narrow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52480" y="3733920"/>
            <a:ext cx="60343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 Antiqua"/>
              </a:rPr>
              <a:t>My friend likes ......  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46" name="my friends.wav" descr=""/>
          <p:cNvPicPr/>
          <p:nvPr/>
        </p:nvPicPr>
        <p:blipFill>
          <a:blip r:embed="rId2"/>
          <a:stretch/>
        </p:blipFill>
        <p:spPr>
          <a:xfrm>
            <a:off x="8604360" y="631044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G021200014"/>
          <p:cNvPicPr/>
          <p:nvPr/>
        </p:nvPicPr>
        <p:blipFill>
          <a:blip r:embed="rId3"/>
          <a:stretch/>
        </p:blipFill>
        <p:spPr>
          <a:xfrm>
            <a:off x="250920" y="39337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021200014"/>
          <p:cNvPicPr/>
          <p:nvPr/>
        </p:nvPicPr>
        <p:blipFill>
          <a:blip r:embed="rId4"/>
          <a:stretch/>
        </p:blipFill>
        <p:spPr>
          <a:xfrm>
            <a:off x="6516720" y="494172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UN_094"/>
          <p:cNvPicPr/>
          <p:nvPr/>
        </p:nvPicPr>
        <p:blipFill>
          <a:blip r:embed="rId5"/>
          <a:stretch/>
        </p:blipFill>
        <p:spPr>
          <a:xfrm>
            <a:off x="179280" y="549360"/>
            <a:ext cx="863640" cy="109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G021200014"/>
          <p:cNvPicPr/>
          <p:nvPr/>
        </p:nvPicPr>
        <p:blipFill>
          <a:blip r:embed="rId6"/>
          <a:stretch/>
        </p:blipFill>
        <p:spPr>
          <a:xfrm>
            <a:off x="5867280" y="1890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G021200014"/>
          <p:cNvPicPr/>
          <p:nvPr/>
        </p:nvPicPr>
        <p:blipFill>
          <a:blip r:embed="rId7"/>
          <a:stretch/>
        </p:blipFill>
        <p:spPr>
          <a:xfrm>
            <a:off x="8028000" y="321300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4648320" y="5715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执教人：张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65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03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1835280" y="620640"/>
            <a:ext cx="46083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8635"/>
                    </a:gs>
                  </a:gsLst>
                  <a:lin ang="5400000"/>
                </a:gradFill>
                <a:latin typeface="黑体"/>
              </a:rPr>
              <a:t>Let's chant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8635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162864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ain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ainting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, I  like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ain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80880" y="3505320"/>
            <a:ext cx="89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cienc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science, I  like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cienc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04920" y="2565360"/>
            <a:ext cx="76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y  friend  likes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ain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57200" y="4581360"/>
            <a:ext cx="8364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My  friend  likes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scienc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2893878689069ikmlvnfkh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28600" y="53352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omputer g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791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y friend like</a:t>
            </a:r>
            <a:r>
              <a:rPr b="1" i="1" lang="en-US" sz="48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</a:rPr>
              <a:t> computer game</a:t>
            </a:r>
            <a:r>
              <a:rPr b="1" i="1" lang="en-US" sz="4800" spc="-1" strike="noStrike">
                <a:solidFill>
                  <a:srgbClr val="009999"/>
                </a:solidFill>
                <a:latin typeface="Times New Roman"/>
              </a:rPr>
              <a:t>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5790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65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cc"/>
                </a:solidFill>
                <a:latin typeface="Times New Roman"/>
              </a:rPr>
              <a:t>Play computer gam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310994209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usic,music,listen to mus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Sports,sports,do spor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ainting,painting,I like paint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Science,science,I like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omputer game,computer game, I like computer gam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83704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Do you like computer gam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295091_093854480735_2"/>
          <p:cNvPicPr/>
          <p:nvPr/>
        </p:nvPicPr>
        <p:blipFill>
          <a:blip r:embed="rId1"/>
          <a:stretch/>
        </p:blipFill>
        <p:spPr>
          <a:xfrm>
            <a:off x="0" y="0"/>
            <a:ext cx="8991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13291_11563000393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0" y="380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make frie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916804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191120" y="52578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66"/>
                </a:solidFill>
                <a:latin typeface="Times New Roman"/>
              </a:rPr>
              <a:t>Let’s d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319776138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Let’s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cc00"/>
                </a:solidFill>
                <a:latin typeface="Times New Roman"/>
              </a:rPr>
              <a:t>tal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707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762120" y="762120"/>
            <a:ext cx="77724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:This is my friend,Peter.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e likes </a:t>
            </a: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music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B:This is my friend,Am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he likes </a:t>
            </a: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science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7074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762120" y="762120"/>
            <a:ext cx="77724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:This is my friend,------.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e likes ------.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B:This is my friend,-----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he likes ------.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62120"/>
            <a:ext cx="298116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The More We Get Together.mp3" descr=""/>
          <p:cNvPicPr/>
          <p:nvPr/>
        </p:nvPicPr>
        <p:blipFill>
          <a:blip r:embed="rId3"/>
          <a:stretch/>
        </p:blipFill>
        <p:spPr>
          <a:xfrm>
            <a:off x="4038480" y="3962520"/>
            <a:ext cx="106704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5105520" y="9907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0" y="5791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My friend like</a:t>
            </a:r>
            <a:r>
              <a:rPr b="1" i="1" lang="en-US" sz="60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i="1" lang="en-US" sz="6000" spc="-1" strike="noStrike">
                <a:solidFill>
                  <a:srgbClr val="009999"/>
                </a:solidFill>
                <a:latin typeface="Times New Roman"/>
              </a:rPr>
              <a:t> music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3278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6019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is is my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G255G52-0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7210527_162325232164_2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6095880"/>
            <a:ext cx="92962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I have many friends in this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6066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She likes </a:t>
            </a:r>
            <a:r>
              <a:rPr b="1" i="1" lang="en-US" sz="5400" spc="-1" strike="noStrike">
                <a:solidFill>
                  <a:srgbClr val="009999"/>
                </a:solidFill>
                <a:latin typeface="Times New Roman"/>
              </a:rPr>
              <a:t>sports</a:t>
            </a: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1_161101_20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5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33cc"/>
                </a:solidFill>
                <a:latin typeface="Times New Roman"/>
              </a:rPr>
              <a:t>He likes </a:t>
            </a:r>
            <a:r>
              <a:rPr b="1" i="1" lang="en-US" sz="6000" spc="-1" strike="noStrike">
                <a:solidFill>
                  <a:srgbClr val="009999"/>
                </a:solidFill>
                <a:latin typeface="Times New Roman"/>
              </a:rPr>
              <a:t>music</a:t>
            </a:r>
            <a:r>
              <a:rPr b="1" i="1" lang="en-US" sz="60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52e0b5a1babab4c0461064b3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57607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cc"/>
                </a:solidFill>
                <a:latin typeface="Times New Roman"/>
              </a:rPr>
              <a:t>She likes </a:t>
            </a:r>
            <a:r>
              <a:rPr b="1" i="1" lang="en-US" sz="6600" spc="-1" strike="noStrike">
                <a:solidFill>
                  <a:srgbClr val="009999"/>
                </a:solidFill>
                <a:latin typeface="Times New Roman"/>
              </a:rPr>
              <a:t>painting</a:t>
            </a:r>
            <a:r>
              <a:rPr b="1" i="1" lang="en-US" sz="66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009091910203006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8370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e likes </a:t>
            </a:r>
            <a:r>
              <a:rPr b="1" i="1" lang="en-US" sz="5400" spc="-1" strike="noStrike">
                <a:solidFill>
                  <a:srgbClr val="009999"/>
                </a:solidFill>
                <a:latin typeface="Times New Roman"/>
              </a:rPr>
              <a:t>computer games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2008115173540378_2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She likes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6600" spc="-1" strike="noStrike">
                <a:solidFill>
                  <a:srgbClr val="009999"/>
                </a:solidFill>
                <a:latin typeface="Times New Roman"/>
              </a:rPr>
              <a:t>science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6019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 like my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1G255G52-0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40"/>
          <p:cNvPicPr/>
          <p:nvPr/>
        </p:nvPicPr>
        <p:blipFill>
          <a:blip r:embed="rId1"/>
          <a:stretch/>
        </p:blipFill>
        <p:spPr>
          <a:xfrm>
            <a:off x="0" y="0"/>
            <a:ext cx="9036000" cy="702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360" y="83628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把今天学的单词与句子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各读两次。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给你的爸爸妈妈介绍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你几位好朋友的爱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531170_142552873175_2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80880" y="4572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Listen to music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1_161101_19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y friend like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 sport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248520" y="609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cc"/>
                </a:solidFill>
                <a:latin typeface="Times New Roman"/>
              </a:rPr>
              <a:t>spor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_161101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5668920"/>
            <a:ext cx="91440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cc"/>
                </a:solidFill>
                <a:latin typeface="Times New Roman"/>
              </a:rPr>
              <a:t>Do sport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03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1835280" y="620640"/>
            <a:ext cx="46083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8635"/>
                    </a:gs>
                  </a:gsLst>
                  <a:lin ang="5400000"/>
                </a:gradFill>
                <a:latin typeface="黑体"/>
              </a:rPr>
              <a:t>Let's chant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8635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26920" y="162864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Music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music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, I  like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music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826920" y="35002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por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sports, I  like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por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71640" y="213372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826920" y="2565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y  friend  likes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music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971640" y="4581360"/>
            <a:ext cx="7850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y  friend  likes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sports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20086484812516_2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5715000" y="575928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cc"/>
                </a:solidFill>
                <a:latin typeface="Times New Roman"/>
              </a:rPr>
              <a:t>pain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0" y="579132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My friend like</a:t>
            </a:r>
            <a:r>
              <a:rPr b="1" i="1" lang="en-US" sz="60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i="1" lang="en-US" sz="6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65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cc"/>
                </a:solidFill>
                <a:latin typeface="Times New Roman"/>
              </a:rPr>
              <a:t>Pain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612134_172503061674_2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637690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029200" y="838080"/>
            <a:ext cx="28954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cc"/>
                </a:solidFill>
                <a:latin typeface="Times New Roman"/>
              </a:rPr>
              <a:t>sci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57913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My friend like</a:t>
            </a:r>
            <a:r>
              <a:rPr b="1" i="1" lang="en-US" sz="60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i="1" lang="en-US" sz="6000" spc="-1" strike="noStrike">
                <a:solidFill>
                  <a:srgbClr val="009999"/>
                </a:solidFill>
                <a:latin typeface="Times New Roman"/>
              </a:rPr>
              <a:t> sci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k</cp:lastModifiedBy>
  <dcterms:modified xsi:type="dcterms:W3CDTF">2011-10-30T09:50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