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FCA-FAE7-4EAA-AFD1-9D6468EB9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A7C-408A-4A51-BA25-C95C03C2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02E-CEB2-48C7-844B-27DB07D0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D7C-C869-40BC-B814-903BFF8A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EB54-75A5-403D-B0F9-CA79D6637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EEFF-50C9-4819-8838-7A382A38D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A1D3-6937-4E73-98EB-C98110CC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CD1D-8B26-4B19-91B9-441F6445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D2F6-2539-466E-9D36-B39510E0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4C82-204C-41C9-AFE0-126505DD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433D-3C7C-496E-9C31-B0E636FF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D1E9-D37E-4FBA-8C67-086AAE398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85069-E003-41F0-9695-881FB42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FB67-30CF-46AC-B8A9-4FE2C165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223-984F-4F89-A74C-EC99AA02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083C-1AE4-4126-90DA-96857AC4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1AA3-6101-4996-A645-50471E77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A85C-3FEE-455B-9ED3-5E7178066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B025-B466-48C2-BD73-F19B445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52C5-B888-446D-BA0D-8BBF6A543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55BB-450C-4BAB-9105-55578576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2E5-7600-46CC-A21F-2C9C5E39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4A3-B862-4C98-8C13-362BAEB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0A2-1AFC-4E2B-AC6C-0303C6EB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598-C6FC-4036-BD82-51AB672D6F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B23-F1DF-4472-992A-A61739170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t 2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执教人：江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Let's lear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1219320" y="1895400"/>
            <a:ext cx="6453000" cy="4017960"/>
          </a:xfrm>
          <a:prstGeom prst="rect">
            <a:avLst/>
          </a:prstGeom>
          <a:ln w="9360">
            <a:solidFill>
              <a:srgbClr val="ffff66"/>
            </a:solidFill>
            <a:miter/>
          </a:ln>
        </p:spPr>
      </p:pic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4"/>
          <p:cNvSpPr/>
          <p:nvPr/>
        </p:nvSpPr>
        <p:spPr>
          <a:xfrm>
            <a:off x="2133720" y="2209680"/>
            <a:ext cx="4572000" cy="35053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片超级链接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2268360" y="2349360"/>
            <a:ext cx="4319640" cy="324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u=2641816124,4089343660&amp;fm=23&amp;gp=0"/>
          <p:cNvPicPr/>
          <p:nvPr/>
        </p:nvPicPr>
        <p:blipFill>
          <a:blip r:embed="rId2"/>
          <a:stretch/>
        </p:blipFill>
        <p:spPr>
          <a:xfrm>
            <a:off x="2266920" y="2349360"/>
            <a:ext cx="4322880" cy="32403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02560" cy="9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Let's gues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85800" y="6858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3"/>
          <a:stretch/>
        </p:blipFill>
        <p:spPr>
          <a:xfrm>
            <a:off x="2916360" y="2367000"/>
            <a:ext cx="3024000" cy="701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7240" y="836640"/>
            <a:ext cx="7631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Do you like the...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5800" y="685800"/>
            <a:ext cx="777240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133720" y="2209680"/>
            <a:ext cx="4572000" cy="350532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片超级链接动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5" descr="u=393045365,1177068553&amp;fm=51&amp;gp=0"/>
          <p:cNvPicPr/>
          <p:nvPr/>
        </p:nvPicPr>
        <p:blipFill>
          <a:blip r:embed="rId2"/>
          <a:stretch/>
        </p:blipFill>
        <p:spPr>
          <a:xfrm>
            <a:off x="2197080" y="2278080"/>
            <a:ext cx="4464000" cy="33829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523880" y="1828800"/>
            <a:ext cx="6400800" cy="4038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" descr="u=2914862929,2335553361&amp;fm=23&amp;gp=0"/>
          <p:cNvPicPr/>
          <p:nvPr/>
        </p:nvPicPr>
        <p:blipFill>
          <a:blip r:embed="rId2"/>
          <a:stretch/>
        </p:blipFill>
        <p:spPr>
          <a:xfrm>
            <a:off x="1550880" y="1773360"/>
            <a:ext cx="6407280" cy="4103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2"/>
          <p:cNvSpPr/>
          <p:nvPr/>
        </p:nvSpPr>
        <p:spPr>
          <a:xfrm>
            <a:off x="1523880" y="1828800"/>
            <a:ext cx="6400800" cy="4038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3" descr="u=1309251140,2591235677&amp;fm=23&amp;gp=0"/>
          <p:cNvPicPr/>
          <p:nvPr/>
        </p:nvPicPr>
        <p:blipFill>
          <a:blip r:embed="rId2"/>
          <a:stretch/>
        </p:blipFill>
        <p:spPr>
          <a:xfrm>
            <a:off x="1405080" y="1701720"/>
            <a:ext cx="6624360" cy="47516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3880" y="1828800"/>
            <a:ext cx="6400800" cy="4038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3" descr="u=279332602,3462975310&amp;fm=23&amp;gp=0"/>
          <p:cNvPicPr/>
          <p:nvPr/>
        </p:nvPicPr>
        <p:blipFill>
          <a:blip r:embed="rId2"/>
          <a:stretch/>
        </p:blipFill>
        <p:spPr>
          <a:xfrm>
            <a:off x="1476360" y="1773360"/>
            <a:ext cx="6480360" cy="4249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3880" y="1828800"/>
            <a:ext cx="6400800" cy="4038480"/>
          </a:xfrm>
          <a:prstGeom prst="rect">
            <a:avLst/>
          </a:prstGeom>
          <a:gradFill rotWithShape="0">
            <a:gsLst>
              <a:gs pos="0">
                <a:srgbClr val="002f00"/>
              </a:gs>
              <a:gs pos="50000">
                <a:srgbClr val="006600"/>
              </a:gs>
              <a:gs pos="100000">
                <a:srgbClr val="002f00"/>
              </a:gs>
            </a:gsLst>
            <a:lin ang="189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47640" y="1844280"/>
            <a:ext cx="6337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u=533520475,841233392&amp;fm=23&amp;gp=0"/>
          <p:cNvPicPr/>
          <p:nvPr/>
        </p:nvPicPr>
        <p:blipFill>
          <a:blip r:embed="rId2"/>
          <a:stretch/>
        </p:blipFill>
        <p:spPr>
          <a:xfrm>
            <a:off x="1476360" y="1846440"/>
            <a:ext cx="6481800" cy="4032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6880" y="1981080"/>
            <a:ext cx="7053480" cy="223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听读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遍，走读的家长签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画一画你喜欢的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复习课交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5T01:26:31Z</dcterms:created>
  <dc:creator/>
  <dc:description/>
  <cp:keywords/>
  <dc:language>en-US</dc:language>
  <cp:lastModifiedBy>tk</cp:lastModifiedBy>
  <dcterms:modified xsi:type="dcterms:W3CDTF">2011-10-30T09:46:13Z</dcterms:modified>
  <cp:revision>7</cp:revision>
  <dc:subject/>
  <dc:title>Let's lear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  <property fmtid="{D5CDD505-2E9C-101B-9397-08002B2CF9AE}" pid="3" name="_TemplateID">
    <vt:lpwstr>TC011586342052</vt:lpwstr>
  </property>
</Properties>
</file>