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2.gif" ContentType="image/gif"/>
  <Override PartName="/ppt/media/image19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5.gif" ContentType="image/gif"/>
  <Override PartName="/ppt/media/image1.jpeg" ContentType="image/jpeg"/>
  <Override PartName="/ppt/media/image4.gif" ContentType="image/gif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7C2-E067-438C-8B1F-1398C3C4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912-7F99-466B-BB16-BFB40D8B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027-D244-4ED7-9757-9DCD421B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62B-37FB-46F9-A6BD-7DB6959A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B1B6-D66C-4322-8B1E-C2403310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0FAD-B243-4D54-A3C6-1BB1259E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3181-4BFF-41C3-A488-B5E0C742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BE3-7C88-4EFE-9887-5E02DC4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895F-444B-40B7-9E42-0C9CE465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89B6-A73D-4E27-9FF9-C5E73D5C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634E-5A10-4BFC-BB66-79E5D9D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064-8703-4E5F-9B9A-F41C7F22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615E-E860-47E4-8BA9-FD754E0F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7F98-9720-4168-B7AD-73B55459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C687-02F5-4BC8-A913-4A87FC0A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D7BB-A6C2-4EE7-B958-4B16885B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5266-904B-4C94-BE0A-2CB22B55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5168-811E-415D-A81A-A9884AC5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312E-7A64-4944-B894-704DD2F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4E6C-144D-4AC4-9704-58915AE1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7155-A742-441D-BB93-0B370D40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5998-9BF6-4519-8DBC-43E2F7F9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B87-FFE8-4B70-AF98-FD7FDDB9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0B3C-EB6A-4111-A6DA-32B543B6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4E2D-64B5-4AF7-A31F-D60B79AF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8757-F5CD-476B-A9E6-9B64B8A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2912-93AE-4EC3-82AF-6071936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064F-BF27-47F3-ABF6-B05BC964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08A0-87CF-48B7-9C1F-C8D47B4C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2786-D368-4312-B2A0-1F656C75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86981-4937-422D-B301-C406A9C3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F5984-0AC5-46DE-B23B-743006D3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8977-EA03-404B-9C96-15103F7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FF5-DD10-46CD-BCD3-22E6B50C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8962-80F8-44B8-B0B5-2BD4C75E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B1D0-F8A1-4DB8-AAA6-C1E4788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70D40-9FD6-4002-9152-D5AAFCFE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6C84F-B55A-435D-99EC-17A75B8D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89E0-2765-4638-B7ED-222E810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F9C5-5F2C-4FBC-945C-299A74BD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F4CB-4D5E-4112-87F5-BA8C04B2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9477-3264-46E3-BC51-95DFB82C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1826-87E8-4038-83CB-45BACD4A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B2DFC-73BA-4C58-93EC-3FA3376C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5EF-C65B-4C1C-B13C-551335A3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25AE-F11A-498A-908D-34873F7B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5388A-19FD-4530-B43F-F0A4BFD7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75859-CDA8-47F9-95A3-D9558F65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D5516-377D-4196-8102-B98ACDB1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CD18-0515-4FD4-AD10-4600400D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1F01E-41C0-43A5-90D4-F544499A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C2C4-8550-4AE3-8A60-6FDD074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C4150-CB58-4465-BE33-0EEC7553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F32C8-B461-4A0A-9CD3-0D785E3C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DFAA1-B675-44FB-97C7-C657AFAA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946-0871-42CA-BE0B-349A3485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9F113-BDCC-4DB4-9FCB-036C8587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7A0-0FB8-4BBC-B4B7-8787E8EE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613-26F6-4540-9276-01FC516E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519-A639-492B-A1E2-8788548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6D84-B8C9-4A78-9669-6888BD40EF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B2BE-E341-4DDB-A23D-75481818C7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E4DE-B9F6-40E3-A3FC-991FFE59DE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6757-5204-4626-9D3A-0A2C12063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69FC-2A94-4012-B45E-56D68409B8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608360" cy="2924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740720" y="6093000"/>
            <a:ext cx="3671640" cy="765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838836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0417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1076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WordArt 3" descr=""/>
          <p:cNvPicPr/>
          <p:nvPr/>
        </p:nvPicPr>
        <p:blipFill>
          <a:blip r:embed="rId3"/>
          <a:stretch/>
        </p:blipFill>
        <p:spPr>
          <a:xfrm>
            <a:off x="6443640" y="1844640"/>
            <a:ext cx="1584360" cy="4491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659640" y="189000"/>
            <a:ext cx="13557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492360" y="0"/>
            <a:ext cx="56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巴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1904-2005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原名李尧棠，字芾甘，祖籍浙江嘉兴，生于四川成都一个官宦家庭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完成第一部中篇小说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《灭亡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引起强烈反响。后来写了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“爱情三部曲”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《雾》《雨》《电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“激流三部曲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《家》《春》《秋》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小说，又发表中篇小说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《寒夜》、《憩园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1692360" cy="216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19640" cy="2206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692360" y="2205000"/>
            <a:ext cx="1655640" cy="2087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0" y="4292640"/>
            <a:ext cx="3348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i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人为什么需要文学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i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需要它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扫除我们心灵的垃圾</a:t>
            </a:r>
            <a:r>
              <a:rPr b="1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i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需要它给我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带来希望</a:t>
            </a:r>
            <a:r>
              <a:rPr b="1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带来勇气</a:t>
            </a:r>
            <a:r>
              <a:rPr b="1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带来力量</a:t>
            </a:r>
            <a:r>
              <a:rPr b="1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5375160"/>
            <a:ext cx="38512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316476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6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文化大革命爆发，一场“十年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浩劫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”席卷而至。无辜的人们惨遭杀害，千年的古迹毁于一旦。那是一个</a:t>
            </a:r>
            <a:r>
              <a:rPr b="1" i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非人的疯狂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代，</a:t>
            </a:r>
            <a:r>
              <a:rPr b="1" i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亲友疏远，人情殆尽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本文作者讲述了家中的一条可爱的小狗在“文革”中的悲惨遭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55920" y="457200"/>
            <a:ext cx="481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写 作 背 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101080" y="5805360"/>
            <a:ext cx="638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整  体  感  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这篇文章是一篇叙事性散文，它有一个完整的故事链，有开端、发展、结局和尾声。请大家阅读这篇文章，看看文章哪些内容是开端，哪些内容又是发展、结局和尾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情 感 发 展 线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854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艺术家与狗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与包弟的亲密接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不知如何安排包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送走了包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送走之后心不得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至今心不得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43840" y="63817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1052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悲 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48360" y="1844640"/>
            <a:ext cx="19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欢 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48360" y="27082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忧 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357336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轻 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48360" y="443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沉 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0000" y="530064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歉 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971640" y="3573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揭露文革的荒唐、人性的丑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 rot="10800000">
            <a:off x="3850920" y="2708280"/>
            <a:ext cx="863640" cy="649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619280" y="1197000"/>
            <a:ext cx="65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现作家勇于自我解剖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敢于讲真话的精神和勇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3851280" y="4508640"/>
            <a:ext cx="93672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692360" y="5445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呼唤善良、美好的人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0880" y="304920"/>
            <a:ext cx="685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黑体"/>
              </a:rPr>
              <a:t>总 结 文 章 主 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后  思  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写“文革”为何从一条小狗写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在写包弟前为何先写一个艺术家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狗的故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于作者为了自保而放弃小狗包弟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行为，我们该如何看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的忏悔有什么意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01:50:04Z</dcterms:created>
  <dc:creator>lenovo</dc:creator>
  <dc:description/>
  <dc:language>en-US</dc:language>
  <cp:lastModifiedBy>lenovo</cp:lastModifiedBy>
  <dcterms:modified xsi:type="dcterms:W3CDTF">2012-10-26T02:06:57Z</dcterms:modified>
  <cp:revision>47</cp:revision>
  <dc:subject/>
  <dc:title>幻灯片 1</dc:title>
</cp:coreProperties>
</file>