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camera.wav" ContentType="audio/x-wav"/>
  <Override PartName="/ppt/media/click.wav" ContentType="audio/x-wav"/>
  <Override PartName="/ppt/media/image18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applause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EAE-CE10-4781-9E6C-53CC7182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6B1-F7FA-4F3B-A125-D0253A1A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000-CCFB-4E3E-990C-48AEB5F4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97C-9D57-4500-A38E-CFA07C75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AFF-844D-48E8-A9BA-C1DE7F92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3B8-6D2E-4DD0-AC03-BC09E183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CB2-B5F4-47BB-BA83-134F351C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E0A-EC83-484D-B6AA-CBDF8957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4D6-0CB9-4A56-95CF-0E543397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272-EFDA-4842-836F-7ABEF4DF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290-EC72-493F-9FF0-F86273A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296-DF66-437E-A398-5FBD075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8ACA-E0DF-4D1E-9A76-5E83E4FE35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9000" y="630360"/>
            <a:ext cx="877896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43200" y="2039760"/>
            <a:ext cx="3657600" cy="2786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分香蕉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7280" y="2430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北师大版二年级数学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5122800" y="5311800"/>
            <a:ext cx="3208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执教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王文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4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2520" y="641520"/>
            <a:ext cx="8778960" cy="5908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639800"/>
            <a:ext cx="5589720" cy="1596960"/>
          </a:xfrm>
          <a:prstGeom prst="cloudCallout">
            <a:avLst>
              <a:gd name="adj1" fmla="val -2740"/>
              <a:gd name="adj2" fmla="val 11888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香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平均分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4320" y="346392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÷6=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74960" y="4332240"/>
            <a:ext cx="48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7200" y="601560"/>
            <a:ext cx="8751960" cy="6002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389680" y="2320920"/>
            <a:ext cx="521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 ÷ 6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22720" y="3130560"/>
            <a:ext cx="850680" cy="3070440"/>
            <a:chOff x="2322720" y="3130560"/>
            <a:chExt cx="850680" cy="3070440"/>
          </a:xfrm>
        </p:grpSpPr>
        <p:sp>
          <p:nvSpPr>
            <p:cNvPr id="142" name=""/>
            <p:cNvSpPr/>
            <p:nvPr/>
          </p:nvSpPr>
          <p:spPr>
            <a:xfrm>
              <a:off x="2589120" y="31305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22720" y="3820680"/>
              <a:ext cx="850680" cy="23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被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216240" y="3119400"/>
            <a:ext cx="850680" cy="2425320"/>
            <a:chOff x="3216240" y="3119400"/>
            <a:chExt cx="850680" cy="2425320"/>
          </a:xfrm>
        </p:grpSpPr>
        <p:sp>
          <p:nvSpPr>
            <p:cNvPr id="145" name=""/>
            <p:cNvSpPr/>
            <p:nvPr/>
          </p:nvSpPr>
          <p:spPr>
            <a:xfrm>
              <a:off x="3482640" y="311940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16240" y="392652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5050"/>
                  </a:solidFill>
                  <a:latin typeface="Times New Roman"/>
                  <a:ea typeface="仿宋_GB2312"/>
                </a:rPr>
                <a:t>除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984840" y="3147840"/>
            <a:ext cx="850680" cy="2425320"/>
            <a:chOff x="3984840" y="3147840"/>
            <a:chExt cx="850680" cy="2425320"/>
          </a:xfrm>
        </p:grpSpPr>
        <p:sp>
          <p:nvSpPr>
            <p:cNvPr id="148" name=""/>
            <p:cNvSpPr/>
            <p:nvPr/>
          </p:nvSpPr>
          <p:spPr>
            <a:xfrm>
              <a:off x="4251600" y="314784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840" y="395496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345280" y="3143160"/>
            <a:ext cx="850680" cy="1773720"/>
            <a:chOff x="5345280" y="3143160"/>
            <a:chExt cx="850680" cy="1773720"/>
          </a:xfrm>
        </p:grpSpPr>
        <p:sp>
          <p:nvSpPr>
            <p:cNvPr id="151" name=""/>
            <p:cNvSpPr/>
            <p:nvPr/>
          </p:nvSpPr>
          <p:spPr>
            <a:xfrm>
              <a:off x="5630760" y="31431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5280" y="4060440"/>
              <a:ext cx="8506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9000" y="644400"/>
            <a:ext cx="8750160" cy="5886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5919000">
            <a:off x="2016000" y="3349440"/>
            <a:ext cx="1165320" cy="781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rot="5400000">
            <a:off x="3021840" y="3556800"/>
            <a:ext cx="1192320" cy="799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 rot="5400000">
            <a:off x="793080" y="3357720"/>
            <a:ext cx="1190520" cy="796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 rot="5733000">
            <a:off x="2961720" y="4352760"/>
            <a:ext cx="1222560" cy="81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 rot="5400000">
            <a:off x="2089080" y="4397400"/>
            <a:ext cx="1168560" cy="78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 rot="5400000">
            <a:off x="1491120" y="2696400"/>
            <a:ext cx="1225800" cy="81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 rot="4866000">
            <a:off x="3834720" y="4118760"/>
            <a:ext cx="1063440" cy="712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 rot="5599800">
            <a:off x="4556520" y="4048920"/>
            <a:ext cx="1255680" cy="841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 rot="4235400">
            <a:off x="2639880" y="2511360"/>
            <a:ext cx="1114200" cy="745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 rot="5704800">
            <a:off x="4349880" y="2959560"/>
            <a:ext cx="1073160" cy="718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 rot="6357000">
            <a:off x="1299240" y="3898800"/>
            <a:ext cx="1163880" cy="932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 rot="5400000">
            <a:off x="3492000" y="2476440"/>
            <a:ext cx="1233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33526E-006 L 0.09202 -0.25271 E">
                                      <p:cBhvr>
                                        <p:cTn id="28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94798E-006 L 0.15261 0.17341 E">
                                      <p:cBhvr>
                                        <p:cTn id="28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39306E-006 L 0.06841 -0.21249 E">
                                      <p:cBhvr>
                                        <p:cTn id="29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90751E-006 L 0.17292 0.19052 E">
                                      <p:cBhvr>
                                        <p:cTn id="29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51445E-007 L 0.08559 -0.21017 E">
                                      <p:cBhvr>
                                        <p:cTn id="29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9191E-006 L 0.154 0.19954 E">
                                      <p:cBhvr>
                                        <p:cTn id="30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9711E-006 L 0.1349 -0.22936 E">
                                      <p:cBhvr>
                                        <p:cTn id="30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6185E-006 L 0.15712 0.15122 E">
                                      <p:cBhvr>
                                        <p:cTn id="30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5607E-007 L 0.14445 -0.20624 E">
                                      <p:cBhvr>
                                        <p:cTn id="31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L 0.30504 -0.01387 E">
                                      <p:cBhvr>
                                        <p:cTn id="31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02312E-006 L 0.17292 -0.20832 E">
                                      <p:cBhvr>
                                        <p:cTn id="32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06358E-006 L 0.29514 0.07722 E">
                                      <p:cBhvr>
                                        <p:cTn id="32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2520" y="641520"/>
            <a:ext cx="8778960" cy="5908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639800"/>
            <a:ext cx="5457960" cy="1596960"/>
          </a:xfrm>
          <a:prstGeom prst="cloudCallout">
            <a:avLst>
              <a:gd name="adj1" fmla="val -1601"/>
              <a:gd name="adj2" fmla="val 11888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香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平均分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4320" y="346392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÷2=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74960" y="4332240"/>
            <a:ext cx="48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7200" y="601560"/>
            <a:ext cx="8751960" cy="6002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410200" y="2320920"/>
            <a:ext cx="52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 ÷ 2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根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22720" y="3130560"/>
            <a:ext cx="850680" cy="3070440"/>
            <a:chOff x="2322720" y="3130560"/>
            <a:chExt cx="850680" cy="3070440"/>
          </a:xfrm>
        </p:grpSpPr>
        <p:sp>
          <p:nvSpPr>
            <p:cNvPr id="173" name=""/>
            <p:cNvSpPr/>
            <p:nvPr/>
          </p:nvSpPr>
          <p:spPr>
            <a:xfrm>
              <a:off x="2589120" y="31305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22720" y="3820680"/>
              <a:ext cx="850680" cy="23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被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16240" y="3119400"/>
            <a:ext cx="850680" cy="2425320"/>
            <a:chOff x="3216240" y="3119400"/>
            <a:chExt cx="850680" cy="2425320"/>
          </a:xfrm>
        </p:grpSpPr>
        <p:sp>
          <p:nvSpPr>
            <p:cNvPr id="176" name=""/>
            <p:cNvSpPr/>
            <p:nvPr/>
          </p:nvSpPr>
          <p:spPr>
            <a:xfrm>
              <a:off x="3482640" y="311940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16240" y="392652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5050"/>
                  </a:solidFill>
                  <a:latin typeface="Times New Roman"/>
                  <a:ea typeface="仿宋_GB2312"/>
                </a:rPr>
                <a:t>除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984840" y="3147840"/>
            <a:ext cx="850680" cy="2425320"/>
            <a:chOff x="3984840" y="3147840"/>
            <a:chExt cx="850680" cy="2425320"/>
          </a:xfrm>
        </p:grpSpPr>
        <p:sp>
          <p:nvSpPr>
            <p:cNvPr id="179" name=""/>
            <p:cNvSpPr/>
            <p:nvPr/>
          </p:nvSpPr>
          <p:spPr>
            <a:xfrm>
              <a:off x="4251600" y="314784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840" y="395496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45280" y="3143160"/>
            <a:ext cx="850680" cy="1773720"/>
            <a:chOff x="5345280" y="3143160"/>
            <a:chExt cx="850680" cy="1773720"/>
          </a:xfrm>
        </p:grpSpPr>
        <p:sp>
          <p:nvSpPr>
            <p:cNvPr id="182" name=""/>
            <p:cNvSpPr/>
            <p:nvPr/>
          </p:nvSpPr>
          <p:spPr>
            <a:xfrm>
              <a:off x="5630760" y="31431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45280" y="4060440"/>
              <a:ext cx="8506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4600" y="571680"/>
            <a:ext cx="8780400" cy="5957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30440" y="3516120"/>
            <a:ext cx="509904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平均分成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份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每份几根</a:t>
            </a:r>
            <a:r>
              <a:rPr b="1" lang="zh-CN" sz="3600" spc="-1" strike="noStrike">
                <a:solidFill>
                  <a:srgbClr val="9933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872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6036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15717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15717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108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15717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328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1672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4836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51640" y="1557360"/>
            <a:ext cx="21600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8364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1708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1557360"/>
            <a:ext cx="215640" cy="1285920"/>
          </a:xfrm>
          <a:prstGeom prst="can">
            <a:avLst>
              <a:gd name="adj" fmla="val 1271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55680" y="4778280"/>
            <a:ext cx="64800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477828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08400" y="4778280"/>
            <a:ext cx="64764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32400" y="4778280"/>
            <a:ext cx="64764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87680" y="4778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6040" y="477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3573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83000" y="4902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1397160"/>
            <a:ext cx="3816360" cy="1655640"/>
          </a:xfrm>
          <a:prstGeom prst="flowChartAlternateProcess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1357200"/>
            <a:ext cx="3959280" cy="1656000"/>
          </a:xfrm>
          <a:prstGeom prst="flowChartAlternateProcess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84400" y="47052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81840" y="4705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10818000">
            <a:off x="4602960" y="470448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93640" y="4778280"/>
            <a:ext cx="8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04920" y="457200"/>
            <a:ext cx="4823640" cy="1071720"/>
            <a:chOff x="304920" y="457200"/>
            <a:chExt cx="4823640" cy="1071720"/>
          </a:xfrm>
        </p:grpSpPr>
        <p:sp>
          <p:nvSpPr>
            <p:cNvPr id="220" name=""/>
            <p:cNvSpPr txBox="1"/>
            <p:nvPr/>
          </p:nvSpPr>
          <p:spPr>
            <a:xfrm>
              <a:off x="304920" y="457200"/>
              <a:ext cx="2209680" cy="10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88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53753" dir="2700000" blurRad="0" rotWithShape="0">
                      <a:srgbClr val="c7dfd3"/>
                    </a:outerShdw>
                  </a:effectLst>
                  <a:latin typeface="宋体"/>
                </a:rPr>
                <a:t>火眼金睛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4520" y="68580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列式对的打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1904760" cy="1467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1904760" cy="1467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1904760" cy="1467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76520" y="4343400"/>
            <a:ext cx="6172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12÷2=6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（个）   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12÷3=4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（个）   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6815160" y="0"/>
            <a:ext cx="2328840" cy="2349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23680" y="533412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43640" y="3429000"/>
            <a:ext cx="1295280" cy="1262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848720" y="2797200"/>
            <a:ext cx="1295280" cy="1262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572000" y="5742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029200" y="3429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6095880" y="4572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6400800" y="5742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4572000" y="4572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3200400" y="4572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3200400" y="5742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1"/>
          <a:stretch/>
        </p:blipFill>
        <p:spPr>
          <a:xfrm>
            <a:off x="2133720" y="3429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1676520" y="449568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1752480" y="5742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380880" y="34290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304920" y="449568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304920" y="548640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7772400" y="5410080"/>
            <a:ext cx="1371600" cy="111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7848720" y="4076640"/>
            <a:ext cx="1295280" cy="1219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0" y="0"/>
            <a:ext cx="2666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八戒分洋桃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247" name=""/>
          <p:cNvSpPr/>
          <p:nvPr/>
        </p:nvSpPr>
        <p:spPr>
          <a:xfrm>
            <a:off x="8222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4479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把洋桃平均装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个篮子里，每篮有几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）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÷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=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2590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5360" y="25146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251460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477120" y="2971800"/>
            <a:ext cx="2666880" cy="1904760"/>
            <a:chOff x="6477120" y="2971800"/>
            <a:chExt cx="2666880" cy="1904760"/>
          </a:xfrm>
        </p:grpSpPr>
        <p:sp>
          <p:nvSpPr>
            <p:cNvPr id="253" name=""/>
            <p:cNvSpPr/>
            <p:nvPr/>
          </p:nvSpPr>
          <p:spPr>
            <a:xfrm flipV="1">
              <a:off x="6477120" y="2971800"/>
              <a:ext cx="2666880" cy="137160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72400" y="4190760"/>
              <a:ext cx="1143000" cy="68580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47600" y="3276720"/>
            <a:ext cx="8985240" cy="3535200"/>
            <a:chOff x="147600" y="3276720"/>
            <a:chExt cx="8985240" cy="3535200"/>
          </a:xfrm>
        </p:grpSpPr>
        <p:sp>
          <p:nvSpPr>
            <p:cNvPr id="256" name=""/>
            <p:cNvSpPr/>
            <p:nvPr/>
          </p:nvSpPr>
          <p:spPr>
            <a:xfrm>
              <a:off x="147600" y="3352680"/>
              <a:ext cx="3397320" cy="3291120"/>
            </a:xfrm>
            <a:custGeom>
              <a:avLst/>
              <a:gdLst/>
              <a:ahLst/>
              <a:rect l="l" t="t" r="r" b="b"/>
              <a:pathLst>
                <a:path w="2108" h="2064">
                  <a:moveTo>
                    <a:pt x="757" y="2029"/>
                  </a:moveTo>
                  <a:cubicBezTo>
                    <a:pt x="722" y="2033"/>
                    <a:pt x="686" y="2033"/>
                    <a:pt x="651" y="2040"/>
                  </a:cubicBezTo>
                  <a:cubicBezTo>
                    <a:pt x="626" y="2045"/>
                    <a:pt x="580" y="2064"/>
                    <a:pt x="580" y="2064"/>
                  </a:cubicBezTo>
                  <a:cubicBezTo>
                    <a:pt x="382" y="2056"/>
                    <a:pt x="314" y="2057"/>
                    <a:pt x="157" y="2017"/>
                  </a:cubicBezTo>
                  <a:cubicBezTo>
                    <a:pt x="119" y="1991"/>
                    <a:pt x="101" y="1960"/>
                    <a:pt x="63" y="1935"/>
                  </a:cubicBezTo>
                  <a:cubicBezTo>
                    <a:pt x="44" y="1877"/>
                    <a:pt x="28" y="1818"/>
                    <a:pt x="16" y="1758"/>
                  </a:cubicBezTo>
                  <a:cubicBezTo>
                    <a:pt x="20" y="1390"/>
                    <a:pt x="21" y="1021"/>
                    <a:pt x="28" y="653"/>
                  </a:cubicBezTo>
                  <a:cubicBezTo>
                    <a:pt x="33" y="391"/>
                    <a:pt x="0" y="321"/>
                    <a:pt x="192" y="195"/>
                  </a:cubicBezTo>
                  <a:cubicBezTo>
                    <a:pt x="196" y="183"/>
                    <a:pt x="195" y="168"/>
                    <a:pt x="204" y="159"/>
                  </a:cubicBezTo>
                  <a:cubicBezTo>
                    <a:pt x="213" y="150"/>
                    <a:pt x="228" y="153"/>
                    <a:pt x="239" y="148"/>
                  </a:cubicBezTo>
                  <a:cubicBezTo>
                    <a:pt x="302" y="117"/>
                    <a:pt x="345" y="91"/>
                    <a:pt x="416" y="77"/>
                  </a:cubicBezTo>
                  <a:cubicBezTo>
                    <a:pt x="533" y="0"/>
                    <a:pt x="882" y="22"/>
                    <a:pt x="992" y="18"/>
                  </a:cubicBezTo>
                  <a:cubicBezTo>
                    <a:pt x="1320" y="25"/>
                    <a:pt x="1419" y="14"/>
                    <a:pt x="1662" y="54"/>
                  </a:cubicBezTo>
                  <a:cubicBezTo>
                    <a:pt x="1732" y="65"/>
                    <a:pt x="1803" y="74"/>
                    <a:pt x="1873" y="89"/>
                  </a:cubicBezTo>
                  <a:cubicBezTo>
                    <a:pt x="1905" y="96"/>
                    <a:pt x="1936" y="104"/>
                    <a:pt x="1967" y="112"/>
                  </a:cubicBezTo>
                  <a:cubicBezTo>
                    <a:pt x="1991" y="118"/>
                    <a:pt x="2038" y="136"/>
                    <a:pt x="2038" y="136"/>
                  </a:cubicBezTo>
                  <a:cubicBezTo>
                    <a:pt x="2054" y="160"/>
                    <a:pt x="2076" y="180"/>
                    <a:pt x="2085" y="207"/>
                  </a:cubicBezTo>
                  <a:cubicBezTo>
                    <a:pt x="2093" y="230"/>
                    <a:pt x="2108" y="277"/>
                    <a:pt x="2108" y="277"/>
                  </a:cubicBezTo>
                  <a:cubicBezTo>
                    <a:pt x="2104" y="328"/>
                    <a:pt x="2105" y="379"/>
                    <a:pt x="2097" y="430"/>
                  </a:cubicBezTo>
                  <a:cubicBezTo>
                    <a:pt x="2086" y="497"/>
                    <a:pt x="2047" y="545"/>
                    <a:pt x="2026" y="606"/>
                  </a:cubicBezTo>
                  <a:cubicBezTo>
                    <a:pt x="2003" y="750"/>
                    <a:pt x="1992" y="899"/>
                    <a:pt x="1885" y="1006"/>
                  </a:cubicBezTo>
                  <a:cubicBezTo>
                    <a:pt x="1867" y="1059"/>
                    <a:pt x="1839" y="1051"/>
                    <a:pt x="1815" y="1100"/>
                  </a:cubicBezTo>
                  <a:cubicBezTo>
                    <a:pt x="1788" y="1154"/>
                    <a:pt x="1772" y="1196"/>
                    <a:pt x="1721" y="1229"/>
                  </a:cubicBezTo>
                  <a:cubicBezTo>
                    <a:pt x="1682" y="1344"/>
                    <a:pt x="1747" y="1168"/>
                    <a:pt x="1674" y="1300"/>
                  </a:cubicBezTo>
                  <a:cubicBezTo>
                    <a:pt x="1617" y="1403"/>
                    <a:pt x="1687" y="1345"/>
                    <a:pt x="1615" y="1394"/>
                  </a:cubicBezTo>
                  <a:cubicBezTo>
                    <a:pt x="1538" y="1506"/>
                    <a:pt x="1420" y="1469"/>
                    <a:pt x="1286" y="1476"/>
                  </a:cubicBezTo>
                  <a:cubicBezTo>
                    <a:pt x="1153" y="1493"/>
                    <a:pt x="1180" y="1485"/>
                    <a:pt x="1086" y="1558"/>
                  </a:cubicBezTo>
                  <a:cubicBezTo>
                    <a:pt x="1064" y="1575"/>
                    <a:pt x="1039" y="1589"/>
                    <a:pt x="1015" y="1605"/>
                  </a:cubicBezTo>
                  <a:cubicBezTo>
                    <a:pt x="1003" y="1613"/>
                    <a:pt x="980" y="1629"/>
                    <a:pt x="980" y="1629"/>
                  </a:cubicBezTo>
                  <a:cubicBezTo>
                    <a:pt x="960" y="1688"/>
                    <a:pt x="941" y="1746"/>
                    <a:pt x="921" y="1805"/>
                  </a:cubicBezTo>
                  <a:cubicBezTo>
                    <a:pt x="916" y="1818"/>
                    <a:pt x="898" y="1821"/>
                    <a:pt x="886" y="1829"/>
                  </a:cubicBezTo>
                  <a:cubicBezTo>
                    <a:pt x="877" y="1855"/>
                    <a:pt x="844" y="1929"/>
                    <a:pt x="827" y="1946"/>
                  </a:cubicBezTo>
                  <a:cubicBezTo>
                    <a:pt x="818" y="1955"/>
                    <a:pt x="804" y="1954"/>
                    <a:pt x="792" y="1958"/>
                  </a:cubicBezTo>
                  <a:cubicBezTo>
                    <a:pt x="784" y="1970"/>
                    <a:pt x="779" y="1984"/>
                    <a:pt x="768" y="1993"/>
                  </a:cubicBezTo>
                  <a:cubicBezTo>
                    <a:pt x="734" y="2020"/>
                    <a:pt x="714" y="1986"/>
                    <a:pt x="757" y="2029"/>
                  </a:cubicBezTo>
                  <a:close/>
                </a:path>
              </a:pathLst>
            </a:custGeom>
            <a:noFill/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4080" y="3276720"/>
              <a:ext cx="4440240" cy="2574720"/>
            </a:xfrm>
            <a:custGeom>
              <a:avLst/>
              <a:gdLst/>
              <a:ahLst/>
              <a:rect l="l" t="t" r="r" b="b"/>
              <a:pathLst>
                <a:path w="2793" h="1622">
                  <a:moveTo>
                    <a:pt x="207" y="188"/>
                  </a:moveTo>
                  <a:cubicBezTo>
                    <a:pt x="250" y="173"/>
                    <a:pt x="280" y="152"/>
                    <a:pt x="324" y="141"/>
                  </a:cubicBezTo>
                  <a:cubicBezTo>
                    <a:pt x="502" y="27"/>
                    <a:pt x="572" y="19"/>
                    <a:pt x="794" y="12"/>
                  </a:cubicBezTo>
                  <a:cubicBezTo>
                    <a:pt x="967" y="6"/>
                    <a:pt x="1139" y="4"/>
                    <a:pt x="1312" y="0"/>
                  </a:cubicBezTo>
                  <a:cubicBezTo>
                    <a:pt x="1536" y="7"/>
                    <a:pt x="1667" y="15"/>
                    <a:pt x="1864" y="35"/>
                  </a:cubicBezTo>
                  <a:cubicBezTo>
                    <a:pt x="1930" y="58"/>
                    <a:pt x="1876" y="29"/>
                    <a:pt x="1911" y="82"/>
                  </a:cubicBezTo>
                  <a:cubicBezTo>
                    <a:pt x="1920" y="96"/>
                    <a:pt x="1934" y="106"/>
                    <a:pt x="1946" y="118"/>
                  </a:cubicBezTo>
                  <a:cubicBezTo>
                    <a:pt x="1977" y="208"/>
                    <a:pt x="1931" y="99"/>
                    <a:pt x="1993" y="176"/>
                  </a:cubicBezTo>
                  <a:cubicBezTo>
                    <a:pt x="2001" y="186"/>
                    <a:pt x="1999" y="201"/>
                    <a:pt x="2005" y="212"/>
                  </a:cubicBezTo>
                  <a:cubicBezTo>
                    <a:pt x="2035" y="266"/>
                    <a:pt x="2084" y="310"/>
                    <a:pt x="2111" y="365"/>
                  </a:cubicBezTo>
                  <a:cubicBezTo>
                    <a:pt x="2134" y="411"/>
                    <a:pt x="2153" y="456"/>
                    <a:pt x="2170" y="506"/>
                  </a:cubicBezTo>
                  <a:cubicBezTo>
                    <a:pt x="2174" y="518"/>
                    <a:pt x="2182" y="541"/>
                    <a:pt x="2182" y="541"/>
                  </a:cubicBezTo>
                  <a:cubicBezTo>
                    <a:pt x="2188" y="604"/>
                    <a:pt x="2191" y="667"/>
                    <a:pt x="2205" y="729"/>
                  </a:cubicBezTo>
                  <a:cubicBezTo>
                    <a:pt x="2208" y="741"/>
                    <a:pt x="2207" y="757"/>
                    <a:pt x="2217" y="764"/>
                  </a:cubicBezTo>
                  <a:cubicBezTo>
                    <a:pt x="2283" y="811"/>
                    <a:pt x="2436" y="806"/>
                    <a:pt x="2499" y="811"/>
                  </a:cubicBezTo>
                  <a:cubicBezTo>
                    <a:pt x="2598" y="845"/>
                    <a:pt x="2466" y="796"/>
                    <a:pt x="2569" y="847"/>
                  </a:cubicBezTo>
                  <a:cubicBezTo>
                    <a:pt x="2607" y="866"/>
                    <a:pt x="2639" y="869"/>
                    <a:pt x="2675" y="894"/>
                  </a:cubicBezTo>
                  <a:cubicBezTo>
                    <a:pt x="2701" y="932"/>
                    <a:pt x="2732" y="949"/>
                    <a:pt x="2758" y="988"/>
                  </a:cubicBezTo>
                  <a:cubicBezTo>
                    <a:pt x="2766" y="1011"/>
                    <a:pt x="2773" y="1035"/>
                    <a:pt x="2781" y="1058"/>
                  </a:cubicBezTo>
                  <a:cubicBezTo>
                    <a:pt x="2785" y="1070"/>
                    <a:pt x="2793" y="1093"/>
                    <a:pt x="2793" y="1093"/>
                  </a:cubicBezTo>
                  <a:cubicBezTo>
                    <a:pt x="2789" y="1148"/>
                    <a:pt x="2788" y="1203"/>
                    <a:pt x="2781" y="1258"/>
                  </a:cubicBezTo>
                  <a:cubicBezTo>
                    <a:pt x="2777" y="1295"/>
                    <a:pt x="2762" y="1295"/>
                    <a:pt x="2746" y="1328"/>
                  </a:cubicBezTo>
                  <a:cubicBezTo>
                    <a:pt x="2721" y="1378"/>
                    <a:pt x="2750" y="1353"/>
                    <a:pt x="2711" y="1399"/>
                  </a:cubicBezTo>
                  <a:cubicBezTo>
                    <a:pt x="2636" y="1488"/>
                    <a:pt x="2499" y="1504"/>
                    <a:pt x="2393" y="1540"/>
                  </a:cubicBezTo>
                  <a:cubicBezTo>
                    <a:pt x="2389" y="1524"/>
                    <a:pt x="2394" y="1503"/>
                    <a:pt x="2381" y="1493"/>
                  </a:cubicBezTo>
                  <a:cubicBezTo>
                    <a:pt x="2371" y="1486"/>
                    <a:pt x="2358" y="1502"/>
                    <a:pt x="2346" y="1505"/>
                  </a:cubicBezTo>
                  <a:cubicBezTo>
                    <a:pt x="2288" y="1518"/>
                    <a:pt x="2228" y="1530"/>
                    <a:pt x="2170" y="1540"/>
                  </a:cubicBezTo>
                  <a:cubicBezTo>
                    <a:pt x="2103" y="1586"/>
                    <a:pt x="2027" y="1580"/>
                    <a:pt x="1946" y="1587"/>
                  </a:cubicBezTo>
                  <a:cubicBezTo>
                    <a:pt x="1907" y="1600"/>
                    <a:pt x="1868" y="1610"/>
                    <a:pt x="1829" y="1622"/>
                  </a:cubicBezTo>
                  <a:cubicBezTo>
                    <a:pt x="1735" y="1616"/>
                    <a:pt x="1647" y="1617"/>
                    <a:pt x="1559" y="1587"/>
                  </a:cubicBezTo>
                  <a:cubicBezTo>
                    <a:pt x="1540" y="1530"/>
                    <a:pt x="1559" y="1552"/>
                    <a:pt x="1476" y="1540"/>
                  </a:cubicBezTo>
                  <a:cubicBezTo>
                    <a:pt x="1310" y="1515"/>
                    <a:pt x="1340" y="1520"/>
                    <a:pt x="1194" y="1505"/>
                  </a:cubicBezTo>
                  <a:cubicBezTo>
                    <a:pt x="1052" y="1516"/>
                    <a:pt x="912" y="1534"/>
                    <a:pt x="771" y="1552"/>
                  </a:cubicBezTo>
                  <a:cubicBezTo>
                    <a:pt x="634" y="1548"/>
                    <a:pt x="497" y="1546"/>
                    <a:pt x="360" y="1540"/>
                  </a:cubicBezTo>
                  <a:cubicBezTo>
                    <a:pt x="324" y="1538"/>
                    <a:pt x="287" y="1540"/>
                    <a:pt x="254" y="1528"/>
                  </a:cubicBezTo>
                  <a:cubicBezTo>
                    <a:pt x="228" y="1519"/>
                    <a:pt x="220" y="1481"/>
                    <a:pt x="195" y="1470"/>
                  </a:cubicBezTo>
                  <a:cubicBezTo>
                    <a:pt x="157" y="1454"/>
                    <a:pt x="77" y="1434"/>
                    <a:pt x="77" y="1434"/>
                  </a:cubicBezTo>
                  <a:cubicBezTo>
                    <a:pt x="23" y="1354"/>
                    <a:pt x="38" y="1391"/>
                    <a:pt x="19" y="1328"/>
                  </a:cubicBezTo>
                  <a:cubicBezTo>
                    <a:pt x="30" y="1120"/>
                    <a:pt x="0" y="1188"/>
                    <a:pt x="42" y="1105"/>
                  </a:cubicBezTo>
                </a:path>
              </a:pathLst>
            </a:custGeom>
            <a:noFill/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01640" y="5281560"/>
              <a:ext cx="7531200" cy="1530360"/>
            </a:xfrm>
            <a:custGeom>
              <a:avLst/>
              <a:gdLst/>
              <a:ahLst/>
              <a:rect l="l" t="t" r="r" b="b"/>
              <a:pathLst>
                <a:path w="4737" h="964">
                  <a:moveTo>
                    <a:pt x="3679" y="105"/>
                  </a:moveTo>
                  <a:cubicBezTo>
                    <a:pt x="3703" y="89"/>
                    <a:pt x="3723" y="67"/>
                    <a:pt x="3750" y="58"/>
                  </a:cubicBezTo>
                  <a:cubicBezTo>
                    <a:pt x="3773" y="50"/>
                    <a:pt x="3800" y="49"/>
                    <a:pt x="3820" y="35"/>
                  </a:cubicBezTo>
                  <a:cubicBezTo>
                    <a:pt x="3865" y="4"/>
                    <a:pt x="3841" y="15"/>
                    <a:pt x="3891" y="0"/>
                  </a:cubicBezTo>
                  <a:cubicBezTo>
                    <a:pt x="4078" y="16"/>
                    <a:pt x="4252" y="28"/>
                    <a:pt x="4443" y="35"/>
                  </a:cubicBezTo>
                  <a:cubicBezTo>
                    <a:pt x="4529" y="91"/>
                    <a:pt x="4424" y="19"/>
                    <a:pt x="4514" y="94"/>
                  </a:cubicBezTo>
                  <a:cubicBezTo>
                    <a:pt x="4557" y="130"/>
                    <a:pt x="4637" y="158"/>
                    <a:pt x="4690" y="176"/>
                  </a:cubicBezTo>
                  <a:cubicBezTo>
                    <a:pt x="4698" y="188"/>
                    <a:pt x="4707" y="198"/>
                    <a:pt x="4713" y="211"/>
                  </a:cubicBezTo>
                  <a:cubicBezTo>
                    <a:pt x="4723" y="234"/>
                    <a:pt x="4737" y="282"/>
                    <a:pt x="4737" y="282"/>
                  </a:cubicBezTo>
                  <a:cubicBezTo>
                    <a:pt x="4728" y="422"/>
                    <a:pt x="4716" y="498"/>
                    <a:pt x="4690" y="623"/>
                  </a:cubicBezTo>
                  <a:cubicBezTo>
                    <a:pt x="4678" y="683"/>
                    <a:pt x="4689" y="688"/>
                    <a:pt x="4655" y="729"/>
                  </a:cubicBezTo>
                  <a:cubicBezTo>
                    <a:pt x="4622" y="769"/>
                    <a:pt x="4563" y="794"/>
                    <a:pt x="4514" y="811"/>
                  </a:cubicBezTo>
                  <a:cubicBezTo>
                    <a:pt x="4476" y="866"/>
                    <a:pt x="4503" y="841"/>
                    <a:pt x="4420" y="870"/>
                  </a:cubicBezTo>
                  <a:cubicBezTo>
                    <a:pt x="4273" y="921"/>
                    <a:pt x="4485" y="870"/>
                    <a:pt x="4349" y="905"/>
                  </a:cubicBezTo>
                  <a:cubicBezTo>
                    <a:pt x="4274" y="924"/>
                    <a:pt x="4203" y="928"/>
                    <a:pt x="4126" y="940"/>
                  </a:cubicBezTo>
                  <a:cubicBezTo>
                    <a:pt x="4086" y="946"/>
                    <a:pt x="4008" y="964"/>
                    <a:pt x="4008" y="964"/>
                  </a:cubicBezTo>
                  <a:cubicBezTo>
                    <a:pt x="3475" y="945"/>
                    <a:pt x="3215" y="935"/>
                    <a:pt x="2574" y="928"/>
                  </a:cubicBezTo>
                  <a:cubicBezTo>
                    <a:pt x="2260" y="907"/>
                    <a:pt x="1948" y="904"/>
                    <a:pt x="1634" y="917"/>
                  </a:cubicBezTo>
                  <a:cubicBezTo>
                    <a:pt x="1500" y="933"/>
                    <a:pt x="1368" y="953"/>
                    <a:pt x="1234" y="964"/>
                  </a:cubicBezTo>
                  <a:cubicBezTo>
                    <a:pt x="821" y="939"/>
                    <a:pt x="513" y="924"/>
                    <a:pt x="82" y="917"/>
                  </a:cubicBezTo>
                  <a:cubicBezTo>
                    <a:pt x="40" y="853"/>
                    <a:pt x="17" y="803"/>
                    <a:pt x="0" y="729"/>
                  </a:cubicBezTo>
                  <a:cubicBezTo>
                    <a:pt x="4" y="686"/>
                    <a:pt x="11" y="599"/>
                    <a:pt x="11" y="599"/>
                  </a:cubicBezTo>
                </a:path>
              </a:pathLst>
            </a:custGeom>
            <a:noFill/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2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4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8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55680" y="1069920"/>
            <a:ext cx="4081320" cy="2658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384800" y="1069920"/>
            <a:ext cx="4267080" cy="2779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66760" y="3733920"/>
            <a:ext cx="8610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把（  ）根蜡烛平均分成（  ）份，每份是（  ）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列式：（   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  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=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58560" y="371628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4400" spc="-1" strike="noStrike">
                <a:solidFill>
                  <a:srgbClr val="00ccff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36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4419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54864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5486400"/>
            <a:ext cx="7621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9000" y="5410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3440" y="53341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0"/>
            <a:ext cx="5097240" cy="1119240"/>
          </a:xfrm>
          <a:prstGeom prst="rect">
            <a:avLst/>
          </a:prstGeom>
        </p:spPr>
        <p:txBody>
          <a:bodyPr wrap="none" lIns="36000" rIns="36000" tIns="21600" bIns="360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日庆祝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172200" y="4095720"/>
            <a:ext cx="2971800" cy="2762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5000" y="1981080"/>
            <a:ext cx="83232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4 ÷ 7=2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，读作（   ）除以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等于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被除数是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，除数是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商是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列式（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981080" y="380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6÷ 2=8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，被除数是（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除数是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，商是（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560" y="380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62520" y="1111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560" y="114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31000" y="2057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70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25909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4876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÷4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36760" y="549360"/>
            <a:ext cx="190152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216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、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91760" y="4869000"/>
            <a:ext cx="57664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216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3×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（   ）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=12          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（      ）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×5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5×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（   ）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=30          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（      ）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×4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（   ）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×6=18          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（      ）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×9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076640"/>
            <a:ext cx="717120" cy="6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216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Verdana"/>
              </a:rPr>
              <a:t>2</a:t>
            </a: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、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4869000"/>
            <a:ext cx="29988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04600" y="5321160"/>
            <a:ext cx="27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216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84240" y="5827680"/>
            <a:ext cx="3060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216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4797360"/>
            <a:ext cx="4316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5300640"/>
            <a:ext cx="33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5877000"/>
            <a:ext cx="33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7560" y="1609560"/>
            <a:ext cx="5650560" cy="21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216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Tahoma"/>
              </a:rPr>
              <a:t>、补充口诀 </a:t>
            </a:r>
            <a:br>
              <a:rPr sz="4400"/>
            </a:br>
            <a:r>
              <a:rPr b="1" lang="zh-CN" sz="4400" spc="-1" strike="noStrike">
                <a:solidFill>
                  <a:srgbClr val="0066ff"/>
                </a:solidFill>
                <a:latin typeface="Tahoma"/>
              </a:rPr>
              <a:t>  二六（        ） （        ）十二 </a:t>
            </a:r>
            <a:br>
              <a:rPr sz="4400"/>
            </a:br>
            <a:r>
              <a:rPr b="1" lang="zh-CN" sz="4400" spc="-1" strike="noStrike">
                <a:solidFill>
                  <a:srgbClr val="0066ff"/>
                </a:solidFill>
                <a:latin typeface="Tahoma"/>
              </a:rPr>
              <a:t>  三六（        ） （        ）十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33920" y="23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十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34936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三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3141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十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2997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二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9236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通过分香蕉来掌握除法运算，谁能根据下面的算式编出一个数学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÷3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9000" y="630360"/>
            <a:ext cx="8780400" cy="591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18783000">
            <a:off x="164664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18783000">
            <a:off x="258336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18783000">
            <a:off x="352008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 rot="18783000">
            <a:off x="445500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 rot="18783000">
            <a:off x="539172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 rot="18783000">
            <a:off x="6324840" y="4208040"/>
            <a:ext cx="968400" cy="91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8783000">
            <a:off x="157572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8783000">
            <a:off x="2512080" y="5357880"/>
            <a:ext cx="965160" cy="919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18783000">
            <a:off x="344880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 rot="18783000">
            <a:off x="4383720" y="5357880"/>
            <a:ext cx="965160" cy="919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 rot="18783000">
            <a:off x="532044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 rot="18783000">
            <a:off x="6255360" y="5357880"/>
            <a:ext cx="965160" cy="919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14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045E-016 L -0.17934 -0.11746 E">
                                      <p:cBhvr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045E-016 L -0.02378 -0.24416 E">
                                      <p:cBhvr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045E-016 L 0.14132 -0.26728 E">
                                      <p:cBhvr>
                                        <p:cTn id="7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045E-016 L 0.27292 -0.19329 E">
                                      <p:cBhvr>
                                        <p:cTn id="7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045E-016 L -0.48576 -0.14058 E">
                                      <p:cBhvr>
                                        <p:cTn id="7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21387E-006 L -0.34445 -0.25249 E">
                                      <p:cBhvr>
                                        <p:cTn id="8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5607E-006 L 0.41285 -0.3963 E">
                                      <p:cBhvr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5607E-006 L 0.56823 -0.30728 E">
                                      <p:cBhvr>
                                        <p:cTn id="8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5607E-006 L -0.31128 -0.18913 E">
                                      <p:cBhvr>
                                        <p:cTn id="8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5607E-006 L -0.14445 -0.31191 E">
                                      <p:cBhvr>
                                        <p:cTn id="9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5607E-006 L -0.03333 -0.30543 E">
                                      <p:cBhvr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5607E-006 L 0.13489 -0.23122 E">
                                      <p:cBhvr>
                                        <p:cTn id="9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2520" y="641520"/>
            <a:ext cx="8778960" cy="590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639800"/>
            <a:ext cx="5589720" cy="1596960"/>
          </a:xfrm>
          <a:prstGeom prst="cloudCallout">
            <a:avLst>
              <a:gd name="adj1" fmla="val -2740"/>
              <a:gd name="adj2" fmla="val 11888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香蕉平均分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3600" y="346392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÷4=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74960" y="4332240"/>
            <a:ext cx="48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7200" y="601560"/>
            <a:ext cx="8751960" cy="6002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10200" y="2320920"/>
            <a:ext cx="52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 ÷ 4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根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322720" y="3130560"/>
            <a:ext cx="850680" cy="3070440"/>
            <a:chOff x="2322720" y="3130560"/>
            <a:chExt cx="850680" cy="3070440"/>
          </a:xfrm>
        </p:grpSpPr>
        <p:sp>
          <p:nvSpPr>
            <p:cNvPr id="80" name=""/>
            <p:cNvSpPr/>
            <p:nvPr/>
          </p:nvSpPr>
          <p:spPr>
            <a:xfrm>
              <a:off x="2589120" y="31305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22720" y="3820680"/>
              <a:ext cx="850680" cy="23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被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216240" y="3119400"/>
            <a:ext cx="850680" cy="2425320"/>
            <a:chOff x="3216240" y="3119400"/>
            <a:chExt cx="850680" cy="2425320"/>
          </a:xfrm>
        </p:grpSpPr>
        <p:sp>
          <p:nvSpPr>
            <p:cNvPr id="83" name=""/>
            <p:cNvSpPr/>
            <p:nvPr/>
          </p:nvSpPr>
          <p:spPr>
            <a:xfrm>
              <a:off x="3482640" y="311940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16240" y="392652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5050"/>
                  </a:solidFill>
                  <a:latin typeface="Times New Roman"/>
                  <a:ea typeface="仿宋_GB2312"/>
                </a:rPr>
                <a:t>除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984840" y="3147840"/>
            <a:ext cx="850680" cy="2425320"/>
            <a:chOff x="3984840" y="3147840"/>
            <a:chExt cx="850680" cy="2425320"/>
          </a:xfrm>
        </p:grpSpPr>
        <p:sp>
          <p:nvSpPr>
            <p:cNvPr id="86" name=""/>
            <p:cNvSpPr/>
            <p:nvPr/>
          </p:nvSpPr>
          <p:spPr>
            <a:xfrm>
              <a:off x="4251600" y="314784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84840" y="395496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345280" y="3143160"/>
            <a:ext cx="850680" cy="1773720"/>
            <a:chOff x="5345280" y="3143160"/>
            <a:chExt cx="850680" cy="1773720"/>
          </a:xfrm>
        </p:grpSpPr>
        <p:sp>
          <p:nvSpPr>
            <p:cNvPr id="89" name=""/>
            <p:cNvSpPr/>
            <p:nvPr/>
          </p:nvSpPr>
          <p:spPr>
            <a:xfrm>
              <a:off x="5630760" y="31431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45280" y="4060440"/>
              <a:ext cx="8506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9000" y="630360"/>
            <a:ext cx="8780400" cy="5916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18783000">
            <a:off x="164664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 rot="18783000">
            <a:off x="258336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8783000">
            <a:off x="352008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 rot="18783000">
            <a:off x="445500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 rot="18783000">
            <a:off x="539172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 rot="18783000">
            <a:off x="6324840" y="4208040"/>
            <a:ext cx="968400" cy="91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18783000">
            <a:off x="157572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 rot="18783000">
            <a:off x="2512080" y="5357880"/>
            <a:ext cx="965160" cy="919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 rot="18783000">
            <a:off x="344880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 rot="18783000">
            <a:off x="4383720" y="5357880"/>
            <a:ext cx="965160" cy="919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 rot="18783000">
            <a:off x="532044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 rot="18783000">
            <a:off x="6255360" y="5357880"/>
            <a:ext cx="965160" cy="919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14" name="chimes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045E-016 L -0.12534 -0.18728 E">
                                      <p:cBhvr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045E-016 L 0.08403 -0.21017 E">
                                      <p:cBhvr>
                                        <p:cTn id="14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045E-016 L 0.36667 -0.18936 E">
                                      <p:cBhvr>
                                        <p:cTn id="14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045E-016 L -0.33177 -0.19121 E">
                                      <p:cBhvr>
                                        <p:cTn id="14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045E-016 L -0.14288 -0.19353 E">
                                      <p:cBhvr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21387E-006 L 0.13489 -0.18913 E">
                                      <p:cBhvr>
                                        <p:cTn id="15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5607E-006 L -0.11111 -0.24 E">
                                      <p:cBhvr>
                                        <p:cTn id="15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5607E-006 L 0.08108 -0.24393 E">
                                      <p:cBhvr>
                                        <p:cTn id="15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5607E-006 L 0.36007 -0.2252 E">
                                      <p:cBhvr>
                                        <p:cTn id="16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5607E-006 L -0.30955 -0.21665 E">
                                      <p:cBhvr>
                                        <p:cTn id="16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5607E-006 L -0.12066 -0.24416 E">
                                      <p:cBhvr>
                                        <p:cTn id="16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5607E-006 L 0.13489 -0.23122 E">
                                      <p:cBhvr>
                                        <p:cTn id="16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2520" y="641520"/>
            <a:ext cx="8778960" cy="5908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639800"/>
            <a:ext cx="5589720" cy="1596960"/>
          </a:xfrm>
          <a:prstGeom prst="cloudCallout">
            <a:avLst>
              <a:gd name="adj1" fmla="val -2740"/>
              <a:gd name="adj2" fmla="val 11888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香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平均分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4320" y="346392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÷3=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74960" y="4332240"/>
            <a:ext cx="48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7200" y="601560"/>
            <a:ext cx="8751960" cy="6002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89680" y="2320920"/>
            <a:ext cx="521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 ÷ 3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＝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22720" y="3130560"/>
            <a:ext cx="850680" cy="3070440"/>
            <a:chOff x="2322720" y="3130560"/>
            <a:chExt cx="850680" cy="3070440"/>
          </a:xfrm>
        </p:grpSpPr>
        <p:sp>
          <p:nvSpPr>
            <p:cNvPr id="111" name=""/>
            <p:cNvSpPr/>
            <p:nvPr/>
          </p:nvSpPr>
          <p:spPr>
            <a:xfrm>
              <a:off x="2589120" y="31305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22720" y="3820680"/>
              <a:ext cx="850680" cy="23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被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216240" y="3119400"/>
            <a:ext cx="850680" cy="2425320"/>
            <a:chOff x="3216240" y="3119400"/>
            <a:chExt cx="850680" cy="2425320"/>
          </a:xfrm>
        </p:grpSpPr>
        <p:sp>
          <p:nvSpPr>
            <p:cNvPr id="114" name=""/>
            <p:cNvSpPr/>
            <p:nvPr/>
          </p:nvSpPr>
          <p:spPr>
            <a:xfrm>
              <a:off x="3482640" y="311940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16240" y="392652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5050"/>
                  </a:solidFill>
                  <a:latin typeface="Times New Roman"/>
                  <a:ea typeface="仿宋_GB2312"/>
                </a:rPr>
                <a:t>除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84840" y="3147840"/>
            <a:ext cx="850680" cy="2425320"/>
            <a:chOff x="3984840" y="3147840"/>
            <a:chExt cx="850680" cy="2425320"/>
          </a:xfrm>
        </p:grpSpPr>
        <p:sp>
          <p:nvSpPr>
            <p:cNvPr id="117" name=""/>
            <p:cNvSpPr/>
            <p:nvPr/>
          </p:nvSpPr>
          <p:spPr>
            <a:xfrm>
              <a:off x="4251600" y="314784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84840" y="3954960"/>
              <a:ext cx="8506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345280" y="3143160"/>
            <a:ext cx="850680" cy="1773720"/>
            <a:chOff x="5345280" y="3143160"/>
            <a:chExt cx="850680" cy="1773720"/>
          </a:xfrm>
        </p:grpSpPr>
        <p:sp>
          <p:nvSpPr>
            <p:cNvPr id="120" name=""/>
            <p:cNvSpPr/>
            <p:nvPr/>
          </p:nvSpPr>
          <p:spPr>
            <a:xfrm>
              <a:off x="5630760" y="314316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45280" y="4060440"/>
              <a:ext cx="8506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9000" y="630360"/>
            <a:ext cx="8780400" cy="5916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18783000">
            <a:off x="164664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8783000">
            <a:off x="258336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 rot="18783000">
            <a:off x="352008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rot="18783000">
            <a:off x="445500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rot="18783000">
            <a:off x="5391720" y="4209120"/>
            <a:ext cx="965520" cy="91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 rot="18783000">
            <a:off x="6324840" y="4208040"/>
            <a:ext cx="968400" cy="919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rot="18783000">
            <a:off x="157572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 rot="18783000">
            <a:off x="2512080" y="5357880"/>
            <a:ext cx="965160" cy="91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 rot="18783000">
            <a:off x="344880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 rot="18783000">
            <a:off x="4383720" y="5357880"/>
            <a:ext cx="965160" cy="919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 rot="18783000">
            <a:off x="5320440" y="5358240"/>
            <a:ext cx="965160" cy="91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 rot="18783000">
            <a:off x="6255360" y="5357880"/>
            <a:ext cx="965160" cy="919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14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045E-016 L -0.19201 0.14474 E">
                                      <p:cBhvr>
                                        <p:cTn id="21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045E-016 L -0.13646 -0.21873 E">
                                      <p:cBhvr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045E-016 L -0.0302 -0.26289 E">
                                      <p:cBhvr>
                                        <p:cTn id="21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045E-016 L 0.07448 -0.2652 E">
                                      <p:cBhvr>
                                        <p:cTn id="22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045E-016 L 0.18577 -0.24855 E">
                                      <p:cBhvr>
                                        <p:cTn id="22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21387E-006 L 0.09531 0.05387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5607E-006 L -0.13646 -0.02405 E">
                                      <p:cBhvr>
                                        <p:cTn id="22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5607E-006 L -0.07951 -0.38983 E">
                                      <p:cBhvr>
                                        <p:cTn id="23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5607E-006 L 0.02049 -0.40902 E"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5607E-006 L 0.1158 -0.41549 E">
                                      <p:cBhvr>
                                        <p:cTn id="23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5607E-006 L 0.20469 -0.36463 E">
                                      <p:cBhvr>
                                        <p:cTn id="23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5607E-006 L 0.10798 -0.07075 E">
                                      <p:cBhvr>
                                        <p:cTn id="23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微软中国</cp:lastModifiedBy>
  <dcterms:modified xsi:type="dcterms:W3CDTF">2012-10-23T01:12:46Z</dcterms:modified>
  <cp:revision>1487</cp:revision>
  <dc:subject/>
  <dc:title>幻灯片 1</dc:title>
</cp:coreProperties>
</file>