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camera.wav" ContentType="audio/x-wav"/>
  <Override PartName="/ppt/media/type.wav" ContentType="audio/x-wav"/>
  <Override PartName="/ppt/media/TYPE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4C3-E1AB-4CD1-BED3-A9898F87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262-DCE9-4F52-843D-46BC4399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0E0-BB3C-40BC-973E-4DE88457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8A0-91FB-42AD-9097-41B794E7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0756-E934-4D39-9C49-D9969117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8081-9F79-464B-82F0-F9972E8D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228B-1FF2-4CE7-844C-9BAEE8B1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6EE4-803D-4A77-A0E5-68D28159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6E06-ABC0-463A-8BE5-9CA34667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84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A0C7-D50B-42B8-B8AA-46AC4035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4F49-99EF-476C-A27A-21A24F50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E1E-BE8A-42B8-8AB4-70416677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A7A9-5323-47C4-99D3-103D00E9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B6B8-F5ED-4FDB-B96C-DE281423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D0D8-C72B-4888-AC86-9F09AD3E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7370-6850-4165-9C7E-6EFC822F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1553-8F25-404F-B026-CF87BFE2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6CD9D-1911-4E24-9145-BF7D15C0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3CFBA-4972-4C15-8F8F-6AFB8C77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2696-5424-48B3-89DF-6135B797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86CE-86D6-4C10-804F-450878E1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EC59-170D-4CE4-9E40-24A93D79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677-45FE-46AB-B2D1-93300D81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84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BCC6-D744-454D-9B02-3E0A1FCC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6BE2-C010-4C31-B719-FFAEC4CE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8C24A-ABCD-4CCF-BD88-00EAAC8C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A8C7A-B986-4760-82CD-EA563DF6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E5F4C-AD0F-4220-9964-AF5E3AD6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3BEF-38BE-4946-B966-728BB9C9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66FD5-A5F2-4D34-80A3-6C985B89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AC8-C4F8-4265-A910-950AFD41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B37-B773-4E95-9DE1-FC46496F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84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5B3-24B3-417B-B73F-F94ECA54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2ED-48ED-40C5-8297-C2DF51C4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4AE-A3D1-4C2E-93F2-89985856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C8C-3C68-4F01-8B0A-4083F987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CA3E-5E63-4944-BF1D-CC07582EB361}" type="slidenum">
              <a:rPr b="1" lang="zh-CN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c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0808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1978-BE83-45AA-960B-5259DB22237A}" type="slidenum">
              <a:rPr b="0" lang="zh-CN" sz="1000" spc="-1" strike="noStrike">
                <a:solidFill>
                  <a:srgbClr val="80808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hc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C600-F114-4FC7-9EA9-118D81ECF67E}" type="slidenum">
              <a:rPr b="1" lang="en-US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940000" y="5589720"/>
            <a:ext cx="3024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高一数学组    钱源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27" name="Picture 4" descr="Pic_21800"/>
          <p:cNvPicPr/>
          <p:nvPr/>
        </p:nvPicPr>
        <p:blipFill>
          <a:blip r:embed="rId3"/>
          <a:stretch/>
        </p:blipFill>
        <p:spPr>
          <a:xfrm>
            <a:off x="0" y="189000"/>
            <a:ext cx="1752480" cy="1314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0" y="22762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2.2.2</a:t>
            </a:r>
            <a:r>
              <a:rPr b="1" lang="zh-CN" sz="4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对数函数的图像和性质（</a:t>
            </a:r>
            <a:r>
              <a:rPr b="1" lang="en-US" sz="4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）</a:t>
            </a: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549360"/>
            <a:ext cx="72360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932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1932"/>
                </a:solidFill>
                <a:latin typeface="宋体"/>
              </a:rPr>
              <a:t>比较下列各组中两个值的大小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1932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log </a:t>
            </a:r>
            <a:r>
              <a:rPr b="1" lang="en-US" sz="3200" spc="-1" strike="noStrike" baseline="-25000">
                <a:solidFill>
                  <a:srgbClr val="001932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7 , log </a:t>
            </a:r>
            <a:r>
              <a:rPr b="1" lang="en-US" sz="3200" spc="-1" strike="noStrike" baseline="-25000">
                <a:solidFill>
                  <a:srgbClr val="001932"/>
                </a:solidFill>
                <a:latin typeface="宋体"/>
              </a:rPr>
              <a:t>7 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6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001932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log </a:t>
            </a:r>
            <a:r>
              <a:rPr b="1" lang="en-US" sz="3200" spc="-1" strike="noStrike" baseline="-25000">
                <a:solidFill>
                  <a:srgbClr val="001932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π, log </a:t>
            </a:r>
            <a:r>
              <a:rPr b="1" lang="en-US" sz="3200" spc="-1" strike="noStrike" baseline="-25000">
                <a:solidFill>
                  <a:srgbClr val="001932"/>
                </a:solidFill>
                <a:latin typeface="宋体"/>
              </a:rPr>
              <a:t>2 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0.8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141720"/>
            <a:ext cx="4876920" cy="19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解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:∵ 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6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7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＞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6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＝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7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＜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7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7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＝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     ∴  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6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7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＞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7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63080" y="3141720"/>
            <a:ext cx="410688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(2)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解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:∵ log</a:t>
            </a:r>
            <a:r>
              <a:rPr b="1" lang="en-US" sz="28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π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＞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             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0.8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     ∴  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π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＞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0.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234936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分析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:  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） 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log </a:t>
            </a:r>
            <a:r>
              <a:rPr b="1" lang="en-US" sz="28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3280" y="2349360"/>
            <a:ext cx="311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） 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log </a:t>
            </a:r>
            <a:r>
              <a:rPr b="1" lang="en-US" sz="2800" spc="-1" strike="noStrike" baseline="-25000">
                <a:solidFill>
                  <a:srgbClr val="808080"/>
                </a:solidFill>
                <a:latin typeface="Times New Roman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42920" y="3213000"/>
            <a:ext cx="5905440" cy="2303640"/>
          </a:xfrm>
          <a:prstGeom prst="wedgeRoundRectCallout">
            <a:avLst>
              <a:gd name="adj1" fmla="val 6129"/>
              <a:gd name="adj2" fmla="val -103134"/>
              <a:gd name="adj3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932"/>
                </a:solidFill>
                <a:latin typeface="Times New Roman"/>
              </a:rPr>
              <a:t>注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1932"/>
                </a:solidFill>
                <a:latin typeface="Times New Roman"/>
              </a:rPr>
              <a:t>比较两个对数的大小时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1932"/>
                </a:solidFill>
                <a:latin typeface="Times New Roman"/>
              </a:rPr>
              <a:t>可在两个对数中间插入一个已知数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1932"/>
                </a:solidFill>
                <a:latin typeface="Times New Roman"/>
              </a:rPr>
              <a:t>如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1932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1932"/>
                </a:solidFill>
                <a:latin typeface="Times New Roman"/>
              </a:rPr>
              <a:t>等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),</a:t>
            </a:r>
            <a:r>
              <a:rPr b="1" lang="zh-CN" sz="3200" spc="-1" strike="noStrike">
                <a:solidFill>
                  <a:srgbClr val="001932"/>
                </a:solidFill>
                <a:latin typeface="Times New Roman"/>
              </a:rPr>
              <a:t>间接比较这两个对数的大小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24000" y="907920"/>
            <a:ext cx="464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（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1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）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2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7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与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280" y="1413000"/>
            <a:ext cx="450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解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:∵ 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7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3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＞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7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2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＞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716360" y="1268280"/>
                <a:ext cx="36226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684360" y="2205000"/>
            <a:ext cx="3627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∴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2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7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＞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8000" y="2924280"/>
            <a:ext cx="5832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（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2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）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0 . 2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0 . 8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与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0 . 3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0 .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3645000"/>
            <a:ext cx="64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解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:∵ 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0. 8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0.2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＞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0 . 8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0.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4437000"/>
            <a:ext cx="583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且 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0.8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0.2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,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0 . 8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0.3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＞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042920" y="5013360"/>
                <a:ext cx="4071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900000" y="5950080"/>
            <a:ext cx="583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∴  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0.2.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0.8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＜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0.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0.8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0" y="-12600"/>
            <a:ext cx="21956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变式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0" y="714240"/>
            <a:ext cx="896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溶液酸碱度的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溶液酸碱度是通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刻画的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计算公式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=-lg[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]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溶液中氢离子的浓度，单位是摩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对数函数性质及上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计算公式，说明溶液酸碱度与溶液中氢离子的浓度之间的关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纯净水中氢离子的浓度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H+] =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摩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升，计算纯净水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0" y="-12600"/>
            <a:ext cx="21956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题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26920" y="2565360"/>
            <a:ext cx="806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求函数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y = 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2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( 1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－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x</a:t>
            </a:r>
            <a:r>
              <a:rPr b="1" lang="en-US" sz="3200" spc="-1" strike="noStrike" baseline="30000">
                <a:solidFill>
                  <a:srgbClr val="808080"/>
                </a:solidFill>
                <a:latin typeface="Times New Roman"/>
                <a:ea typeface="幼圆"/>
              </a:rPr>
              <a:t> 2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)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的值域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,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单调区间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 rot="5400000">
            <a:off x="95040" y="25779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思考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3760" y="1341360"/>
            <a:ext cx="93013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般地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 = log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0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≠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叫做对数函数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是自变量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47640" y="50133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函数的定义域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0,+∞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109960" y="692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对数函数的定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324216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403280" y="32846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数函数对底数的限制条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-12600"/>
            <a:ext cx="21956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故知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847520" y="4149720"/>
            <a:ext cx="293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0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≠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765720" y="2238120"/>
            <a:ext cx="66780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图   象     性    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847160" y="1219320"/>
            <a:ext cx="55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                        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626200" y="3505320"/>
            <a:ext cx="21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定义域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en-US" sz="2600" spc="-1" strike="noStrike">
                <a:solidFill>
                  <a:srgbClr val="ff33cc"/>
                </a:solidFill>
                <a:latin typeface="宋体"/>
              </a:rPr>
              <a:t>( 0,+∞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057400" y="3886200"/>
            <a:ext cx="260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值 域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:   </a:t>
            </a:r>
            <a:r>
              <a:rPr b="1" i="1" lang="en-US" sz="2600" spc="-1" strike="noStrike">
                <a:solidFill>
                  <a:srgbClr val="009999"/>
                </a:solidFill>
                <a:latin typeface="宋体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2540520" y="4311720"/>
            <a:ext cx="417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过点</a:t>
            </a:r>
            <a:r>
              <a:rPr b="1" lang="en-US" sz="2600" spc="-1" strike="noStrike">
                <a:solidFill>
                  <a:srgbClr val="ff3300"/>
                </a:solidFill>
                <a:latin typeface="宋体"/>
              </a:rPr>
              <a:t>(1 ,0),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即当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x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y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295280" y="4876920"/>
            <a:ext cx="340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0,+∞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上是</a:t>
            </a:r>
            <a:r>
              <a:rPr b="1" lang="zh-CN" sz="2600" spc="-1" strike="noStrike">
                <a:solidFill>
                  <a:srgbClr val="333399"/>
                </a:solidFill>
                <a:latin typeface="宋体"/>
              </a:rPr>
              <a:t>增函数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5029200" y="4876920"/>
            <a:ext cx="352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0,+∞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上是</a:t>
            </a:r>
            <a:r>
              <a:rPr b="1" lang="zh-CN" sz="2600" spc="-1" strike="noStrike">
                <a:solidFill>
                  <a:srgbClr val="333399"/>
                </a:solidFill>
                <a:latin typeface="宋体"/>
              </a:rPr>
              <a:t>减函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"/>
          <p:cNvGrpSpPr/>
          <p:nvPr/>
        </p:nvGrpSpPr>
        <p:grpSpPr>
          <a:xfrm>
            <a:off x="1830600" y="1905120"/>
            <a:ext cx="2406240" cy="1523880"/>
            <a:chOff x="1830600" y="1905120"/>
            <a:chExt cx="2406240" cy="1523880"/>
          </a:xfrm>
        </p:grpSpPr>
        <p:sp>
          <p:nvSpPr>
            <p:cNvPr id="144" name="Line 10"/>
            <p:cNvSpPr/>
            <p:nvPr/>
          </p:nvSpPr>
          <p:spPr>
            <a:xfrm flipV="1">
              <a:off x="2149560" y="1935000"/>
              <a:ext cx="0" cy="1494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1"/>
            <p:cNvSpPr/>
            <p:nvPr/>
          </p:nvSpPr>
          <p:spPr>
            <a:xfrm>
              <a:off x="1844640" y="27432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1846440" y="190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390384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4"/>
            <p:cNvSpPr/>
            <p:nvPr/>
          </p:nvSpPr>
          <p:spPr>
            <a:xfrm>
              <a:off x="18306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5"/>
          <p:cNvGrpSpPr/>
          <p:nvPr/>
        </p:nvGrpSpPr>
        <p:grpSpPr>
          <a:xfrm>
            <a:off x="5364360" y="1905120"/>
            <a:ext cx="2406240" cy="1523880"/>
            <a:chOff x="5364360" y="1905120"/>
            <a:chExt cx="2406240" cy="1523880"/>
          </a:xfrm>
        </p:grpSpPr>
        <p:sp>
          <p:nvSpPr>
            <p:cNvPr id="150" name="Line 16"/>
            <p:cNvSpPr/>
            <p:nvPr/>
          </p:nvSpPr>
          <p:spPr>
            <a:xfrm flipV="1">
              <a:off x="5699160" y="1935000"/>
              <a:ext cx="0" cy="1494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7"/>
            <p:cNvSpPr/>
            <p:nvPr/>
          </p:nvSpPr>
          <p:spPr>
            <a:xfrm>
              <a:off x="5394240" y="26208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5364360" y="190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7437600" y="25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5396040" y="25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21"/>
          <p:cNvGrpSpPr/>
          <p:nvPr/>
        </p:nvGrpSpPr>
        <p:grpSpPr>
          <a:xfrm>
            <a:off x="2592000" y="2057400"/>
            <a:ext cx="766080" cy="1447920"/>
            <a:chOff x="2592000" y="2057400"/>
            <a:chExt cx="766080" cy="1447920"/>
          </a:xfrm>
        </p:grpSpPr>
        <p:sp>
          <p:nvSpPr>
            <p:cNvPr id="156" name="Line 22"/>
            <p:cNvSpPr/>
            <p:nvPr/>
          </p:nvSpPr>
          <p:spPr>
            <a:xfrm>
              <a:off x="2597040" y="2057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2592000" y="27432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1,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24"/>
          <p:cNvGrpSpPr/>
          <p:nvPr/>
        </p:nvGrpSpPr>
        <p:grpSpPr>
          <a:xfrm>
            <a:off x="6173280" y="2057400"/>
            <a:ext cx="766080" cy="1417680"/>
            <a:chOff x="6173280" y="2057400"/>
            <a:chExt cx="766080" cy="1417680"/>
          </a:xfrm>
        </p:grpSpPr>
        <p:sp>
          <p:nvSpPr>
            <p:cNvPr id="159" name="Line 25"/>
            <p:cNvSpPr/>
            <p:nvPr/>
          </p:nvSpPr>
          <p:spPr>
            <a:xfrm>
              <a:off x="6178320" y="2057400"/>
              <a:ext cx="0" cy="141768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6"/>
            <p:cNvSpPr/>
            <p:nvPr/>
          </p:nvSpPr>
          <p:spPr>
            <a:xfrm>
              <a:off x="6173280" y="2560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1,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Freeform 27"/>
          <p:cNvSpPr/>
          <p:nvPr/>
        </p:nvSpPr>
        <p:spPr>
          <a:xfrm>
            <a:off x="2330280" y="2484360"/>
            <a:ext cx="1524240" cy="8683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08" h="768">
                <a:moveTo>
                  <a:pt x="0" y="768"/>
                </a:moveTo>
                <a:cubicBezTo>
                  <a:pt x="4" y="652"/>
                  <a:pt x="8" y="536"/>
                  <a:pt x="48" y="432"/>
                </a:cubicBezTo>
                <a:cubicBezTo>
                  <a:pt x="88" y="328"/>
                  <a:pt x="160" y="208"/>
                  <a:pt x="240" y="144"/>
                </a:cubicBezTo>
                <a:cubicBezTo>
                  <a:pt x="320" y="80"/>
                  <a:pt x="400" y="72"/>
                  <a:pt x="528" y="48"/>
                </a:cubicBezTo>
                <a:cubicBezTo>
                  <a:pt x="656" y="24"/>
                  <a:pt x="928" y="8"/>
                  <a:pt x="1008" y="0"/>
                </a:cubicBezTo>
              </a:path>
            </a:pathLst>
          </a:custGeom>
          <a:noFill/>
          <a:ln cap="sq"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179280" y="62064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对数函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=lo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  (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0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≠1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与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2"/>
          <p:cNvSpPr/>
          <p:nvPr/>
        </p:nvSpPr>
        <p:spPr>
          <a:xfrm flipV="1">
            <a:off x="5927760" y="20574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360 h 838080"/>
              <a:gd name="textAreaBottom" fmla="*/ 838800 h 838080"/>
            </a:gdLst>
            <a:ahLst/>
            <a:rect l="textAreaLeft" t="textAreaTop" r="textAreaRight" b="textAreaBottom"/>
            <a:pathLst>
              <a:path w="1008" h="768">
                <a:moveTo>
                  <a:pt x="0" y="768"/>
                </a:moveTo>
                <a:cubicBezTo>
                  <a:pt x="4" y="652"/>
                  <a:pt x="8" y="536"/>
                  <a:pt x="48" y="432"/>
                </a:cubicBezTo>
                <a:cubicBezTo>
                  <a:pt x="88" y="328"/>
                  <a:pt x="160" y="208"/>
                  <a:pt x="240" y="144"/>
                </a:cubicBezTo>
                <a:cubicBezTo>
                  <a:pt x="320" y="80"/>
                  <a:pt x="400" y="72"/>
                  <a:pt x="528" y="48"/>
                </a:cubicBezTo>
                <a:cubicBezTo>
                  <a:pt x="656" y="24"/>
                  <a:pt x="928" y="8"/>
                  <a:pt x="1008" y="0"/>
                </a:cubicBezTo>
              </a:path>
            </a:pathLst>
          </a:custGeom>
          <a:noFill/>
          <a:ln cap="sq"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3"/>
          <p:cNvGrpSpPr/>
          <p:nvPr/>
        </p:nvGrpSpPr>
        <p:grpSpPr>
          <a:xfrm>
            <a:off x="826560" y="1268280"/>
            <a:ext cx="7620480" cy="5310360"/>
            <a:chOff x="826560" y="1268280"/>
            <a:chExt cx="7620480" cy="5310360"/>
          </a:xfrm>
        </p:grpSpPr>
        <p:sp>
          <p:nvSpPr>
            <p:cNvPr id="165" name="Rectangle 34"/>
            <p:cNvSpPr/>
            <p:nvPr/>
          </p:nvSpPr>
          <p:spPr>
            <a:xfrm rot="5400000">
              <a:off x="2007720" y="86760"/>
              <a:ext cx="5257800" cy="762012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5"/>
            <p:cNvSpPr/>
            <p:nvPr/>
          </p:nvSpPr>
          <p:spPr>
            <a:xfrm>
              <a:off x="826920" y="1725480"/>
              <a:ext cx="7620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36"/>
            <p:cNvSpPr/>
            <p:nvPr/>
          </p:nvSpPr>
          <p:spPr>
            <a:xfrm>
              <a:off x="826920" y="3478320"/>
              <a:ext cx="7620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7"/>
            <p:cNvSpPr/>
            <p:nvPr/>
          </p:nvSpPr>
          <p:spPr>
            <a:xfrm>
              <a:off x="1360440" y="4316400"/>
              <a:ext cx="7086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8"/>
            <p:cNvSpPr/>
            <p:nvPr/>
          </p:nvSpPr>
          <p:spPr>
            <a:xfrm>
              <a:off x="1360440" y="1268280"/>
              <a:ext cx="0" cy="525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9"/>
            <p:cNvSpPr/>
            <p:nvPr/>
          </p:nvSpPr>
          <p:spPr>
            <a:xfrm>
              <a:off x="1360440" y="4773600"/>
              <a:ext cx="7086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0"/>
            <p:cNvSpPr/>
            <p:nvPr/>
          </p:nvSpPr>
          <p:spPr>
            <a:xfrm>
              <a:off x="1360440" y="5307120"/>
              <a:ext cx="7086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1"/>
            <p:cNvSpPr/>
            <p:nvPr/>
          </p:nvSpPr>
          <p:spPr>
            <a:xfrm>
              <a:off x="4637160" y="1268280"/>
              <a:ext cx="0" cy="2210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2"/>
            <p:cNvSpPr/>
            <p:nvPr/>
          </p:nvSpPr>
          <p:spPr>
            <a:xfrm>
              <a:off x="4713120" y="4773600"/>
              <a:ext cx="0" cy="1805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3"/>
            <p:cNvSpPr/>
            <p:nvPr/>
          </p:nvSpPr>
          <p:spPr>
            <a:xfrm>
              <a:off x="1360440" y="3935520"/>
              <a:ext cx="708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44"/>
          <p:cNvGrpSpPr/>
          <p:nvPr/>
        </p:nvGrpSpPr>
        <p:grpSpPr>
          <a:xfrm>
            <a:off x="1600200" y="5270400"/>
            <a:ext cx="3124080" cy="1281960"/>
            <a:chOff x="1600200" y="5270400"/>
            <a:chExt cx="3124080" cy="1281960"/>
          </a:xfrm>
        </p:grpSpPr>
        <p:sp>
          <p:nvSpPr>
            <p:cNvPr id="176" name="Text Box 45"/>
            <p:cNvSpPr/>
            <p:nvPr/>
          </p:nvSpPr>
          <p:spPr>
            <a:xfrm>
              <a:off x="1600200" y="5270400"/>
              <a:ext cx="312408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当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x&gt;1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时，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y&gt;0          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当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x=1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时，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y=0          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当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0&lt;x&lt;1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时，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y&lt;0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6"/>
            <p:cNvSpPr/>
            <p:nvPr/>
          </p:nvSpPr>
          <p:spPr>
            <a:xfrm>
              <a:off x="1600200" y="54864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47"/>
          <p:cNvGrpSpPr/>
          <p:nvPr/>
        </p:nvGrpSpPr>
        <p:grpSpPr>
          <a:xfrm>
            <a:off x="5105520" y="5270400"/>
            <a:ext cx="3200400" cy="1281960"/>
            <a:chOff x="5105520" y="5270400"/>
            <a:chExt cx="3200400" cy="1281960"/>
          </a:xfrm>
        </p:grpSpPr>
        <p:sp>
          <p:nvSpPr>
            <p:cNvPr id="179" name="Text Box 48"/>
            <p:cNvSpPr/>
            <p:nvPr/>
          </p:nvSpPr>
          <p:spPr>
            <a:xfrm>
              <a:off x="5181480" y="5270400"/>
              <a:ext cx="312444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当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x&gt;1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时，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y&lt;0          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当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x=1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时，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y=0          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当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0&lt;x&lt;1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时，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y&gt;0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49"/>
            <p:cNvSpPr/>
            <p:nvPr/>
          </p:nvSpPr>
          <p:spPr>
            <a:xfrm>
              <a:off x="5105520" y="54864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47"/>
          <p:cNvSpPr/>
          <p:nvPr/>
        </p:nvSpPr>
        <p:spPr>
          <a:xfrm>
            <a:off x="0" y="-12600"/>
            <a:ext cx="21956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故知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92280"/>
            <a:ext cx="8077320" cy="31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1 .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求下列函数的定义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80808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y = log 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x </a:t>
            </a:r>
            <a:r>
              <a:rPr b="1" lang="en-US" sz="3200" spc="-1" strike="noStrike" baseline="30000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2) y = log 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 4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x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789360"/>
            <a:ext cx="769608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3) y = log 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 9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x </a:t>
            </a:r>
            <a:r>
              <a:rPr b="1" lang="en-US" sz="3200" spc="-1" strike="noStrike" baseline="30000">
                <a:solidFill>
                  <a:srgbClr val="80808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4) y = log 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 4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x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80000" y="328464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幼圆"/>
              </a:rPr>
              <a:t>定义域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幼圆"/>
              </a:rPr>
              <a:t>:(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幼圆"/>
              </a:rPr>
              <a:t>－∞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幼圆"/>
              </a:rPr>
              <a:t>,  4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80000" y="378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定义域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: (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－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3,  3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80000" y="43657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定义域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:( 0 ,  1 )∪( 1 , 4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01680" y="5092560"/>
                <a:ext cx="212904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由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≠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132000" y="5084640"/>
                <a:ext cx="168912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≠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95280" y="1844640"/>
                <a:ext cx="43783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由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，得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258920" y="2421000"/>
                <a:ext cx="5697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函数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的定义域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964200" y="2421000"/>
                <a:ext cx="1913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932360" y="5589720"/>
                <a:ext cx="39862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或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2300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-12600"/>
            <a:ext cx="21956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题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4000" y="620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宋体"/>
              </a:rPr>
              <a:t>(5) </a:t>
            </a:r>
            <a:r>
              <a:rPr b="1" lang="zh-CN" sz="3200" spc="-1" strike="noStrike">
                <a:solidFill>
                  <a:srgbClr val="808080"/>
                </a:solidFill>
                <a:latin typeface="宋体"/>
              </a:rPr>
              <a:t>求函数               的定义域</a:t>
            </a: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71640" y="549360"/>
                <a:ext cx="2847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611280" y="141300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解：要使函数有意义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必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47640" y="2349360"/>
            <a:ext cx="3311280" cy="1207080"/>
            <a:chOff x="1547640" y="2349360"/>
            <a:chExt cx="3311280" cy="1207080"/>
          </a:xfrm>
        </p:grpSpPr>
        <p:sp>
          <p:nvSpPr>
            <p:cNvPr id="199" name=""/>
            <p:cNvSpPr/>
            <p:nvPr/>
          </p:nvSpPr>
          <p:spPr>
            <a:xfrm>
              <a:off x="1547640" y="2548440"/>
              <a:ext cx="348480" cy="996120"/>
            </a:xfrm>
            <a:custGeom>
              <a:avLst/>
              <a:gdLst>
                <a:gd name="textAreaLeft" fmla="*/ 222840 w 348480"/>
                <a:gd name="textAreaRight" fmla="*/ 348840 w 348480"/>
                <a:gd name="textAreaTop" fmla="*/ 25920 h 996120"/>
                <a:gd name="textAreaBottom" fmla="*/ 970200 h 99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96120" y="2349360"/>
              <a:ext cx="130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4x-3&gt;0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96120" y="3046320"/>
              <a:ext cx="296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log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</a:rPr>
                <a:t>0.5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(4x-3)≥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427640" y="2421000"/>
            <a:ext cx="2449080" cy="1159200"/>
            <a:chOff x="4427640" y="2421000"/>
            <a:chExt cx="2449080" cy="1159200"/>
          </a:xfrm>
        </p:grpSpPr>
        <p:sp>
          <p:nvSpPr>
            <p:cNvPr id="203" name=""/>
            <p:cNvSpPr/>
            <p:nvPr/>
          </p:nvSpPr>
          <p:spPr>
            <a:xfrm>
              <a:off x="4427640" y="2858040"/>
              <a:ext cx="69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8080"/>
                  </a:solidFill>
                  <a:latin typeface="Times New Roman"/>
                </a:rPr>
                <a:t>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52160" y="2595600"/>
              <a:ext cx="174600" cy="962640"/>
            </a:xfrm>
            <a:custGeom>
              <a:avLst/>
              <a:gdLst>
                <a:gd name="textAreaLeft" fmla="*/ 111600 w 174600"/>
                <a:gd name="textAreaRight" fmla="*/ 174960 w 174600"/>
                <a:gd name="textAreaTop" fmla="*/ 24840 h 962640"/>
                <a:gd name="textAreaBottom" fmla="*/ 937800 h 96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14600" y="2421000"/>
              <a:ext cx="113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4x&gt;3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14600" y="3120480"/>
              <a:ext cx="16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4x-3≤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908000" y="4005360"/>
                <a:ext cx="3133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得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8" name=""/>
          <p:cNvGrpSpPr/>
          <p:nvPr/>
        </p:nvGrpSpPr>
        <p:grpSpPr>
          <a:xfrm>
            <a:off x="826920" y="5084640"/>
            <a:ext cx="7704360" cy="757080"/>
            <a:chOff x="826920" y="5084640"/>
            <a:chExt cx="7704360" cy="757080"/>
          </a:xfrm>
        </p:grpSpPr>
        <p:sp>
          <p:nvSpPr>
            <p:cNvPr id="209" name=""/>
            <p:cNvSpPr/>
            <p:nvPr/>
          </p:nvSpPr>
          <p:spPr>
            <a:xfrm>
              <a:off x="826920" y="5084640"/>
              <a:ext cx="770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1932"/>
                  </a:solidFill>
                  <a:latin typeface="Times New Roman"/>
                </a:rPr>
                <a:t>所以所求函数的定义域为</a:t>
              </a:r>
              <a:r>
                <a:rPr b="1" lang="en-US" sz="3200" spc="-1" strike="noStrike">
                  <a:solidFill>
                    <a:srgbClr val="001932"/>
                  </a:solidFill>
                  <a:latin typeface="Times New Roman"/>
                </a:rPr>
                <a:t>{x|                  }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6076800" y="5084640"/>
                  <a:ext cx="151776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94200" y="195120"/>
            <a:ext cx="83048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比较下列各组数中两个值的大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lo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4,lo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8.5  (2)lo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0.3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8,lo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0.3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3)lo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1,lo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9(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≠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75120" y="2143080"/>
            <a:ext cx="8468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回忆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同底数的两个指数是如何比较大小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宋体"/>
              </a:rPr>
              <a:t>2.5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宋体"/>
              </a:rPr>
              <a:t>3.5</a:t>
            </a:r>
            <a:r>
              <a:rPr b="1" lang="en-US" sz="4000" spc="-1" strike="noStrike" baseline="30000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0.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宋体"/>
              </a:rPr>
              <a:t>0.1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0.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宋体"/>
              </a:rPr>
              <a:t>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14200" y="1857240"/>
            <a:ext cx="868680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(1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考查对数函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y=lo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,∵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底数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&gt;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它在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0,+∞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是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增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∴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.4&lt;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8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考查对数函数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y=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宋体"/>
              </a:rPr>
              <a:t>0.3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底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&lt;0.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&lt;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它在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0,+∞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是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减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函数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       ∴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宋体"/>
              </a:rPr>
              <a:t>0.3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8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&gt;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宋体"/>
              </a:rPr>
              <a:t>0.3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479880" y="1197000"/>
            <a:ext cx="807804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&gt;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y=lo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0,+∞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1&lt;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&lt;a&lt;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y=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0,+∞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1&gt;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0" y="-12600"/>
            <a:ext cx="21956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题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5013360"/>
            <a:ext cx="8209080" cy="947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例是利用对数函数的增减性比较两个对数的大小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底数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大小关系未明确指出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分情况对底数进行讨论来比较两个对数的大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400" y="620640"/>
            <a:ext cx="9075600" cy="58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宋体"/>
              </a:rPr>
              <a:t>练习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1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808080"/>
                </a:solidFill>
                <a:latin typeface="宋体"/>
              </a:rPr>
              <a:t>比较下列各题中两个值的大小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   ⑴ 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log</a:t>
            </a:r>
            <a:r>
              <a:rPr b="1" lang="en-US" sz="4000" spc="-1" strike="noStrike" baseline="-25000">
                <a:solidFill>
                  <a:srgbClr val="808080"/>
                </a:solidFill>
                <a:latin typeface="宋体"/>
              </a:rPr>
              <a:t>10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6 </a:t>
            </a:r>
            <a:r>
              <a:rPr b="1" lang="en-US" sz="4000" spc="-1" strike="noStrike" u="sng">
                <a:solidFill>
                  <a:srgbClr val="808080"/>
                </a:solidFill>
                <a:uFillTx/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log</a:t>
            </a:r>
            <a:r>
              <a:rPr b="1" lang="en-US" sz="4000" spc="-1" strike="noStrike" baseline="-25000">
                <a:solidFill>
                  <a:srgbClr val="808080"/>
                </a:solidFill>
                <a:latin typeface="宋体"/>
              </a:rPr>
              <a:t>10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   ⑵ 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log</a:t>
            </a:r>
            <a:r>
              <a:rPr b="1" lang="en-US" sz="4000" spc="-1" strike="noStrike" baseline="-25000">
                <a:solidFill>
                  <a:srgbClr val="808080"/>
                </a:solidFill>
                <a:latin typeface="宋体"/>
              </a:rPr>
              <a:t>0.5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6 </a:t>
            </a:r>
            <a:r>
              <a:rPr b="1" lang="en-US" sz="4000" spc="-1" strike="noStrike" u="sng">
                <a:solidFill>
                  <a:srgbClr val="808080"/>
                </a:solidFill>
                <a:uFillTx/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 log</a:t>
            </a:r>
            <a:r>
              <a:rPr b="1" lang="en-US" sz="4000" spc="-1" strike="noStrike" baseline="-25000">
                <a:solidFill>
                  <a:srgbClr val="808080"/>
                </a:solidFill>
                <a:latin typeface="宋体"/>
              </a:rPr>
              <a:t>0.5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   ⑶ 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log</a:t>
            </a:r>
            <a:r>
              <a:rPr b="1" lang="en-US" sz="4000" spc="-1" strike="noStrike" baseline="-25000">
                <a:solidFill>
                  <a:srgbClr val="808080"/>
                </a:solidFill>
                <a:latin typeface="宋体"/>
              </a:rPr>
              <a:t>0.1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0.5 </a:t>
            </a:r>
            <a:r>
              <a:rPr b="1" lang="en-US" sz="4000" spc="-1" strike="noStrike" u="sng">
                <a:solidFill>
                  <a:srgbClr val="808080"/>
                </a:solidFill>
                <a:uFillTx/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 log</a:t>
            </a:r>
            <a:r>
              <a:rPr b="1" lang="en-US" sz="4000" spc="-1" strike="noStrike" baseline="-25000">
                <a:solidFill>
                  <a:srgbClr val="808080"/>
                </a:solidFill>
                <a:latin typeface="宋体"/>
              </a:rPr>
              <a:t>0.1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0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   ⑷ 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log</a:t>
            </a:r>
            <a:r>
              <a:rPr b="1" lang="en-US" sz="4000" spc="-1" strike="noStrike" baseline="-25000">
                <a:solidFill>
                  <a:srgbClr val="808080"/>
                </a:solidFill>
                <a:latin typeface="宋体"/>
              </a:rPr>
              <a:t>1.5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1.6 </a:t>
            </a:r>
            <a:r>
              <a:rPr b="1" lang="en-US" sz="4000" spc="-1" strike="noStrike" u="sng">
                <a:solidFill>
                  <a:srgbClr val="808080"/>
                </a:solidFill>
                <a:uFillTx/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 log</a:t>
            </a:r>
            <a:r>
              <a:rPr b="1" lang="en-US" sz="4000" spc="-1" strike="noStrike" baseline="-25000">
                <a:solidFill>
                  <a:srgbClr val="808080"/>
                </a:solidFill>
                <a:latin typeface="宋体"/>
              </a:rPr>
              <a:t>1.5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1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22050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068640"/>
            <a:ext cx="9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88760" y="378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27640" y="4581360"/>
            <a:ext cx="69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0" y="-12600"/>
            <a:ext cx="21956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620640"/>
            <a:ext cx="914400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练习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已知下列不等式，比较正数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n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的大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1) log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 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m &lt; log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 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2) log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 0.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m &gt; log 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0.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3) log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 a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m &lt; log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n  (0&lt;a&lt;1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4) log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 a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m &gt; log 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n  (a&gt;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22936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答案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:    (1)  m &lt;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522936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2)  m &lt;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591516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3)  m &gt;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59151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4)  m &gt;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微软用户</cp:lastModifiedBy>
  <dcterms:modified xsi:type="dcterms:W3CDTF">2012-10-25T07:36:36Z</dcterms:modified>
  <cp:revision>15</cp:revision>
  <dc:subject/>
  <dc:title>幻灯片 1</dc:title>
</cp:coreProperties>
</file>