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camera.wav" ContentType="audio/x-wav"/>
  <Override PartName="/ppt/media/type.wav" ContentType="audio/x-wav"/>
  <Override PartName="/ppt/media/TYPE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888-785D-4E78-BFFE-99D7CFCE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791-95D1-42C8-BC29-DE496AC1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204-F162-4FD9-AFB8-F48AD838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9EA-E534-4D6D-934C-9E122BC7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57E1-B51C-43A7-809B-FD4C7C87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AD0-4A92-4C14-9422-6E29F8D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533B-D6F0-4B70-8E49-5D510F0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4DFC-3BCE-40B3-9813-3DF56ACF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E8D2-91C2-4AA7-AD90-E4FE1AF6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EE1-774B-4255-813F-0023B3D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016C-CA93-4C16-AC1B-02E45A3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2AC-7716-47C9-A04F-2713F84E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C536-5063-4AAA-80FD-92E65DC7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696E-5527-4CEF-B89F-5C868F9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0D6-2595-4C03-BF81-DE222088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1316-9371-4CFE-9610-4A2FDB15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DD3C-E03A-4509-AB0D-551426F1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E55F-B05C-41B5-B5D1-1DC68443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C2D7-89BD-47CD-BBC3-37D46F7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F027-0662-4F1D-9758-1221FEEB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6199-1906-46B1-983A-C5F66E62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B6D6-080A-4F1E-8327-1A89DE7A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33A-72DD-4769-9A0D-55724061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7E3C-1F4B-4B1E-80E9-2878BC7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A87A-8C5E-4A8A-9314-837499D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A9B1-C2CA-4745-B3F4-2FD8245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12C6-55DB-408A-9649-A8FB751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D828-C4E0-41AF-99FA-E8466D29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4F06-100F-4367-9807-9F1A387A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B98D-7D55-4BDB-A5E8-7BD192AF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FFA-A093-460A-BFC9-0AF9C356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EE8-0010-4EF8-AAA4-C4746790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B84-2C87-4DAC-AB46-F606E656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582-E9EA-4015-918C-5176230C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A99-3AC2-4F44-B789-88FADC1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494-D8B5-407C-89B0-94CC4C2A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E4A-7232-4EFC-97A5-9F6BFA79B5DF}" type="slidenum">
              <a:rPr b="1" lang="zh-CN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c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CF87-B227-4F4A-8084-6E2F6A0C75B8}" type="slidenum">
              <a:rPr b="0" lang="zh-CN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c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EA9-31F0-4C73-8D3E-45A289C6CCB6}" type="slidenum">
              <a:rPr b="1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940000" y="5589720"/>
            <a:ext cx="3024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宋体"/>
              </a:rPr>
              <a:t>高一数学组    钱源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7" name="Picture 4" descr="Pic_21800"/>
          <p:cNvPicPr/>
          <p:nvPr/>
        </p:nvPicPr>
        <p:blipFill>
          <a:blip r:embed="rId3"/>
          <a:stretch/>
        </p:blipFill>
        <p:spPr>
          <a:xfrm>
            <a:off x="0" y="18900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2.2.2</a:t>
            </a:r>
            <a:r>
              <a:rPr b="1" lang="zh-CN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对数函数的图像和性质（</a:t>
            </a:r>
            <a:r>
              <a:rPr b="1" lang="en-US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）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549360"/>
            <a:ext cx="72360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比较下列各组中两个值的大小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7 , 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7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6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1932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π, log </a:t>
            </a:r>
            <a:r>
              <a:rPr b="1" lang="en-US" sz="3200" spc="-1" strike="noStrike" baseline="-25000">
                <a:solidFill>
                  <a:srgbClr val="001932"/>
                </a:solidFill>
                <a:latin typeface="宋体"/>
              </a:rPr>
              <a:t>2 </a:t>
            </a:r>
            <a:r>
              <a:rPr b="1" lang="en-US" sz="3200" spc="-1" strike="noStrike">
                <a:solidFill>
                  <a:srgbClr val="001932"/>
                </a:solidFill>
                <a:latin typeface="宋体"/>
              </a:rPr>
              <a:t>0.8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41720"/>
            <a:ext cx="4876920" cy="19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:∵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＜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∴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63080" y="3141720"/>
            <a:ext cx="410688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(2)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解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:∵ 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.8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    ∴ 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0.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2349360"/>
            <a:ext cx="388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分析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:  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）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log 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2349360"/>
            <a:ext cx="31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） 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log </a:t>
            </a:r>
            <a:r>
              <a:rPr b="1" lang="en-US" sz="2800" spc="-1" strike="noStrike" baseline="-25000">
                <a:solidFill>
                  <a:srgbClr val="808080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42920" y="3213000"/>
            <a:ext cx="5905440" cy="2303640"/>
          </a:xfrm>
          <a:prstGeom prst="wedgeRoundRectCallout">
            <a:avLst>
              <a:gd name="adj1" fmla="val 6129"/>
              <a:gd name="adj2" fmla="val -103134"/>
              <a:gd name="adj3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注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比较两个对数的大小时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可在两个对数中间插入一个已知数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如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等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),</a:t>
            </a:r>
            <a:r>
              <a:rPr b="1" lang="zh-CN" sz="3200" spc="-1" strike="noStrike">
                <a:solidFill>
                  <a:srgbClr val="001932"/>
                </a:solidFill>
                <a:latin typeface="Times New Roman"/>
              </a:rPr>
              <a:t>间接比较这两个对数的大小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907920"/>
            <a:ext cx="464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1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）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与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1413000"/>
            <a:ext cx="45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∵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716360" y="1268280"/>
                <a:ext cx="3622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4360" y="2205000"/>
            <a:ext cx="3627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∴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8000" y="2924280"/>
            <a:ext cx="5832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）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2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 . 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与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3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 .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3645000"/>
            <a:ext cx="64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解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∵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2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4437000"/>
            <a:ext cx="583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且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2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,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 . 8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3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＞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042920" y="5013360"/>
                <a:ext cx="407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900000" y="5950080"/>
            <a:ext cx="583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∴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2.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0.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＜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0.8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变式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0" y="714240"/>
            <a:ext cx="8964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酸碱度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溶液酸碱度是通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刻画的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计算公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=-lg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]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溶液中氢离子的浓度，单位是摩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对数函数性质及上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计算公式，说明溶液酸碱度与溶液中氢离子的浓度之间的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纯净水中氢离子的浓度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H+] =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摩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，计算纯净水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2565360"/>
            <a:ext cx="806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求函数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y = log</a:t>
            </a:r>
            <a:r>
              <a:rPr b="1" lang="en-US" sz="3200" spc="-1" strike="noStrike" baseline="-25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( 1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x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  <a:ea typeface="幼圆"/>
              </a:rPr>
              <a:t> 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 )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的值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,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单调区间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 rot="5400000">
            <a:off x="95040" y="25779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3760" y="1341360"/>
            <a:ext cx="93013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般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= 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≠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叫做对数函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其中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是自变量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47640" y="5013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的定义域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+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109960" y="692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对数函数的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324216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403280" y="3284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数函数对底数的限制条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847520" y="4149720"/>
            <a:ext cx="29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0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≠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765720" y="2238120"/>
            <a:ext cx="66780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图   象     性    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847160" y="1219320"/>
            <a:ext cx="55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＞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                        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＜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26200" y="3505320"/>
            <a:ext cx="21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定义域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en-US" sz="2600" spc="-1" strike="noStrike">
                <a:solidFill>
                  <a:srgbClr val="ff33cc"/>
                </a:solidFill>
                <a:latin typeface="宋体"/>
              </a:rPr>
              <a:t>( 0,+∞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3886200"/>
            <a:ext cx="260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值 域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:   </a:t>
            </a:r>
            <a:r>
              <a:rPr b="1" i="1" lang="en-US" sz="2600" spc="-1" strike="noStrike">
                <a:solidFill>
                  <a:srgbClr val="009999"/>
                </a:solidFill>
                <a:latin typeface="宋体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2540520" y="4311720"/>
            <a:ext cx="417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过点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(1 ,0)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即当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x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295280" y="4876920"/>
            <a:ext cx="34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2600" spc="-1" strike="noStrike">
                <a:solidFill>
                  <a:srgbClr val="333399"/>
                </a:solidFill>
                <a:latin typeface="宋体"/>
              </a:rPr>
              <a:t>增函数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029200" y="4876920"/>
            <a:ext cx="352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2600" spc="-1" strike="noStrike">
                <a:solidFill>
                  <a:srgbClr val="333399"/>
                </a:solidFill>
                <a:latin typeface="宋体"/>
              </a:rPr>
              <a:t>减函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1830600" y="1905120"/>
            <a:ext cx="2406240" cy="1523880"/>
            <a:chOff x="1830600" y="1905120"/>
            <a:chExt cx="2406240" cy="1523880"/>
          </a:xfrm>
        </p:grpSpPr>
        <p:sp>
          <p:nvSpPr>
            <p:cNvPr id="144" name="Line 10"/>
            <p:cNvSpPr/>
            <p:nvPr/>
          </p:nvSpPr>
          <p:spPr>
            <a:xfrm flipV="1">
              <a:off x="2149560" y="1935000"/>
              <a:ext cx="0" cy="14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1844640" y="2743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184644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390384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4"/>
            <p:cNvSpPr/>
            <p:nvPr/>
          </p:nvSpPr>
          <p:spPr>
            <a:xfrm>
              <a:off x="18306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364360" y="1905120"/>
            <a:ext cx="2406240" cy="1523880"/>
            <a:chOff x="5364360" y="1905120"/>
            <a:chExt cx="2406240" cy="1523880"/>
          </a:xfrm>
        </p:grpSpPr>
        <p:sp>
          <p:nvSpPr>
            <p:cNvPr id="150" name="Line 16"/>
            <p:cNvSpPr/>
            <p:nvPr/>
          </p:nvSpPr>
          <p:spPr>
            <a:xfrm flipV="1">
              <a:off x="5699160" y="1935000"/>
              <a:ext cx="0" cy="1494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5394240" y="26208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536436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743760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5396040" y="25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21"/>
          <p:cNvGrpSpPr/>
          <p:nvPr/>
        </p:nvGrpSpPr>
        <p:grpSpPr>
          <a:xfrm>
            <a:off x="2592000" y="2057400"/>
            <a:ext cx="766080" cy="1447920"/>
            <a:chOff x="2592000" y="2057400"/>
            <a:chExt cx="766080" cy="1447920"/>
          </a:xfrm>
        </p:grpSpPr>
        <p:sp>
          <p:nvSpPr>
            <p:cNvPr id="156" name="Line 22"/>
            <p:cNvSpPr/>
            <p:nvPr/>
          </p:nvSpPr>
          <p:spPr>
            <a:xfrm>
              <a:off x="2597040" y="205740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2592000" y="27432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4"/>
          <p:cNvGrpSpPr/>
          <p:nvPr/>
        </p:nvGrpSpPr>
        <p:grpSpPr>
          <a:xfrm>
            <a:off x="6173280" y="2057400"/>
            <a:ext cx="766080" cy="1417680"/>
            <a:chOff x="6173280" y="2057400"/>
            <a:chExt cx="766080" cy="1417680"/>
          </a:xfrm>
        </p:grpSpPr>
        <p:sp>
          <p:nvSpPr>
            <p:cNvPr id="159" name="Line 25"/>
            <p:cNvSpPr/>
            <p:nvPr/>
          </p:nvSpPr>
          <p:spPr>
            <a:xfrm>
              <a:off x="6178320" y="2057400"/>
              <a:ext cx="0" cy="1417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6"/>
            <p:cNvSpPr/>
            <p:nvPr/>
          </p:nvSpPr>
          <p:spPr>
            <a:xfrm>
              <a:off x="6173280" y="2560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1,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Freeform 27"/>
          <p:cNvSpPr/>
          <p:nvPr/>
        </p:nvSpPr>
        <p:spPr>
          <a:xfrm>
            <a:off x="2330280" y="2484360"/>
            <a:ext cx="1524240" cy="8683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179280" y="62064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对数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  (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≠1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与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2"/>
          <p:cNvSpPr/>
          <p:nvPr/>
        </p:nvSpPr>
        <p:spPr>
          <a:xfrm flipV="1">
            <a:off x="5927760" y="2057400"/>
            <a:ext cx="1523880" cy="838080"/>
          </a:xfrm>
          <a:custGeom>
            <a:avLst/>
            <a:gdLst>
              <a:gd name="textAreaLeft" fmla="*/ 0 w 1523880"/>
              <a:gd name="textAreaRight" fmla="*/ 1524240 w 152388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3"/>
          <p:cNvGrpSpPr/>
          <p:nvPr/>
        </p:nvGrpSpPr>
        <p:grpSpPr>
          <a:xfrm>
            <a:off x="826560" y="1268280"/>
            <a:ext cx="7620480" cy="5310360"/>
            <a:chOff x="826560" y="1268280"/>
            <a:chExt cx="7620480" cy="5310360"/>
          </a:xfrm>
        </p:grpSpPr>
        <p:sp>
          <p:nvSpPr>
            <p:cNvPr id="165" name="Rectangle 34"/>
            <p:cNvSpPr/>
            <p:nvPr/>
          </p:nvSpPr>
          <p:spPr>
            <a:xfrm rot="5400000">
              <a:off x="2007720" y="86760"/>
              <a:ext cx="5257800" cy="7620120"/>
            </a:xfrm>
            <a:prstGeom prst="rect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>
              <a:off x="826920" y="1725480"/>
              <a:ext cx="7620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6"/>
            <p:cNvSpPr/>
            <p:nvPr/>
          </p:nvSpPr>
          <p:spPr>
            <a:xfrm>
              <a:off x="826920" y="3478320"/>
              <a:ext cx="7620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>
              <a:off x="1360440" y="431640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8"/>
            <p:cNvSpPr/>
            <p:nvPr/>
          </p:nvSpPr>
          <p:spPr>
            <a:xfrm>
              <a:off x="1360440" y="1268280"/>
              <a:ext cx="0" cy="525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9"/>
            <p:cNvSpPr/>
            <p:nvPr/>
          </p:nvSpPr>
          <p:spPr>
            <a:xfrm>
              <a:off x="1360440" y="477360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0"/>
            <p:cNvSpPr/>
            <p:nvPr/>
          </p:nvSpPr>
          <p:spPr>
            <a:xfrm>
              <a:off x="1360440" y="5307120"/>
              <a:ext cx="708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1"/>
            <p:cNvSpPr/>
            <p:nvPr/>
          </p:nvSpPr>
          <p:spPr>
            <a:xfrm>
              <a:off x="4637160" y="1268280"/>
              <a:ext cx="0" cy="2210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2"/>
            <p:cNvSpPr/>
            <p:nvPr/>
          </p:nvSpPr>
          <p:spPr>
            <a:xfrm>
              <a:off x="4713120" y="4773600"/>
              <a:ext cx="0" cy="1805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3"/>
            <p:cNvSpPr/>
            <p:nvPr/>
          </p:nvSpPr>
          <p:spPr>
            <a:xfrm>
              <a:off x="1360440" y="3935520"/>
              <a:ext cx="70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44"/>
          <p:cNvGrpSpPr/>
          <p:nvPr/>
        </p:nvGrpSpPr>
        <p:grpSpPr>
          <a:xfrm>
            <a:off x="1600200" y="5270400"/>
            <a:ext cx="3124080" cy="1281960"/>
            <a:chOff x="1600200" y="5270400"/>
            <a:chExt cx="3124080" cy="1281960"/>
          </a:xfrm>
        </p:grpSpPr>
        <p:sp>
          <p:nvSpPr>
            <p:cNvPr id="176" name="Text Box 45"/>
            <p:cNvSpPr/>
            <p:nvPr/>
          </p:nvSpPr>
          <p:spPr>
            <a:xfrm>
              <a:off x="1600200" y="5270400"/>
              <a:ext cx="312408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&g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gt;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=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=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0&lt;x&l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lt;0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>
              <a:off x="1600200" y="54864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7"/>
          <p:cNvGrpSpPr/>
          <p:nvPr/>
        </p:nvGrpSpPr>
        <p:grpSpPr>
          <a:xfrm>
            <a:off x="5105520" y="5270400"/>
            <a:ext cx="3200400" cy="1281960"/>
            <a:chOff x="5105520" y="5270400"/>
            <a:chExt cx="3200400" cy="1281960"/>
          </a:xfrm>
        </p:grpSpPr>
        <p:sp>
          <p:nvSpPr>
            <p:cNvPr id="179" name="Text Box 48"/>
            <p:cNvSpPr/>
            <p:nvPr/>
          </p:nvSpPr>
          <p:spPr>
            <a:xfrm>
              <a:off x="5181480" y="5270400"/>
              <a:ext cx="31244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&g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lt;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x=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=0          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当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0&lt;x&lt;1</a:t>
              </a:r>
              <a:r>
                <a:rPr b="1" lang="zh-CN" sz="2600" spc="-1" strike="noStrike">
                  <a:solidFill>
                    <a:srgbClr val="ff3300"/>
                  </a:solidFill>
                  <a:latin typeface="Times New Roman"/>
                </a:rPr>
                <a:t>时，</a:t>
              </a:r>
              <a:r>
                <a:rPr b="1" lang="en-US" sz="2600" spc="-1" strike="noStrike">
                  <a:solidFill>
                    <a:srgbClr val="ff3300"/>
                  </a:solidFill>
                  <a:latin typeface="Times New Roman"/>
                </a:rPr>
                <a:t>y&gt;0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9"/>
            <p:cNvSpPr/>
            <p:nvPr/>
          </p:nvSpPr>
          <p:spPr>
            <a:xfrm>
              <a:off x="5105520" y="54864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47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92280"/>
            <a:ext cx="8077320" cy="31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1 .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求下列函数的定义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808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4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789360"/>
            <a:ext cx="76960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9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 baseline="30000">
                <a:solidFill>
                  <a:srgbClr val="80808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y =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x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 4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x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32846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:(</a:t>
            </a: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－∞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幼圆"/>
              </a:rPr>
              <a:t>,  4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378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 (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－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3,  3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43657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定义域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幼圆"/>
              </a:rPr>
              <a:t>:( 0 ,  1 )∪( 1 , 4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01680" y="5092560"/>
                <a:ext cx="212904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132000" y="5084640"/>
                <a:ext cx="168912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5280" y="1844640"/>
                <a:ext cx="4378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，得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58920" y="2421000"/>
                <a:ext cx="5697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所以函数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定义域是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964200" y="2421000"/>
                <a:ext cx="1913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932360" y="5589720"/>
                <a:ext cx="39862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或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2300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4000" y="6206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宋体"/>
              </a:rPr>
              <a:t>(5) </a:t>
            </a:r>
            <a:r>
              <a:rPr b="1" lang="zh-CN" sz="3200" spc="-1" strike="noStrike">
                <a:solidFill>
                  <a:srgbClr val="808080"/>
                </a:solidFill>
                <a:latin typeface="宋体"/>
              </a:rPr>
              <a:t>求函数               的定义域</a:t>
            </a:r>
            <a:r>
              <a:rPr b="1" lang="en-US" sz="3200" spc="-1" strike="noStrike">
                <a:solidFill>
                  <a:srgbClr val="80808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71640" y="549360"/>
                <a:ext cx="2847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611280" y="141300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解：要使函数有意义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必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47640" y="2349360"/>
            <a:ext cx="3311280" cy="1207080"/>
            <a:chOff x="1547640" y="2349360"/>
            <a:chExt cx="3311280" cy="1207080"/>
          </a:xfrm>
        </p:grpSpPr>
        <p:sp>
          <p:nvSpPr>
            <p:cNvPr id="199" name=""/>
            <p:cNvSpPr/>
            <p:nvPr/>
          </p:nvSpPr>
          <p:spPr>
            <a:xfrm>
              <a:off x="1547640" y="2548440"/>
              <a:ext cx="348480" cy="996120"/>
            </a:xfrm>
            <a:custGeom>
              <a:avLst/>
              <a:gdLst>
                <a:gd name="textAreaLeft" fmla="*/ 222840 w 348480"/>
                <a:gd name="textAreaRight" fmla="*/ 348840 w 348480"/>
                <a:gd name="textAreaTop" fmla="*/ 25920 h 996120"/>
                <a:gd name="textAreaBottom" fmla="*/ 970200 h 99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6120" y="2349360"/>
              <a:ext cx="130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-3&gt;0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6120" y="3046320"/>
              <a:ext cx="296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log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0.5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(4x-3)≥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427640" y="2421000"/>
            <a:ext cx="2449080" cy="1159200"/>
            <a:chOff x="4427640" y="2421000"/>
            <a:chExt cx="2449080" cy="1159200"/>
          </a:xfrm>
        </p:grpSpPr>
        <p:sp>
          <p:nvSpPr>
            <p:cNvPr id="203" name=""/>
            <p:cNvSpPr/>
            <p:nvPr/>
          </p:nvSpPr>
          <p:spPr>
            <a:xfrm>
              <a:off x="4427640" y="2858040"/>
              <a:ext cx="69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8080"/>
                  </a:solidFill>
                  <a:latin typeface="Times New Roman"/>
                </a:rPr>
                <a:t>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2160" y="2595600"/>
              <a:ext cx="174600" cy="96264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24840 h 962640"/>
                <a:gd name="textAreaBottom" fmla="*/ 937800 h 96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4600" y="2421000"/>
              <a:ext cx="113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&gt;3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14600" y="3120480"/>
              <a:ext cx="16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4x-3≤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908000" y="4005360"/>
                <a:ext cx="3133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826920" y="5084640"/>
            <a:ext cx="7704360" cy="757080"/>
            <a:chOff x="826920" y="5084640"/>
            <a:chExt cx="7704360" cy="757080"/>
          </a:xfrm>
        </p:grpSpPr>
        <p:sp>
          <p:nvSpPr>
            <p:cNvPr id="209" name=""/>
            <p:cNvSpPr/>
            <p:nvPr/>
          </p:nvSpPr>
          <p:spPr>
            <a:xfrm>
              <a:off x="826920" y="5084640"/>
              <a:ext cx="770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1932"/>
                  </a:solidFill>
                  <a:latin typeface="Times New Roman"/>
                </a:rPr>
                <a:t>所以所求函数的定义域为</a:t>
              </a:r>
              <a:r>
                <a:rPr b="1" lang="en-US" sz="3200" spc="-1" strike="noStrike">
                  <a:solidFill>
                    <a:srgbClr val="001932"/>
                  </a:solidFill>
                  <a:latin typeface="Times New Roman"/>
                </a:rPr>
                <a:t>{x|                  }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6076800" y="5084640"/>
                  <a:ext cx="15177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94200" y="195120"/>
            <a:ext cx="83048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比较下列各组数中两个值的大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4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8.5  (2)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8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3)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1,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9(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≠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75120" y="2143080"/>
            <a:ext cx="846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回忆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同底数的两个指数是如何比较大小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3.5</a:t>
            </a:r>
            <a:r>
              <a:rPr b="1" lang="en-US" sz="4000" spc="-1" strike="noStrike" baseline="30000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0.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0.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0.2</a:t>
            </a:r>
            <a:r>
              <a:rPr b="1" lang="en-US" sz="4400" spc="-1" strike="noStrike" baseline="30000">
                <a:solidFill>
                  <a:srgbClr val="ff0000"/>
                </a:solidFill>
                <a:latin typeface="宋体"/>
              </a:rPr>
              <a:t>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4200" y="1857240"/>
            <a:ext cx="8686800" cy="56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(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考查对数函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y=log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,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底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增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.4&l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8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考查对数函数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=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底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&lt;0.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Arial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∴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函数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    ∴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8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&gt;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宋体"/>
              </a:rPr>
              <a:t>0.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479880" y="1197000"/>
            <a:ext cx="807804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&gt;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y=lo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0,+∞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1&l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&lt;a&lt;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y=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0,+∞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1&gt;log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讲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013360"/>
            <a:ext cx="820908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例是利用对数函数的增减性比较两个对数的大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底数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小关系未明确指出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分情况对底数进行讨论来比较两个对数的大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00" y="620640"/>
            <a:ext cx="9075600" cy="58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练习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808080"/>
                </a:solidFill>
                <a:latin typeface="宋体"/>
              </a:rPr>
              <a:t>比较下列各题中两个值的大小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⑴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0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0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⑵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⑶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1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0.5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0.1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  ⑷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.6 </a:t>
            </a:r>
            <a:r>
              <a:rPr b="1" lang="en-US" sz="4000" spc="-1" strike="noStrike" u="sng">
                <a:solidFill>
                  <a:srgbClr val="808080"/>
                </a:solidFill>
                <a:uFillTx/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 log</a:t>
            </a:r>
            <a:r>
              <a:rPr b="1" lang="en-US" sz="4000" spc="-1" strike="noStrike" baseline="-25000">
                <a:solidFill>
                  <a:srgbClr val="808080"/>
                </a:solidFill>
                <a:latin typeface="宋体"/>
              </a:rPr>
              <a:t>1.5</a:t>
            </a:r>
            <a:r>
              <a:rPr b="1" lang="en-US" sz="4000" spc="-1" strike="noStrike">
                <a:solidFill>
                  <a:srgbClr val="808080"/>
                </a:solidFill>
                <a:latin typeface="宋体"/>
              </a:rPr>
              <a:t>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2205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068640"/>
            <a:ext cx="9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8876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27640" y="4581360"/>
            <a:ext cx="6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-12600"/>
            <a:ext cx="21956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620640"/>
            <a:ext cx="914400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已知下列不等式，比较正数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n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的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1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lt;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gt;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0.3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lt;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(0&lt;a&lt;1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log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m &gt; log </a:t>
            </a:r>
            <a:r>
              <a:rPr b="1" lang="en-US" sz="3200" spc="-1" strike="noStrike" baseline="-30000">
                <a:solidFill>
                  <a:srgbClr val="80808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n  (a&gt;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22936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答案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:    (1)  m &l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229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2)  m &l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59151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3)  m &g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915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(4)  m &g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微软用户</cp:lastModifiedBy>
  <dcterms:modified xsi:type="dcterms:W3CDTF">2012-10-25T07:36:36Z</dcterms:modified>
  <cp:revision>15</cp:revision>
  <dc:subject/>
  <dc:title>幻灯片 1</dc:title>
</cp:coreProperties>
</file>