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5.wmf" ContentType="image/x-wmf"/>
  <Override PartName="/ppt/media/image10.png" ContentType="image/png"/>
  <Override PartName="/ppt/media/image13.png" ContentType="image/png"/>
  <Override PartName="/ppt/media/image8.png" ContentType="image/png"/>
  <Override PartName="/ppt/media/image21.gif" ContentType="image/gif"/>
  <Override PartName="/ppt/media/image19.gif" ContentType="image/gif"/>
  <Override PartName="/ppt/media/image18.png" ContentType="image/png"/>
  <Override PartName="/ppt/media/image15.gif" ContentType="image/gif"/>
  <Override PartName="/ppt/media/image14.png" ContentType="image/png"/>
  <Override PartName="/ppt/media/image3.wmf" ContentType="image/x-wmf"/>
  <Override PartName="/ppt/media/image22.gif" ContentType="image/gif"/>
  <Override PartName="/ppt/media/image2.png" ContentType="image/png"/>
  <Override PartName="/ppt/media/image4.jpeg" ContentType="image/jpe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中国" initials="微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2-10-23T22:12:36.046000000" idx="1">
    <p:pos x="10" y="10"/>
    <p:text/>
  </p:cm>
  <p:cm authorId="0" dt="2012-10-23T22:12:37.171000000" idx="2">
    <p:pos x="146" y="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3CB-CBB3-441F-AF77-F3DD16F4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C72-460A-4AFB-B84C-30948EF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858-5125-4B10-B53B-A9DD0AE9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CB8-5FC5-4357-BB85-1B3D4D16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CEA-22A2-43D4-BCFD-1803668F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637-124F-40DA-B06A-0F7D6CDD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D34-6FF5-4FE1-AFBF-332E9C0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C56-B749-4088-8E6B-966F72F0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A36-84B6-4184-A13F-7F2D0107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B6F-ECA4-41A0-9243-BAB76E1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091-1BEA-44E7-B47E-F2CFD74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F56-D80F-4252-905F-B45658F5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7CE-860C-47CA-91EA-6EE712F0A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6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3.pn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&#25484;&#22768;.wav" TargetMode="External"/><Relationship Id="rId4" Type="http://schemas.openxmlformats.org/officeDocument/2006/relationships/image" Target="../media/image1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480" y="1440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flipH="1" rot="481200">
            <a:off x="6135120" y="4253400"/>
            <a:ext cx="2212920" cy="177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25360" y="2082960"/>
            <a:ext cx="5864400" cy="2512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分香蕉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71720" y="1052640"/>
            <a:ext cx="55371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北师大版二年级数学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 flipH="1" rot="591000">
            <a:off x="6149520" y="4282560"/>
            <a:ext cx="2212920" cy="177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 flipH="1" rot="1228200">
            <a:off x="5917680" y="4443120"/>
            <a:ext cx="2213280" cy="1771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 flipH="1" rot="2185800">
            <a:off x="5644440" y="4528440"/>
            <a:ext cx="221292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flipH="1" rot="3026400">
            <a:off x="5441400" y="4588920"/>
            <a:ext cx="2212920" cy="177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3680" y="5427720"/>
            <a:ext cx="36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执教人：方龙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7400" y="235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学数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290840" y="1928880"/>
            <a:ext cx="1914840" cy="1171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205680" y="1754280"/>
            <a:ext cx="1852560" cy="1355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414680" y="581040"/>
            <a:ext cx="1727280" cy="1135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624040" y="581040"/>
            <a:ext cx="1790640" cy="1174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500200" y="1811160"/>
            <a:ext cx="1914480" cy="11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4414680" y="3335400"/>
            <a:ext cx="1913040" cy="1171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2563920" y="3276720"/>
            <a:ext cx="1912680" cy="117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711360" y="3395520"/>
            <a:ext cx="1912680" cy="117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711360" y="1870200"/>
            <a:ext cx="1912680" cy="117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6359400" y="3335400"/>
            <a:ext cx="19130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2400480" y="4673520"/>
            <a:ext cx="4055760" cy="703440"/>
            <a:chOff x="2400480" y="4673520"/>
            <a:chExt cx="4055760" cy="703440"/>
          </a:xfrm>
        </p:grpSpPr>
        <p:sp>
          <p:nvSpPr>
            <p:cNvPr id="228" name=""/>
            <p:cNvSpPr/>
            <p:nvPr/>
          </p:nvSpPr>
          <p:spPr>
            <a:xfrm>
              <a:off x="2400480" y="4673520"/>
              <a:ext cx="405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ff"/>
                  </a:solidFill>
                  <a:latin typeface="Arial"/>
                </a:rPr>
                <a:t>平均编成</a:t>
              </a:r>
              <a:r>
                <a:rPr b="0" lang="zh-CN" sz="4000" spc="-1" strike="noStrike">
                  <a:solidFill>
                    <a:srgbClr val="ff00ff"/>
                  </a:solidFill>
                  <a:latin typeface="Arial"/>
                </a:rPr>
                <a:t>5</a:t>
              </a:r>
              <a:r>
                <a:rPr b="0" lang="zh-CN" sz="4000" spc="-1" strike="noStrike">
                  <a:solidFill>
                    <a:srgbClr val="ff00ff"/>
                  </a:solidFill>
                  <a:latin typeface="Arial"/>
                </a:rPr>
                <a:t>组，每组有     架飞机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0000" y="4816440"/>
              <a:ext cx="576360" cy="50472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638680" y="47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6800" y="5500800"/>
            <a:ext cx="37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÷5=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3920" y="247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你   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6994E-006 L -0.34375 -0.01272 E">
                                      <p:cBhvr>
                                        <p:cTn id="22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77457E-006 L 0.1967 -0.20832 E">
                                      <p:cBhvr>
                                        <p:cTn id="23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6821E-007 L 0.10486 -0.18913 E">
                                      <p:cBhvr>
                                        <p:cTn id="23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5 0.0393 L 0.19584 0.01711 E">
                                      <p:cBhvr>
                                        <p:cTn id="23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526E-006 L 0.30469 0.003 E">
                                      <p:cBhvr>
                                        <p:cTn id="2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42775E-006 L -0.15417 0.02011 E">
                                      <p:cBhvr>
                                        <p:cTn id="24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17919E-006 L -0.06823 -0.0074 E">
                                      <p:cBhvr>
                                        <p:cTn id="244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0208 L 0.21267 8.09249E-007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6 L 0.10226 -0.00439 E">
                                      <p:cBhvr>
                                        <p:cTn id="25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14840" y="2081160"/>
            <a:ext cx="1549440" cy="1050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383160" y="1969920"/>
            <a:ext cx="1500480" cy="1217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568760" y="855720"/>
            <a:ext cx="1471680" cy="1069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108240" y="960480"/>
            <a:ext cx="1400400" cy="1019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2932200" y="2077920"/>
            <a:ext cx="1549440" cy="1051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4684680" y="3144960"/>
            <a:ext cx="1549440" cy="1050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2932200" y="3186000"/>
            <a:ext cx="1549440" cy="1051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988920" y="3251160"/>
            <a:ext cx="1549440" cy="1050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1062000" y="2033640"/>
            <a:ext cx="1549440" cy="1050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>
            <a:off x="6489720" y="3070080"/>
            <a:ext cx="1549440" cy="1051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90520" y="4746600"/>
            <a:ext cx="84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架飞机编成一组，可以编成     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40760" y="4803840"/>
            <a:ext cx="647640" cy="5666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28240" y="474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06800" y="5500800"/>
            <a:ext cx="37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÷5=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9640" y="235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你真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5434E-006 L -0.26267 -0.06312 E">
                                      <p:cBhvr>
                                        <p:cTn id="26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50289E-006 L -0.03403 -0.17549 E">
                                      <p:cBhvr>
                                        <p:cTn id="26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62428E-007 L -0.04826 -0.11422 E">
                                      <p:cBhvr>
                                        <p:cTn id="27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5087E-006 L -0.25 0.09688 E">
                                      <p:cBhvr>
                                        <p:cTn id="273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6 L -0.24844 0.05295 E">
                                      <p:cBhvr>
                                        <p:cTn id="27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69942E-006 L 0.01112 -0.10682 E">
                                      <p:cBhvr>
                                        <p:cTn id="27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6994E-006 L 0.19861 -0.0437 E">
                                      <p:cBhvr>
                                        <p:cTn id="28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12139E-006 L -0.00469 -0.1237 E">
                                      <p:cBhvr>
                                        <p:cTn id="28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437 L 0.20503 0.14404 E">
                                      <p:cBhvr>
                                        <p:cTn id="28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7341E-007 L 0.19531 0.10266 E">
                                      <p:cBhvr>
                                        <p:cTn id="28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28200" y="235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960" y="1346040"/>
            <a:ext cx="7797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李老师有一根电线长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做一件教具要用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一共可以做几件这样的教具？一共要剪几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一些苹果，是十几个。平均分给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朋友或者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朋友，都剩下一个。想一想，有多少个苹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61455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49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165400" y="1593720"/>
            <a:ext cx="353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同学们，通过刚才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合作与探究， 我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们每一位同学都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常棒！通过这节课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学习，你有什么收获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请大胆的说一说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429000" cy="2830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147636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629400" y="3733920"/>
            <a:ext cx="1425600" cy="2523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39480" y="561960"/>
            <a:ext cx="3533400" cy="2775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谢谢各位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再见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263680" y="1411560"/>
            <a:ext cx="4323240" cy="3986280"/>
            <a:chOff x="2263680" y="1411560"/>
            <a:chExt cx="4323240" cy="398628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 rot="3178800">
              <a:off x="4029480" y="2516400"/>
              <a:ext cx="123084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 rot="2232000">
              <a:off x="4163400" y="3446640"/>
              <a:ext cx="1266480" cy="8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 rot="4464600">
              <a:off x="3234240" y="2742840"/>
              <a:ext cx="112716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 rot="8912400">
              <a:off x="2439720" y="1655280"/>
              <a:ext cx="1139040" cy="72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3758040" y="1481040"/>
              <a:ext cx="1266480" cy="8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8"/>
            <a:stretch/>
          </p:blipFill>
          <p:spPr>
            <a:xfrm>
              <a:off x="4821120" y="1945800"/>
              <a:ext cx="121500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9"/>
            <a:stretch/>
          </p:blipFill>
          <p:spPr>
            <a:xfrm>
              <a:off x="5176440" y="3155400"/>
              <a:ext cx="116568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0"/>
            <a:stretch/>
          </p:blipFill>
          <p:spPr>
            <a:xfrm>
              <a:off x="2593080" y="3929760"/>
              <a:ext cx="1317600" cy="8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 rot="4235400">
              <a:off x="5285160" y="4172040"/>
              <a:ext cx="130536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2"/>
            <a:stretch/>
          </p:blipFill>
          <p:spPr>
            <a:xfrm>
              <a:off x="3859560" y="4268880"/>
              <a:ext cx="1316880" cy="84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3"/>
            <a:stretch/>
          </p:blipFill>
          <p:spPr>
            <a:xfrm rot="9498600">
              <a:off x="2541240" y="2332440"/>
              <a:ext cx="139248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4"/>
            <a:stretch/>
          </p:blipFill>
          <p:spPr>
            <a:xfrm>
              <a:off x="2263680" y="3300480"/>
              <a:ext cx="1266480" cy="81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6151680" y="1278000"/>
            <a:ext cx="2795400" cy="30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 flipH="1">
            <a:off x="375840" y="2717640"/>
            <a:ext cx="293868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65360" y="706320"/>
            <a:ext cx="20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考考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7"/>
          <a:stretch/>
        </p:blipFill>
        <p:spPr>
          <a:xfrm>
            <a:off x="738360" y="104760"/>
            <a:ext cx="809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5919000">
            <a:off x="2594160" y="3348720"/>
            <a:ext cx="117144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5400000">
            <a:off x="3594960" y="3558960"/>
            <a:ext cx="1206720" cy="80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5400000">
            <a:off x="1366920" y="3359880"/>
            <a:ext cx="1204920" cy="806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 rot="5733000">
            <a:off x="3538080" y="4352760"/>
            <a:ext cx="1231920" cy="82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 rot="5400000">
            <a:off x="2664360" y="4399560"/>
            <a:ext cx="11811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 rot="5400000">
            <a:off x="2065320" y="2698560"/>
            <a:ext cx="1239840" cy="8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 rot="4866000">
            <a:off x="4393800" y="4132080"/>
            <a:ext cx="119376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 rot="5599800">
            <a:off x="5131440" y="4048560"/>
            <a:ext cx="1266840" cy="849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 rot="4235400">
            <a:off x="3208680" y="2516760"/>
            <a:ext cx="113832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 rot="5704800">
            <a:off x="4984920" y="2915280"/>
            <a:ext cx="1081080" cy="723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 rot="6357000">
            <a:off x="1887480" y="3898440"/>
            <a:ext cx="1162080" cy="93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 rot="5400000">
            <a:off x="4065840" y="2478960"/>
            <a:ext cx="1247760" cy="83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6683400" y="3122640"/>
            <a:ext cx="2932200" cy="3517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339840" y="452520"/>
            <a:ext cx="2887560" cy="2909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69760" y="2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分一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33526E-006 L 0.09202 -0.25271 E"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4798E-006 L 0.15261 0.17341 E">
                                      <p:cBhvr>
                                        <p:cTn id="2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39306E-006 L 0.06841 -0.21249 E">
                                      <p:cBhvr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90751E-006 L 0.17292 0.19052 E">
                                      <p:cBhvr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51445E-007 L 0.08559 -0.21017 E">
                                      <p:cBhvr>
                                        <p:cTn id="3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9191E-006 L 0.154 0.19954 E">
                                      <p:cBhvr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711E-006 L 0.1349 -0.22936 E">
                                      <p:cBhvr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6185E-006 L 0.15712 0.15122 E">
                                      <p:cBhvr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7 L 0.14445 -0.20624 E">
                                      <p:cBhvr>
                                        <p:cTn id="5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30504 -0.01387 E">
                                      <p:cBhvr>
                                        <p:cTn id="5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2312E-006 L 0.17292 -0.20832 E">
                                      <p:cBhvr>
                                        <p:cTn id="5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6358E-006 L 0.29514 0.07722 E">
                                      <p:cBhvr>
                                        <p:cTn id="6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41440" y="375300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680" y="1044720"/>
            <a:ext cx="5457600" cy="1596960"/>
          </a:xfrm>
          <a:prstGeom prst="cloudCallout">
            <a:avLst>
              <a:gd name="adj1" fmla="val -19166"/>
              <a:gd name="adj2" fmla="val 1525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香蕉平均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76800" y="2616120"/>
            <a:ext cx="52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 ÷ 2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根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318120" y="3425760"/>
            <a:ext cx="850680" cy="3070440"/>
            <a:chOff x="3318120" y="3425760"/>
            <a:chExt cx="850680" cy="3070440"/>
          </a:xfrm>
        </p:grpSpPr>
        <p:sp>
          <p:nvSpPr>
            <p:cNvPr id="90" name=""/>
            <p:cNvSpPr/>
            <p:nvPr/>
          </p:nvSpPr>
          <p:spPr>
            <a:xfrm>
              <a:off x="3584520" y="34257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18120" y="4115880"/>
              <a:ext cx="85068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被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83200" y="3414600"/>
            <a:ext cx="850680" cy="2425320"/>
            <a:chOff x="4183200" y="3414600"/>
            <a:chExt cx="850680" cy="2425320"/>
          </a:xfrm>
        </p:grpSpPr>
        <p:sp>
          <p:nvSpPr>
            <p:cNvPr id="93" name=""/>
            <p:cNvSpPr/>
            <p:nvPr/>
          </p:nvSpPr>
          <p:spPr>
            <a:xfrm>
              <a:off x="4449600" y="341460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3200" y="422172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99"/>
                  </a:solidFill>
                  <a:latin typeface="Times New Roman"/>
                  <a:ea typeface="仿宋_GB2312"/>
                </a:rPr>
                <a:t>除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951440" y="3443400"/>
            <a:ext cx="850680" cy="2425320"/>
            <a:chOff x="4951440" y="3443400"/>
            <a:chExt cx="850680" cy="2425320"/>
          </a:xfrm>
        </p:grpSpPr>
        <p:sp>
          <p:nvSpPr>
            <p:cNvPr id="96" name=""/>
            <p:cNvSpPr/>
            <p:nvPr/>
          </p:nvSpPr>
          <p:spPr>
            <a:xfrm>
              <a:off x="5218200" y="344340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1440" y="425052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12240" y="3438360"/>
            <a:ext cx="850680" cy="1773720"/>
            <a:chOff x="6312240" y="3438360"/>
            <a:chExt cx="850680" cy="1773720"/>
          </a:xfrm>
        </p:grpSpPr>
        <p:sp>
          <p:nvSpPr>
            <p:cNvPr id="99" name=""/>
            <p:cNvSpPr/>
            <p:nvPr/>
          </p:nvSpPr>
          <p:spPr>
            <a:xfrm>
              <a:off x="6597720" y="34383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2240" y="4355640"/>
              <a:ext cx="8506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9480" y="247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探    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07000" y="855720"/>
            <a:ext cx="151920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436040" y="3115440"/>
            <a:ext cx="6155640" cy="2846520"/>
            <a:chOff x="1436040" y="3115440"/>
            <a:chExt cx="6155640" cy="2846520"/>
          </a:xfrm>
        </p:grpSpPr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 rot="18783000">
              <a:off x="1762560" y="3324240"/>
              <a:ext cx="96552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 rot="18783000">
              <a:off x="2699280" y="3324600"/>
              <a:ext cx="96552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 rot="18783000">
              <a:off x="3636000" y="3324600"/>
              <a:ext cx="96552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 rot="18783000">
              <a:off x="4570920" y="3324600"/>
              <a:ext cx="96552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 rot="18783000">
              <a:off x="5507640" y="3324600"/>
              <a:ext cx="96552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9"/>
            <a:stretch/>
          </p:blipFill>
          <p:spPr>
            <a:xfrm rot="18783000">
              <a:off x="6440760" y="3323520"/>
              <a:ext cx="96840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0"/>
            <a:stretch/>
          </p:blipFill>
          <p:spPr>
            <a:xfrm rot="18783000">
              <a:off x="1618560" y="4835880"/>
              <a:ext cx="96516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1"/>
            <a:stretch/>
          </p:blipFill>
          <p:spPr>
            <a:xfrm rot="18783000">
              <a:off x="2555280" y="4835880"/>
              <a:ext cx="96516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2"/>
            <a:stretch/>
          </p:blipFill>
          <p:spPr>
            <a:xfrm rot="18783000">
              <a:off x="3492000" y="4835880"/>
              <a:ext cx="96516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3"/>
            <a:stretch/>
          </p:blipFill>
          <p:spPr>
            <a:xfrm rot="18783000">
              <a:off x="4426920" y="4835880"/>
              <a:ext cx="96516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4"/>
            <a:stretch/>
          </p:blipFill>
          <p:spPr>
            <a:xfrm rot="18783000">
              <a:off x="5363640" y="4835880"/>
              <a:ext cx="96516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5"/>
            <a:stretch/>
          </p:blipFill>
          <p:spPr>
            <a:xfrm rot="18783000">
              <a:off x="6298560" y="4835880"/>
              <a:ext cx="965160" cy="91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6394320" y="925560"/>
            <a:ext cx="164628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-2274840" y="2860560"/>
            <a:ext cx="1519200" cy="172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-2058840" y="3076560"/>
            <a:ext cx="1519200" cy="172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2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试一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-0.05295 C 0.05122 -0.07908 0.04341 -0.1059 0.03369 -0.1311 C 0.03473 -0.14567 0.03421 -0.16023 0.03629 -0.17503 C 0.03872 -0.19168 0.0625 -0.19561 0.0823 -0.19977 C 0.15053 -0.19885 0.18004 -0.20301 0.23178 -0.19191 C 0.24046 -0.18682 0.24271 -0.18104 0.24896 -0.17503 C 0.25209 -0.16902 0.25816 -0.16763 0.26372 -0.16231 C 0.26806 -0.15399 0.26997 -0.1459 0.2731 -0.13734 C 0.2724 -0.13272 0.2731 -0.12763 0.27066 -0.12347 C 0.26511 -0.11191 0.2224 -0.11283 0.21754 -0.11237 C 0.22865 -0.10867 0.22987 -0.10867 0.24167 -0.10289 C 0.24549 -0.10081 0.24966 -0.09919 0.25348 -0.09688 C 0.25556 -0.09572 0.26094 -0.09364 0.25851 -0.09364 C 0.25504 -0.09364 0.25226 -0.09596 0.24896 -0.09688 C 0.24445 -0.09804 0.23924 -0.09896 0.23421 -0.09989 C 0.21702 -0.10382 0.20174 -0.10752 0.18386 -0.10937 C 0.179 -0.11098 0.17431 -0.11283 0.16962 -0.11399 C 0.16511 -0.11468 0.16094 -0.11422 0.15712 -0.11538 C 0.154 -0.11653 0.15261 -0.11885 0.14983 -0.12023 C 0.1448 -0.12301 0.13282 -0.12809 0.13282 -0.12763 C 0.13143 -0.12994 0.13039 -0.13226 0.1283 -0.13434 C 0.12691 -0.13549 0.12448 -0.13619 0.1231 -0.13734 C 0.11702 -0.14335 0.11494 -0.15075 0.11129 -0.15769 C 0.10903 -0.16231 0.10382 -0.17156 0.10382 -0.17133 C 0.10487 -0.18058 0.1033 -0.1896 0.10678 -0.19838 C 0.10782 -0.20116 0.11303 -0.20231 0.11598 -0.2044 C 0.12848 -0.21388 0.15035 -0.2333 0.16962 -0.23723 C 0.18316 -0.24416 0.19619 -0.24879 0.21285 -0.25133 C 0.2283 -0.25757 0.24445 -0.25896 0.26094 -0.26243 C 0.28126 -0.26636 0.30105 -0.2726 0.32171 -0.27468 C 0.34341 -0.28185 0.36823 -0.28393 0.39167 -0.28879 C 0.39844 -0.29018 0.40435 -0.29318 0.41094 -0.29364 C 0.43907 -0.29572 0.46719 -0.29572 0.49584 -0.29665 C 0.51233 -0.29734 0.54428 -0.29804 0.54428 -0.29781 E">
                                      <p:cBhvr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36 -0.05295 C 0.04444 -0.07977 0.03975 -0.10728 0.03368 -0.13318 C 0.03437 -0.14821 0.03402 -0.163 0.03541 -0.17826 C 0.0368 -0.19537 0.05138 -0.1993 0.06354 -0.2037 C 0.1052 -0.20277 0.12326 -0.20693 0.15468 -0.1956 C 0.16007 -0.19029 0.16145 -0.18451 0.16527 -0.17826 C 0.16718 -0.17202 0.17083 -0.17063 0.1743 -0.16532 C 0.17691 -0.15676 0.17812 -0.14844 0.18003 -0.13965 C 0.17951 -0.13479 0.18003 -0.12971 0.17847 -0.12532 C 0.175 -0.11352 0.14895 -0.11445 0.146 -0.11399 C 0.15277 -0.11029 0.15347 -0.11029 0.16076 -0.10427 C 0.16302 -0.10219 0.16562 -0.10058 0.16788 -0.09803 C 0.16927 -0.09688 0.17257 -0.09479 0.171 -0.09479 C 0.16892 -0.09479 0.16718 -0.09711 0.16527 -0.09803 C 0.1625 -0.09919 0.1592 -0.10034 0.15625 -0.10127 C 0.14566 -0.1052 0.13645 -0.10913 0.12552 -0.11098 C 0.12257 -0.1126 0.11979 -0.11445 0.11684 -0.1156 C 0.11406 -0.1163 0.11163 -0.11584 0.1092 -0.11699 C 0.10729 -0.11838 0.10642 -0.12069 0.10468 -0.12208 C 0.10173 -0.12485 0.09444 -0.13017 0.09444 -0.12971 C 0.09357 -0.13202 0.09288 -0.13433 0.09166 -0.13641 C 0.09079 -0.1378 0.08923 -0.13849 0.08836 -0.13965 C 0.08472 -0.14566 0.0835 -0.15329 0.08125 -0.16046 C 0.07986 -0.16532 0.07656 -0.17479 0.07656 -0.17456 C 0.07725 -0.18404 0.07638 -0.19329 0.07847 -0.20231 C 0.07916 -0.20508 0.08229 -0.20624 0.08402 -0.20832 C 0.09166 -0.21803 0.10503 -0.23792 0.11684 -0.24208 C 0.12517 -0.24925 0.13316 -0.25387 0.14305 -0.25641 C 0.1526 -0.26289 0.1625 -0.26427 0.17257 -0.26797 C 0.18489 -0.2719 0.19704 -0.27838 0.20972 -0.28046 C 0.22291 -0.28786 0.23819 -0.28994 0.25243 -0.29479 C 0.25659 -0.29641 0.26024 -0.29942 0.26423 -0.29988 C 0.28142 -0.30196 0.29861 -0.30196 0.31614 -0.30289 C 0.32621 -0.30358 0.34583 -0.30427 0.34583 -0.30404 E">
                                      <p:cBhvr>
                                        <p:cTn id="10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86440" y="577800"/>
            <a:ext cx="151920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65480" y="593640"/>
            <a:ext cx="151920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572240" y="1303200"/>
            <a:ext cx="1571760" cy="172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 rot="18783000">
            <a:off x="164664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rot="18783000">
            <a:off x="258336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 rot="18783000">
            <a:off x="352008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 rot="18783000">
            <a:off x="445500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 rot="18783000">
            <a:off x="539172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 rot="18783000">
            <a:off x="6324840" y="4208040"/>
            <a:ext cx="968400" cy="919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 rot="18783000">
            <a:off x="157572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 rot="18783000">
            <a:off x="251208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 rot="18783000">
            <a:off x="344880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 rot="18783000">
            <a:off x="438372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 rot="18783000">
            <a:off x="532044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 rot="18783000">
            <a:off x="625536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0" y="1547640"/>
            <a:ext cx="1519200" cy="1729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2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试一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9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045E-016 L -0.17934 -0.11746 E">
                                      <p:cBhvr>
                                        <p:cTn id="10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045E-016 L -0.02378 -0.24416 E">
                                      <p:cBhvr>
                                        <p:cTn id="10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045E-016 L 0.14132 -0.26728 E">
                                      <p:cBhvr>
                                        <p:cTn id="11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045E-016 L 0.27292 -0.19329 E">
                                      <p:cBhvr>
                                        <p:cTn id="11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045E-016 L -0.48576 -0.14058 E">
                                      <p:cBhvr>
                                        <p:cTn id="11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21387E-006 L -0.34445 -0.25249 E">
                                      <p:cBhvr>
                                        <p:cTn id="11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5607E-006 L 0.41285 -0.3963 E">
                                      <p:cBhvr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5607E-006 L 0.56823 -0.30728 E">
                                      <p:cBhvr>
                                        <p:cTn id="12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5607E-006 L -0.31128 -0.18913 E">
                                      <p:cBhvr>
                                        <p:cTn id="1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6 L -0.14445 -0.31191 E">
                                      <p:cBhvr>
                                        <p:cTn id="12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5607E-006 L -0.03333 -0.30543 E">
                                      <p:cBhvr>
                                        <p:cTn id="13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5607E-006 L 0.13489 -0.23122 E">
                                      <p:cBhvr>
                                        <p:cTn id="13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3040" y="633240"/>
            <a:ext cx="8739360" cy="592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641680"/>
            <a:ext cx="5268960" cy="1596960"/>
          </a:xfrm>
          <a:prstGeom prst="cloudCallout">
            <a:avLst>
              <a:gd name="adj1" fmla="val 36773"/>
              <a:gd name="adj2" fmla="val 67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根香蕉平均分成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每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74280" y="1552680"/>
            <a:ext cx="306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÷4=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8000" y="483876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30440" y="3516120"/>
            <a:ext cx="509904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平均分成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份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每份几根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15717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15717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108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328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364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1708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55680" y="4778280"/>
            <a:ext cx="64800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55680" y="477828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08400" y="477828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32400" y="477828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87680" y="4778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6040" y="477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3573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83000" y="4902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1397160"/>
            <a:ext cx="3816360" cy="1655640"/>
          </a:xfrm>
          <a:prstGeom prst="flowChartAlternateProcess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1357200"/>
            <a:ext cx="3959280" cy="1656000"/>
          </a:xfrm>
          <a:prstGeom prst="flowChartAlternateProcess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84400" y="47052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81840" y="4705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0818000">
            <a:off x="4602960" y="47044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93640" y="477828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Impact"/>
                <a:ea typeface="隶书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28440" y="0"/>
            <a:ext cx="9318600" cy="6943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1152360"/>
            <a:ext cx="4176720" cy="1729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308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2116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9912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352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08800" y="1571760"/>
            <a:ext cx="21564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5164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2640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15200" y="158580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4488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01920" y="3211560"/>
            <a:ext cx="50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平均分成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份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每份几根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560" y="406872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406872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73560" y="406872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0" y="4068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3800" y="4068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0440" y="3995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7000" y="3995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28080" y="3995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33520" y="404352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5720" y="1327320"/>
            <a:ext cx="1122480" cy="165564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8400" y="1327320"/>
            <a:ext cx="1195200" cy="1655640"/>
          </a:xfrm>
          <a:prstGeom prst="flowChartAlternateProcess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1341360"/>
            <a:ext cx="1209600" cy="1656000"/>
          </a:xfrm>
          <a:prstGeom prst="flowChartAlternateProcess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9320" y="1353960"/>
            <a:ext cx="1179360" cy="1656000"/>
          </a:xfrm>
          <a:prstGeom prst="flowChartAlternateProcess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26040" y="1341360"/>
            <a:ext cx="1195560" cy="1656000"/>
          </a:xfrm>
          <a:prstGeom prst="flowChartAlternateProcess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1341360"/>
            <a:ext cx="1150920" cy="1656000"/>
          </a:xfrm>
          <a:prstGeom prst="flowChartAlternateProcess">
            <a:avLst/>
          </a:prstGeom>
          <a:noFill/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USER</cp:lastModifiedBy>
  <dcterms:modified xsi:type="dcterms:W3CDTF">2012-10-24T02:13:32Z</dcterms:modified>
  <cp:revision>1480</cp:revision>
  <dc:subject/>
  <dc:title>幻灯片 1</dc:title>
</cp:coreProperties>
</file>