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FCCB-136A-4FF4-A76C-9656C430C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99640" y="1134720"/>
            <a:ext cx="7417080" cy="115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7ce8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1120" y="6157440"/>
            <a:ext cx="77724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1120" y="6356880"/>
            <a:ext cx="77724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7C6C-2A66-4571-A9D1-E1E7D3765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99640" y="1134720"/>
            <a:ext cx="7417080" cy="115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7ce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1120" y="6157440"/>
            <a:ext cx="37926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3800" y="6157440"/>
            <a:ext cx="37926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1120" y="6356880"/>
            <a:ext cx="37926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3800" y="6356880"/>
            <a:ext cx="37926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50DF-9DE0-44A0-8E57-584F0C0DD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99640" y="1134720"/>
            <a:ext cx="7417080" cy="115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7ce8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1120" y="6157440"/>
            <a:ext cx="2502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09120" y="6157440"/>
            <a:ext cx="2502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6760" y="6157440"/>
            <a:ext cx="2502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1120" y="6356880"/>
            <a:ext cx="2502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09120" y="6356880"/>
            <a:ext cx="2502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6760" y="6356880"/>
            <a:ext cx="2502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4971-3B8E-40FE-B162-E3B5DCDA6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99640" y="1134720"/>
            <a:ext cx="7417080" cy="115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7ce8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1120" y="615744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99640" y="1134720"/>
            <a:ext cx="7417080" cy="115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7ce8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1120" y="615744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99640" y="1134720"/>
            <a:ext cx="7417080" cy="115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7ce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1120" y="6157440"/>
            <a:ext cx="37926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3800" y="6157440"/>
            <a:ext cx="37926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99640" y="1134720"/>
            <a:ext cx="7417080" cy="115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7ce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99640" y="1134720"/>
            <a:ext cx="7417080" cy="533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99640" y="1134720"/>
            <a:ext cx="7417080" cy="115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7ce8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1120" y="6157440"/>
            <a:ext cx="37926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3800" y="6157440"/>
            <a:ext cx="37926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1120" y="6356880"/>
            <a:ext cx="37926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99640" y="1134720"/>
            <a:ext cx="7417080" cy="115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7ce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1120" y="615744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3507-0EF3-4F69-B6F4-F5AB6FE2C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99640" y="1134720"/>
            <a:ext cx="7417080" cy="115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7ce8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1120" y="6157440"/>
            <a:ext cx="37926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3800" y="6157440"/>
            <a:ext cx="37926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3800" y="6356880"/>
            <a:ext cx="37926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99640" y="1134720"/>
            <a:ext cx="7417080" cy="115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7ce8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1120" y="6157440"/>
            <a:ext cx="37926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3800" y="6157440"/>
            <a:ext cx="37926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1120" y="6356880"/>
            <a:ext cx="77724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99640" y="1134720"/>
            <a:ext cx="7417080" cy="115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7ce8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1120" y="6157440"/>
            <a:ext cx="77724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1120" y="6356880"/>
            <a:ext cx="77724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99640" y="1134720"/>
            <a:ext cx="7417080" cy="115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7ce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1120" y="6157440"/>
            <a:ext cx="37926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3800" y="6157440"/>
            <a:ext cx="37926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1120" y="6356880"/>
            <a:ext cx="37926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3800" y="6356880"/>
            <a:ext cx="37926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99640" y="1134720"/>
            <a:ext cx="7417080" cy="115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7ce8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1120" y="6157440"/>
            <a:ext cx="2502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09120" y="6157440"/>
            <a:ext cx="2502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36760" y="6157440"/>
            <a:ext cx="2502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1120" y="6356880"/>
            <a:ext cx="2502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09120" y="6356880"/>
            <a:ext cx="2502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36760" y="6356880"/>
            <a:ext cx="2502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99640" y="1134720"/>
            <a:ext cx="7417080" cy="115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7ce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615744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26A3-C735-422D-8FC2-7D7166795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99640" y="1134720"/>
            <a:ext cx="7417080" cy="115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7ce8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1120" y="6157440"/>
            <a:ext cx="37926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3800" y="6157440"/>
            <a:ext cx="37926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373D-0EA9-4C28-A22E-27E916C6B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99640" y="1134720"/>
            <a:ext cx="7417080" cy="115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7ce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887C-1DC0-4094-94B0-31254CD7C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99640" y="1134720"/>
            <a:ext cx="7417080" cy="533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F369-2AC4-404D-A5F6-D6695802F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99640" y="1134720"/>
            <a:ext cx="7417080" cy="115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7ce8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1120" y="6157440"/>
            <a:ext cx="37926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3800" y="6157440"/>
            <a:ext cx="37926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1120" y="6356880"/>
            <a:ext cx="37926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64BB-2969-4CDE-92FB-ADBC5B9A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99640" y="1134720"/>
            <a:ext cx="7417080" cy="115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7ce8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1120" y="6157440"/>
            <a:ext cx="37926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800" y="6157440"/>
            <a:ext cx="37926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3800" y="6356880"/>
            <a:ext cx="37926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042C-AE43-4297-8677-3F309F90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99640" y="1134720"/>
            <a:ext cx="7417080" cy="115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7ce8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1120" y="6157440"/>
            <a:ext cx="37926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3800" y="6157440"/>
            <a:ext cx="37926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1120" y="6356880"/>
            <a:ext cx="77724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051F-A29F-4DE8-99E1-44AED303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981000"/>
            <a:ext cx="9144000" cy="144360"/>
          </a:xfrm>
          <a:prstGeom prst="rect">
            <a:avLst/>
          </a:prstGeom>
          <a:solidFill>
            <a:srgbClr val="49ca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0" y="0"/>
          <a:ext cx="9144000" cy="981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26216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8bfe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6666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9ca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666699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666699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666699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666699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666699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44652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666699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6699"/>
                </a:solidFill>
                <a:latin typeface="Verdana"/>
                <a:ea typeface="宋体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5752800" y="6457680"/>
            <a:ext cx="2895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3471480" y="64432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666699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62729-C1E1-45D9-8505-9837D2BE084F}" type="slidenum">
              <a:rPr b="0" lang="zh-CN" sz="1000" spc="-1" strike="noStrike">
                <a:solidFill>
                  <a:srgbClr val="666699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633240" y="318960"/>
            <a:ext cx="7896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2421000"/>
          <a:ext cx="9144000" cy="352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421000"/>
                    <a:ext cx="9144000" cy="35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2421000"/>
            <a:ext cx="9144000" cy="73080"/>
          </a:xfrm>
          <a:prstGeom prst="rect">
            <a:avLst/>
          </a:prstGeom>
          <a:gradFill rotWithShape="0">
            <a:gsLst>
              <a:gs pos="0">
                <a:srgbClr val="467ce8"/>
              </a:gs>
              <a:gs pos="50000">
                <a:srgbClr val="bdd0f6"/>
              </a:gs>
              <a:gs pos="100000">
                <a:srgbClr val="467c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021360"/>
            <a:ext cx="9144000" cy="836640"/>
          </a:xfrm>
          <a:prstGeom prst="rect">
            <a:avLst/>
          </a:prstGeom>
          <a:solidFill>
            <a:srgbClr val="28bf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2286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  <a:ea typeface="宋体"/>
              </a:rPr>
              <a:t>LOGO</a:t>
            </a:r>
            <a:endParaRPr b="0" lang="en-US" sz="2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99640" y="1134720"/>
            <a:ext cx="7417080" cy="115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7ce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7ce8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6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666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666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02920" y="333000"/>
            <a:ext cx="7239240" cy="194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Verdana"/>
                <a:ea typeface="黑体"/>
              </a:rPr>
              <a:t>卫星运行时间</a:t>
            </a:r>
            <a:br>
              <a:rPr sz="4400"/>
            </a:br>
            <a:r>
              <a:rPr b="1" lang="zh-CN" sz="4400" spc="-1" strike="noStrike">
                <a:solidFill>
                  <a:srgbClr val="000066"/>
                </a:solidFill>
                <a:latin typeface="Verdana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黑体"/>
              </a:rPr>
              <a:t>吕勇菊</a:t>
            </a:r>
            <a:endParaRPr b="0" lang="en-US" sz="2800" spc="-1" strike="noStrike">
              <a:solidFill>
                <a:srgbClr val="467ce8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5343480" y="6256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56000" y="1197000"/>
            <a:ext cx="48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324000" y="6237360"/>
            <a:ext cx="22320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6191280" y="131760"/>
            <a:ext cx="2952720" cy="704880"/>
            <a:chOff x="6191280" y="131760"/>
            <a:chExt cx="2952720" cy="704880"/>
          </a:xfrm>
        </p:grpSpPr>
        <p:sp>
          <p:nvSpPr>
            <p:cNvPr id="326" name=""/>
            <p:cNvSpPr/>
            <p:nvPr/>
          </p:nvSpPr>
          <p:spPr>
            <a:xfrm>
              <a:off x="6191280" y="131760"/>
              <a:ext cx="2735280" cy="7048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335640" y="189000"/>
              <a:ext cx="1130400" cy="57600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49cacd"/>
                </a:gs>
                <a:gs pos="100000">
                  <a:srgbClr val="328c8e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407280" y="227160"/>
              <a:ext cx="563400" cy="28728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be1e2"/>
                </a:gs>
                <a:gs pos="50000">
                  <a:srgbClr val="49cacd">
                    <a:alpha val="0"/>
                  </a:srgbClr>
                </a:gs>
                <a:gs pos="100000">
                  <a:srgbClr val="9be1e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675120" y="18900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五</a:t>
              </a:r>
              <a:endParaRPr b="0" lang="en-US" sz="32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344000" y="246240"/>
              <a:ext cx="18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彩云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彩云"/>
                </a:rPr>
                <a:t>小  结</a:t>
              </a:r>
              <a:endParaRPr b="0" lang="en-US" sz="28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3014640" y="202392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通过本节课的学习，你有什么收获？ </a:t>
            </a:r>
            <a:endParaRPr b="0" lang="en-US" sz="2000" spc="-1" strike="noStrike">
              <a:solidFill>
                <a:srgbClr val="666699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rcRect l="15063" t="56829" r="75063" b="33347"/>
          <a:stretch/>
        </p:blipFill>
        <p:spPr>
          <a:xfrm>
            <a:off x="971640" y="1341360"/>
            <a:ext cx="1079280" cy="15112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2661840" y="2781360"/>
            <a:ext cx="258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估算三位数乘两位数的积的范围</a:t>
            </a:r>
            <a:endParaRPr b="0" lang="en-US" sz="2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412520" y="3068640"/>
            <a:ext cx="93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(1)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把其中一个或者两个因数进行适当的四舍五入</a:t>
            </a:r>
            <a:endParaRPr b="0" lang="en-US" sz="2000" spc="-1" strike="noStrike">
              <a:solidFill>
                <a:srgbClr val="66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取近似数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;</a:t>
            </a:r>
            <a:endParaRPr b="0" lang="en-US" sz="2000" spc="-1" strike="noStrike">
              <a:solidFill>
                <a:srgbClr val="66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(2)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将近似数相乘的积作为估算的结果。</a:t>
            </a:r>
            <a:endParaRPr b="0" lang="en-US" sz="2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71840" y="4040280"/>
            <a:ext cx="23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列竖式计算三位数乘两位数</a:t>
            </a:r>
            <a:r>
              <a:rPr b="1" lang="zh-CN" sz="1800" spc="-1" strike="noStrike">
                <a:solidFill>
                  <a:srgbClr val="666699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871000" y="4503600"/>
            <a:ext cx="3836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）用两位数个位上的数去乘三位数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得到的末位</a:t>
            </a:r>
            <a:endParaRPr b="0" lang="en-US" sz="2000" spc="-1" strike="noStrike">
              <a:solidFill>
                <a:srgbClr val="66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数和两位数的个位对齐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;</a:t>
            </a:r>
            <a:endParaRPr b="0" lang="en-US" sz="2000" spc="-1" strike="noStrike">
              <a:solidFill>
                <a:srgbClr val="66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）用两位数十位上的数去乘三位数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得到的末位</a:t>
            </a:r>
            <a:endParaRPr b="0" lang="en-US" sz="2000" spc="-1" strike="noStrike">
              <a:solidFill>
                <a:srgbClr val="66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数和两位数的十位对齐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;</a:t>
            </a:r>
            <a:endParaRPr b="0" lang="en-US" sz="2000" spc="-1" strike="noStrike">
              <a:solidFill>
                <a:srgbClr val="66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）把两次乘得的数相加。</a:t>
            </a:r>
            <a:endParaRPr b="0" lang="en-US" sz="20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79280" y="260280"/>
            <a:ext cx="107964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258920" y="333360"/>
            <a:ext cx="662472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666699"/>
                </a:solidFill>
                <a:latin typeface="Arial"/>
                <a:ea typeface="宋体"/>
              </a:rPr>
              <a:t>  </a:t>
            </a:r>
            <a:r>
              <a:rPr b="1" lang="zh-CN" sz="7200" spc="-1" strike="noStrike">
                <a:solidFill>
                  <a:srgbClr val="666699"/>
                </a:solidFill>
                <a:latin typeface="Arial"/>
                <a:ea typeface="宋体"/>
              </a:rPr>
              <a:t>谢谢大家</a:t>
            </a:r>
            <a:r>
              <a:rPr b="0" lang="zh-CN" sz="8800" spc="-1" strike="noStrike">
                <a:solidFill>
                  <a:srgbClr val="666699"/>
                </a:solidFill>
                <a:latin typeface="Arial"/>
                <a:ea typeface="宋体"/>
              </a:rPr>
              <a:t> </a:t>
            </a:r>
            <a:endParaRPr b="0" lang="en-US" sz="8800" spc="-1" strike="noStrike">
              <a:solidFill>
                <a:srgbClr val="666699"/>
              </a:solidFill>
              <a:latin typeface="Arial"/>
            </a:endParaRPr>
          </a:p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5400000">
            <a:off x="-2422440" y="1626480"/>
            <a:ext cx="4824360" cy="4770360"/>
          </a:xfrm>
          <a:prstGeom prst="blockArc">
            <a:avLst>
              <a:gd name="adj1" fmla="val 10852167"/>
              <a:gd name="adj2" fmla="val 21547833"/>
              <a:gd name="adj3" fmla="val 1491"/>
            </a:avLst>
          </a:prstGeom>
          <a:gradFill rotWithShape="0">
            <a:gsLst>
              <a:gs pos="0">
                <a:srgbClr val="e1e1e1"/>
              </a:gs>
              <a:gs pos="50000">
                <a:srgbClr val="c0c0c0"/>
              </a:gs>
              <a:gs pos="100000">
                <a:srgbClr val="e1e1e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 rot="5400000">
            <a:off x="-2016360" y="2040480"/>
            <a:ext cx="4032360" cy="3929040"/>
          </a:xfrm>
          <a:prstGeom prst="blockArc">
            <a:avLst>
              <a:gd name="adj1" fmla="val 10800000"/>
              <a:gd name="adj2" fmla="val 0"/>
              <a:gd name="adj3" fmla="val 49741"/>
            </a:avLst>
          </a:prstGeom>
          <a:gradFill rotWithShape="0">
            <a:gsLst>
              <a:gs pos="0">
                <a:srgbClr val="28bfee">
                  <a:alpha val="56078"/>
                </a:srgbClr>
              </a:gs>
              <a:gs pos="100000">
                <a:srgbClr val="fefefe">
                  <a:alpha val="48235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58920" y="587700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122560" y="5070600"/>
            <a:ext cx="441936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28464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39840" y="24559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16000" y="184464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971640" y="1700280"/>
            <a:ext cx="380880" cy="380880"/>
            <a:chOff x="971640" y="1700280"/>
            <a:chExt cx="380880" cy="380880"/>
          </a:xfrm>
        </p:grpSpPr>
        <p:sp>
          <p:nvSpPr>
            <p:cNvPr id="99" name=""/>
            <p:cNvSpPr/>
            <p:nvPr/>
          </p:nvSpPr>
          <p:spPr>
            <a:xfrm>
              <a:off x="971640" y="170028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993240" y="172152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013040" y="174168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28bfee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13040" y="174168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032480" y="176112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156680"/>
                </a:gs>
                <a:gs pos="50000">
                  <a:srgbClr val="28bfee"/>
                </a:gs>
                <a:gs pos="100000">
                  <a:srgbClr val="1566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032480" y="176112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1835280" y="2562120"/>
            <a:ext cx="380880" cy="381240"/>
            <a:chOff x="1835280" y="2562120"/>
            <a:chExt cx="380880" cy="381240"/>
          </a:xfrm>
        </p:grpSpPr>
        <p:sp>
          <p:nvSpPr>
            <p:cNvPr id="106" name=""/>
            <p:cNvSpPr/>
            <p:nvPr/>
          </p:nvSpPr>
          <p:spPr>
            <a:xfrm>
              <a:off x="1835280" y="256212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56880" y="258336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876680" y="260352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28bfee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76680" y="260352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896120" y="262296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156680"/>
                </a:gs>
                <a:gs pos="50000">
                  <a:srgbClr val="28bfee"/>
                </a:gs>
                <a:gs pos="100000">
                  <a:srgbClr val="1566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896120" y="262296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225c31"/>
                </a:gs>
                <a:gs pos="100000">
                  <a:srgbClr val="48be6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133720" y="3360600"/>
            <a:ext cx="380880" cy="381240"/>
            <a:chOff x="2133720" y="3360600"/>
            <a:chExt cx="380880" cy="381240"/>
          </a:xfrm>
        </p:grpSpPr>
        <p:sp>
          <p:nvSpPr>
            <p:cNvPr id="113" name=""/>
            <p:cNvSpPr/>
            <p:nvPr/>
          </p:nvSpPr>
          <p:spPr>
            <a:xfrm>
              <a:off x="2133720" y="336060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155320" y="338184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175120" y="34020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28bfee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175120" y="34020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2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94560" y="34214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156680"/>
                </a:gs>
                <a:gs pos="50000">
                  <a:srgbClr val="28bfee"/>
                </a:gs>
                <a:gs pos="100000">
                  <a:srgbClr val="1566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94560" y="34214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0f566c"/>
                </a:gs>
                <a:gs pos="100000">
                  <a:srgbClr val="21b3e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763640" y="5159520"/>
            <a:ext cx="381240" cy="380880"/>
            <a:chOff x="1763640" y="5159520"/>
            <a:chExt cx="381240" cy="380880"/>
          </a:xfrm>
        </p:grpSpPr>
        <p:sp>
          <p:nvSpPr>
            <p:cNvPr id="120" name=""/>
            <p:cNvSpPr/>
            <p:nvPr/>
          </p:nvSpPr>
          <p:spPr>
            <a:xfrm>
              <a:off x="1763640" y="515952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785240" y="518076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805040" y="520092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28bfee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05040" y="520092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824840" y="522036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156680"/>
                </a:gs>
                <a:gs pos="50000">
                  <a:srgbClr val="28bfee"/>
                </a:gs>
                <a:gs pos="100000">
                  <a:srgbClr val="1566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824840" y="522036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44316c"/>
                </a:gs>
                <a:gs pos="100000">
                  <a:srgbClr val="8d67e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971640" y="5925960"/>
            <a:ext cx="355680" cy="381240"/>
            <a:chOff x="971640" y="5925960"/>
            <a:chExt cx="355680" cy="381240"/>
          </a:xfrm>
        </p:grpSpPr>
        <p:sp>
          <p:nvSpPr>
            <p:cNvPr id="127" name=""/>
            <p:cNvSpPr/>
            <p:nvPr/>
          </p:nvSpPr>
          <p:spPr>
            <a:xfrm>
              <a:off x="971640" y="5925960"/>
              <a:ext cx="355680" cy="38124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991800" y="5947200"/>
              <a:ext cx="315000" cy="33768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10160" y="5967360"/>
              <a:ext cx="277920" cy="298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28bfee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010160" y="5967360"/>
              <a:ext cx="277920" cy="29844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028520" y="5986800"/>
              <a:ext cx="241560" cy="259200"/>
            </a:xfrm>
            <a:prstGeom prst="ellipse">
              <a:avLst/>
            </a:prstGeom>
            <a:gradFill rotWithShape="0">
              <a:gsLst>
                <a:gs pos="0">
                  <a:srgbClr val="156680"/>
                </a:gs>
                <a:gs pos="50000">
                  <a:srgbClr val="28bfee"/>
                </a:gs>
                <a:gs pos="100000">
                  <a:srgbClr val="1566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28520" y="5986800"/>
              <a:ext cx="241560" cy="259200"/>
            </a:xfrm>
            <a:prstGeom prst="ellipse">
              <a:avLst/>
            </a:prstGeom>
            <a:gradFill rotWithShape="0">
              <a:gsLst>
                <a:gs pos="0">
                  <a:srgbClr val="6d2d10"/>
                </a:gs>
                <a:gs pos="100000">
                  <a:srgbClr val="e35e2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539640" y="6453360"/>
            <a:ext cx="18716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88360" y="1644480"/>
            <a:ext cx="11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0÷6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=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18240" y="2421000"/>
            <a:ext cx="11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72÷8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=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88360" y="3303720"/>
            <a:ext cx="11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1×8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=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16800" y="5070600"/>
            <a:ext cx="11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3×3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=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91680" y="5911920"/>
            <a:ext cx="12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0×6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=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140000" y="16444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 Unicode MS"/>
                <a:ea typeface="Arial Unicode MS"/>
              </a:rPr>
              <a:t>5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17680" y="2421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 Unicode MS"/>
                <a:ea typeface="Arial Unicode MS"/>
              </a:rPr>
              <a:t>9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064760" y="331776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 Unicode MS"/>
                <a:ea typeface="Arial Unicode MS"/>
              </a:rPr>
              <a:t>88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32800" y="50706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 Unicode MS"/>
                <a:ea typeface="Arial Unicode MS"/>
              </a:rPr>
              <a:t>39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422960" y="5911920"/>
            <a:ext cx="78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 Unicode MS"/>
                <a:ea typeface="Arial Unicode MS"/>
              </a:rPr>
              <a:t>240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4221000"/>
            <a:ext cx="4419720" cy="50832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124000" y="4292640"/>
            <a:ext cx="355680" cy="380880"/>
            <a:chOff x="2124000" y="4292640"/>
            <a:chExt cx="355680" cy="380880"/>
          </a:xfrm>
        </p:grpSpPr>
        <p:sp>
          <p:nvSpPr>
            <p:cNvPr id="146" name=""/>
            <p:cNvSpPr/>
            <p:nvPr/>
          </p:nvSpPr>
          <p:spPr>
            <a:xfrm>
              <a:off x="2124000" y="4292640"/>
              <a:ext cx="35568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144160" y="4313880"/>
              <a:ext cx="31500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162520" y="433404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28bfee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62520" y="433404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180880" y="435348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156680"/>
                </a:gs>
                <a:gs pos="50000">
                  <a:srgbClr val="28bfee"/>
                </a:gs>
                <a:gs pos="100000">
                  <a:srgbClr val="1566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180880" y="435348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6d2d10"/>
                </a:gs>
                <a:gs pos="100000">
                  <a:srgbClr val="e35e2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3052800" y="4255920"/>
            <a:ext cx="139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60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÷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9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=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348800" y="425592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 Unicode MS"/>
                <a:ea typeface="Arial Unicode MS"/>
              </a:rPr>
              <a:t>40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6156360" y="131760"/>
            <a:ext cx="2952720" cy="704880"/>
            <a:chOff x="6156360" y="131760"/>
            <a:chExt cx="2952720" cy="704880"/>
          </a:xfrm>
        </p:grpSpPr>
        <p:sp>
          <p:nvSpPr>
            <p:cNvPr id="155" name=""/>
            <p:cNvSpPr/>
            <p:nvPr/>
          </p:nvSpPr>
          <p:spPr>
            <a:xfrm>
              <a:off x="6156360" y="131760"/>
              <a:ext cx="2735280" cy="7048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300720" y="189000"/>
              <a:ext cx="1130400" cy="57600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49cacd"/>
                </a:gs>
                <a:gs pos="100000">
                  <a:srgbClr val="328c8e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72360" y="227160"/>
              <a:ext cx="563400" cy="28728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be1e2"/>
                </a:gs>
                <a:gs pos="50000">
                  <a:srgbClr val="49cacd">
                    <a:alpha val="0"/>
                  </a:srgbClr>
                </a:gs>
                <a:gs pos="100000">
                  <a:srgbClr val="9be1e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59560" y="189000"/>
              <a:ext cx="58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一</a:t>
              </a:r>
              <a:endParaRPr b="0" lang="en-US" sz="32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309080" y="246240"/>
              <a:ext cx="18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彩云"/>
                </a:rPr>
                <a:t>热身训练</a:t>
              </a:r>
              <a:endParaRPr b="0" lang="en-US" sz="28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 rot="20876400">
            <a:off x="55440" y="4198680"/>
            <a:ext cx="1154160" cy="53964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213000"/>
            <a:ext cx="1368360" cy="138132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840" y="3220920"/>
            <a:ext cx="1336680" cy="134640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240" y="3233880"/>
            <a:ext cx="1271520" cy="125892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4760" y="3270240"/>
            <a:ext cx="1131840" cy="10206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5200" y="3703680"/>
            <a:ext cx="607320" cy="52056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算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835280" y="177336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8 × 32 ≈</a:t>
            </a:r>
            <a:endParaRPr b="0" lang="en-US" sz="32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3640" y="55897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1 × 71 ≈</a:t>
            </a:r>
            <a:endParaRPr b="0" lang="en-US" sz="3200" spc="-1" strike="noStrike">
              <a:solidFill>
                <a:srgbClr val="666699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4390920" y="1052640"/>
            <a:ext cx="4752360" cy="2663640"/>
            <a:chOff x="4390920" y="1052640"/>
            <a:chExt cx="4752360" cy="2663640"/>
          </a:xfrm>
        </p:grpSpPr>
        <p:grpSp>
          <p:nvGrpSpPr>
            <p:cNvPr id="169" name=""/>
            <p:cNvGrpSpPr/>
            <p:nvPr/>
          </p:nvGrpSpPr>
          <p:grpSpPr>
            <a:xfrm>
              <a:off x="6281640" y="1052640"/>
              <a:ext cx="2861640" cy="2376000"/>
              <a:chOff x="6281640" y="1052640"/>
              <a:chExt cx="2861640" cy="2376000"/>
            </a:xfrm>
          </p:grpSpPr>
          <p:sp>
            <p:nvSpPr>
              <p:cNvPr id="170" name=""/>
              <p:cNvSpPr/>
              <p:nvPr/>
            </p:nvSpPr>
            <p:spPr>
              <a:xfrm>
                <a:off x="6281640" y="1052640"/>
                <a:ext cx="2861640" cy="2376000"/>
              </a:xfrm>
              <a:prstGeom prst="cloudCallout">
                <a:avLst>
                  <a:gd name="adj1" fmla="val -49833"/>
                  <a:gd name="adj2" fmla="val 50662"/>
                </a:avLst>
              </a:prstGeom>
              <a:solidFill>
                <a:srgbClr val="66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566040" y="1606320"/>
                <a:ext cx="2490480" cy="137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 Unicode MS"/>
                    <a:ea typeface="Arial Unicode MS"/>
                  </a:rPr>
                  <a:t>把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  <a:ea typeface="Arial Unicode MS"/>
                  </a:rPr>
                  <a:t>28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Arial Unicode MS"/>
                    <a:ea typeface="Arial Unicode MS"/>
                  </a:rPr>
                  <a:t>看作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  <a:ea typeface="Arial Unicode MS"/>
                  </a:rPr>
                  <a:t>30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Arial Unicode MS"/>
                    <a:ea typeface="Arial Unicode MS"/>
                  </a:rPr>
                  <a:t>，把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  <a:ea typeface="Arial Unicode MS"/>
                  </a:rPr>
                  <a:t>32 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Arial Unicode MS"/>
                    <a:ea typeface="Arial Unicode MS"/>
                  </a:rPr>
                  <a:t>看</a:t>
                </a:r>
                <a:endParaRPr b="0" lang="en-US" sz="2000" spc="-1" strike="noStrike">
                  <a:solidFill>
                    <a:srgbClr val="666699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 Unicode MS"/>
                    <a:ea typeface="Arial Unicode MS"/>
                  </a:rPr>
                  <a:t>作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  <a:ea typeface="Arial Unicode MS"/>
                  </a:rPr>
                  <a:t>30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Arial Unicode MS"/>
                    <a:ea typeface="Arial Unicode MS"/>
                  </a:rPr>
                  <a:t>，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  <a:ea typeface="Arial Unicode MS"/>
                  </a:rPr>
                  <a:t>30×30=900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Arial Unicode MS"/>
                    <a:ea typeface="Arial Unicode MS"/>
                  </a:rPr>
                  <a:t>，</a:t>
                </a:r>
                <a:endParaRPr b="0" lang="en-US" sz="2000" spc="-1" strike="noStrike">
                  <a:solidFill>
                    <a:srgbClr val="666699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 Unicode MS"/>
                    <a:ea typeface="Arial Unicode MS"/>
                  </a:rPr>
                  <a:t>所以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  <a:ea typeface="Arial Unicode MS"/>
                  </a:rPr>
                  <a:t>28×32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Arial Unicode MS"/>
                    <a:ea typeface="Arial Unicode MS"/>
                  </a:rPr>
                  <a:t>约</a:t>
                </a:r>
                <a:endParaRPr b="0" lang="en-US" sz="2000" spc="-1" strike="noStrike">
                  <a:solidFill>
                    <a:srgbClr val="666699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 Unicode MS"/>
                    <a:ea typeface="Arial Unicode MS"/>
                  </a:rPr>
                  <a:t>等于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  <a:ea typeface="Arial Unicode MS"/>
                  </a:rPr>
                  <a:t>900</a:t>
                </a:r>
                <a:r>
                  <a:rPr b="0" lang="en-US" sz="2400" spc="-1" strike="noStrike">
                    <a:solidFill>
                      <a:srgbClr val="666699"/>
                    </a:solidFill>
                    <a:latin typeface="Times New Roman"/>
                    <a:ea typeface="华文彩云"/>
                  </a:rPr>
                  <a:t> </a:t>
                </a:r>
                <a:endParaRPr b="0" lang="en-US" sz="24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  <p:pic>
          <p:nvPicPr>
            <p:cNvPr id="172" name="" descr=""/>
            <p:cNvPicPr/>
            <p:nvPr/>
          </p:nvPicPr>
          <p:blipFill>
            <a:blip r:embed="rId1"/>
            <a:srcRect l="16424" t="45732" r="71926" b="45568"/>
            <a:stretch/>
          </p:blipFill>
          <p:spPr>
            <a:xfrm>
              <a:off x="4390920" y="2205000"/>
              <a:ext cx="143964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3" name=""/>
          <p:cNvGrpSpPr/>
          <p:nvPr/>
        </p:nvGrpSpPr>
        <p:grpSpPr>
          <a:xfrm>
            <a:off x="4284720" y="3716280"/>
            <a:ext cx="4498920" cy="2879640"/>
            <a:chOff x="4284720" y="3716280"/>
            <a:chExt cx="4498920" cy="2879640"/>
          </a:xfrm>
        </p:grpSpPr>
        <p:sp>
          <p:nvSpPr>
            <p:cNvPr id="174" name=""/>
            <p:cNvSpPr/>
            <p:nvPr/>
          </p:nvSpPr>
          <p:spPr>
            <a:xfrm>
              <a:off x="4284720" y="3716280"/>
              <a:ext cx="2843280" cy="2158920"/>
            </a:xfrm>
            <a:prstGeom prst="cloudCallout">
              <a:avLst>
                <a:gd name="adj1" fmla="val 54523"/>
                <a:gd name="adj2" fmla="val 46912"/>
              </a:avLst>
            </a:prstGeom>
            <a:solidFill>
              <a:srgbClr val="00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603680" y="4149720"/>
              <a:ext cx="2643120" cy="13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把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1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看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，把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71 </a:t>
              </a:r>
              <a:endParaRPr b="0" lang="en-US" sz="2000" spc="-1" strike="noStrike">
                <a:solidFill>
                  <a:srgbClr val="6666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看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70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，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0×70=700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，</a:t>
              </a:r>
              <a:endParaRPr b="0" lang="en-US" sz="2000" spc="-1" strike="noStrike">
                <a:solidFill>
                  <a:srgbClr val="6666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所以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1×71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大约</a:t>
              </a:r>
              <a:endParaRPr b="0" lang="en-US" sz="2000" spc="-1" strike="noStrike">
                <a:solidFill>
                  <a:srgbClr val="6666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等于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700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华文彩云"/>
                </a:rPr>
                <a:t> </a:t>
              </a:r>
              <a:endParaRPr b="0" lang="en-US" sz="2400" spc="-1" strike="noStrike">
                <a:solidFill>
                  <a:srgbClr val="666699"/>
                </a:solidFill>
                <a:latin typeface="Arial"/>
              </a:endParaRPr>
            </a:p>
          </p:txBody>
        </p:sp>
        <p:pic>
          <p:nvPicPr>
            <p:cNvPr id="176" name="" descr=""/>
            <p:cNvPicPr/>
            <p:nvPr/>
          </p:nvPicPr>
          <p:blipFill>
            <a:blip r:embed="rId2"/>
            <a:srcRect l="78777" t="45322" r="10807" b="45059"/>
            <a:stretch/>
          </p:blipFill>
          <p:spPr>
            <a:xfrm>
              <a:off x="7451640" y="4869000"/>
              <a:ext cx="1332000" cy="172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"/>
          <p:cNvSpPr/>
          <p:nvPr/>
        </p:nvSpPr>
        <p:spPr>
          <a:xfrm>
            <a:off x="324000" y="6237360"/>
            <a:ext cx="22320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5400000">
            <a:off x="-2422440" y="1626480"/>
            <a:ext cx="4824360" cy="4770360"/>
          </a:xfrm>
          <a:prstGeom prst="blockArc">
            <a:avLst>
              <a:gd name="adj1" fmla="val 10852167"/>
              <a:gd name="adj2" fmla="val 21547833"/>
              <a:gd name="adj3" fmla="val 1491"/>
            </a:avLst>
          </a:prstGeom>
          <a:gradFill rotWithShape="0">
            <a:gsLst>
              <a:gs pos="0">
                <a:srgbClr val="e1e1e1"/>
              </a:gs>
              <a:gs pos="50000">
                <a:srgbClr val="c0c0c0"/>
              </a:gs>
              <a:gs pos="100000">
                <a:srgbClr val="e1e1e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rot="5400000">
            <a:off x="-2016360" y="2062800"/>
            <a:ext cx="4032360" cy="3929040"/>
          </a:xfrm>
          <a:prstGeom prst="blockArc">
            <a:avLst>
              <a:gd name="adj1" fmla="val 10800000"/>
              <a:gd name="adj2" fmla="val 0"/>
              <a:gd name="adj3" fmla="val 49741"/>
            </a:avLst>
          </a:prstGeom>
          <a:gradFill rotWithShape="0">
            <a:gsLst>
              <a:gs pos="0">
                <a:srgbClr val="28bfee">
                  <a:alpha val="56078"/>
                </a:srgbClr>
              </a:gs>
              <a:gs pos="100000">
                <a:srgbClr val="fefefe">
                  <a:alpha val="48235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332000" y="5661000"/>
            <a:ext cx="380880" cy="380880"/>
            <a:chOff x="1332000" y="5661000"/>
            <a:chExt cx="380880" cy="380880"/>
          </a:xfrm>
        </p:grpSpPr>
        <p:sp>
          <p:nvSpPr>
            <p:cNvPr id="181" name=""/>
            <p:cNvSpPr/>
            <p:nvPr/>
          </p:nvSpPr>
          <p:spPr>
            <a:xfrm>
              <a:off x="1332000" y="566100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353600" y="568224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373400" y="570240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28bfee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373400" y="570240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2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392840" y="572184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156680"/>
                </a:gs>
                <a:gs pos="50000">
                  <a:srgbClr val="28bfee"/>
                </a:gs>
                <a:gs pos="100000">
                  <a:srgbClr val="1566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392840" y="572184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0f566c"/>
                </a:gs>
                <a:gs pos="100000">
                  <a:srgbClr val="21b3e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539640" y="6453360"/>
            <a:ext cx="18716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20876400">
            <a:off x="55440" y="4198680"/>
            <a:ext cx="1154160" cy="53964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213000"/>
            <a:ext cx="1368360" cy="138132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5840" y="3220920"/>
            <a:ext cx="1336680" cy="134640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240" y="3233880"/>
            <a:ext cx="1271520" cy="125892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4760" y="3270240"/>
            <a:ext cx="1131840" cy="10206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85200" y="3703680"/>
            <a:ext cx="607320" cy="5205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估算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1332000" y="1916280"/>
            <a:ext cx="380880" cy="380880"/>
            <a:chOff x="1332000" y="1916280"/>
            <a:chExt cx="380880" cy="380880"/>
          </a:xfrm>
        </p:grpSpPr>
        <p:sp>
          <p:nvSpPr>
            <p:cNvPr id="195" name=""/>
            <p:cNvSpPr/>
            <p:nvPr/>
          </p:nvSpPr>
          <p:spPr>
            <a:xfrm>
              <a:off x="1332000" y="191628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53600" y="193752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373400" y="195768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28bfee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373400" y="195768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392840" y="197712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156680"/>
                </a:gs>
                <a:gs pos="50000">
                  <a:srgbClr val="28bfee"/>
                </a:gs>
                <a:gs pos="100000">
                  <a:srgbClr val="1566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392840" y="197712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4643280" y="1413000"/>
            <a:ext cx="4105440" cy="3024000"/>
          </a:xfrm>
          <a:prstGeom prst="roundRect">
            <a:avLst>
              <a:gd name="adj" fmla="val 4463"/>
            </a:avLst>
          </a:prstGeom>
          <a:noFill/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24000" y="6237360"/>
            <a:ext cx="22320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6191280" y="131760"/>
            <a:ext cx="2952720" cy="704880"/>
            <a:chOff x="6191280" y="131760"/>
            <a:chExt cx="2952720" cy="704880"/>
          </a:xfrm>
        </p:grpSpPr>
        <p:sp>
          <p:nvSpPr>
            <p:cNvPr id="204" name=""/>
            <p:cNvSpPr/>
            <p:nvPr/>
          </p:nvSpPr>
          <p:spPr>
            <a:xfrm>
              <a:off x="6191280" y="131760"/>
              <a:ext cx="2735280" cy="7048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335640" y="189000"/>
              <a:ext cx="1130400" cy="57600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49cacd"/>
                </a:gs>
                <a:gs pos="100000">
                  <a:srgbClr val="328c8e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407280" y="227160"/>
              <a:ext cx="563400" cy="28728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be1e2"/>
                </a:gs>
                <a:gs pos="50000">
                  <a:srgbClr val="49cacd">
                    <a:alpha val="0"/>
                  </a:srgbClr>
                </a:gs>
                <a:gs pos="100000">
                  <a:srgbClr val="9be1e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676920" y="18900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二</a:t>
              </a:r>
              <a:endParaRPr b="0" lang="en-US" sz="32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344000" y="246240"/>
              <a:ext cx="18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彩云"/>
                </a:rPr>
                <a:t>知识链接</a:t>
              </a:r>
              <a:endParaRPr b="0" lang="en-US" sz="28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684360" y="2681280"/>
            <a:ext cx="6926040" cy="4176720"/>
            <a:chOff x="684360" y="2681280"/>
            <a:chExt cx="6926040" cy="4176720"/>
          </a:xfrm>
        </p:grpSpPr>
        <p:grpSp>
          <p:nvGrpSpPr>
            <p:cNvPr id="210" name=""/>
            <p:cNvGrpSpPr/>
            <p:nvPr/>
          </p:nvGrpSpPr>
          <p:grpSpPr>
            <a:xfrm>
              <a:off x="684360" y="2681280"/>
              <a:ext cx="3168360" cy="3024360"/>
              <a:chOff x="684360" y="2681280"/>
              <a:chExt cx="3168360" cy="3024360"/>
            </a:xfrm>
          </p:grpSpPr>
          <p:sp>
            <p:nvSpPr>
              <p:cNvPr id="211" name=""/>
              <p:cNvSpPr/>
              <p:nvPr/>
            </p:nvSpPr>
            <p:spPr>
              <a:xfrm>
                <a:off x="684360" y="2681280"/>
                <a:ext cx="3168360" cy="302436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26920" y="2970360"/>
                <a:ext cx="3024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  <a:ea typeface="宋体"/>
                  </a:rPr>
                  <a:t>1970</a:t>
                </a:r>
                <a:r>
                  <a:rPr b="1" lang="zh-CN" sz="1800" spc="-1" strike="noStrike">
                    <a:solidFill>
                      <a:srgbClr val="ff0000"/>
                    </a:solidFill>
                    <a:latin typeface="Arial"/>
                    <a:ea typeface="宋体"/>
                  </a:rPr>
                  <a:t>年</a:t>
                </a: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  <a:ea typeface="宋体"/>
                  </a:rPr>
                  <a:t>4</a:t>
                </a:r>
                <a:r>
                  <a:rPr b="1" lang="zh-CN" sz="1800" spc="-1" strike="noStrike">
                    <a:solidFill>
                      <a:srgbClr val="ff0000"/>
                    </a:solidFill>
                    <a:latin typeface="Arial"/>
                    <a:ea typeface="宋体"/>
                  </a:rPr>
                  <a:t>月</a:t>
                </a: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  <a:ea typeface="宋体"/>
                  </a:rPr>
                  <a:t>24</a:t>
                </a:r>
                <a:r>
                  <a:rPr b="1" lang="zh-CN" sz="1800" spc="-1" strike="noStrike">
                    <a:solidFill>
                      <a:srgbClr val="ff0000"/>
                    </a:solidFill>
                    <a:latin typeface="Arial"/>
                    <a:ea typeface="宋体"/>
                  </a:rPr>
                  <a:t>日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,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我国第一颗人造地球卫星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——</a:t>
                </a:r>
                <a:r>
                  <a:rPr b="1" lang="zh-CN" sz="1800" spc="-1" strike="noStrike">
                    <a:solidFill>
                      <a:srgbClr val="00ff00"/>
                    </a:solidFill>
                    <a:latin typeface="Arial"/>
                    <a:ea typeface="宋体"/>
                  </a:rPr>
                  <a:t>东方红一号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从酒泉卫星发射中心升空。卫星重</a:t>
                </a: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  <a:ea typeface="宋体"/>
                  </a:rPr>
                  <a:t>173 </a:t>
                </a:r>
                <a:r>
                  <a:rPr b="1" lang="zh-CN" sz="1800" spc="-1" strike="noStrike">
                    <a:solidFill>
                      <a:srgbClr val="ff0000"/>
                    </a:solidFill>
                    <a:latin typeface="Arial"/>
                    <a:ea typeface="宋体"/>
                  </a:rPr>
                  <a:t>千克</a:t>
                </a:r>
                <a:r>
                  <a:rPr b="1" lang="zh-CN" sz="1800" spc="-1" strike="noStrike">
                    <a:solidFill>
                      <a:srgbClr val="666699"/>
                    </a:solidFill>
                    <a:latin typeface="Arial"/>
                    <a:ea typeface="宋体"/>
                  </a:rPr>
                  <a:t>，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我国成为世界上继苏、美、法、日之后</a:t>
                </a:r>
                <a:r>
                  <a:rPr b="1" lang="zh-CN" sz="1800" spc="-1" strike="noStrike">
                    <a:solidFill>
                      <a:srgbClr val="ff0000"/>
                    </a:solidFill>
                    <a:latin typeface="Arial"/>
                    <a:ea typeface="宋体"/>
                  </a:rPr>
                  <a:t>第五个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自主发射人造卫星的国家。</a:t>
                </a:r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  <p:pic>
          <p:nvPicPr>
            <p:cNvPr id="213" name="" descr=""/>
            <p:cNvPicPr/>
            <p:nvPr/>
          </p:nvPicPr>
          <p:blipFill>
            <a:blip r:embed="rId1"/>
            <a:srcRect l="77682" t="56484" r="10138" b="33577"/>
            <a:stretch/>
          </p:blipFill>
          <p:spPr>
            <a:xfrm>
              <a:off x="5724360" y="4697640"/>
              <a:ext cx="1886040" cy="2160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788000" y="1557360"/>
            <a:ext cx="3816360" cy="26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 rot="20241600">
            <a:off x="-36360" y="2232000"/>
            <a:ext cx="6094440" cy="242424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bebeb">
                  <a:alpha val="36078"/>
                </a:srgbClr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20056200">
            <a:off x="2914200" y="2172960"/>
            <a:ext cx="1067040" cy="304920"/>
          </a:xfrm>
          <a:prstGeom prst="ellipse">
            <a:avLst/>
          </a:prstGeom>
          <a:gradFill rotWithShape="0">
            <a:gsLst>
              <a:gs pos="0">
                <a:srgbClr val="84a5ca"/>
              </a:gs>
              <a:gs pos="100000">
                <a:srgbClr val="5f5f5f"/>
              </a:gs>
            </a:gsLst>
            <a:lin ang="123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20056200">
            <a:off x="5581440" y="2325240"/>
            <a:ext cx="1066680" cy="304920"/>
          </a:xfrm>
          <a:prstGeom prst="ellipse">
            <a:avLst/>
          </a:prstGeom>
          <a:gradFill rotWithShape="0">
            <a:gsLst>
              <a:gs pos="0">
                <a:srgbClr val="84a5ca"/>
              </a:gs>
              <a:gs pos="100000">
                <a:srgbClr val="5f5f5f"/>
              </a:gs>
            </a:gsLst>
            <a:lin ang="123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20056200">
            <a:off x="1466640" y="4992480"/>
            <a:ext cx="1066680" cy="304560"/>
          </a:xfrm>
          <a:prstGeom prst="ellipse">
            <a:avLst/>
          </a:prstGeom>
          <a:gradFill rotWithShape="0">
            <a:gsLst>
              <a:gs pos="0">
                <a:srgbClr val="84a5ca"/>
              </a:gs>
              <a:gs pos="100000">
                <a:srgbClr val="5f5f5f"/>
              </a:gs>
            </a:gsLst>
            <a:lin ang="123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20056200">
            <a:off x="4057200" y="4382640"/>
            <a:ext cx="1067040" cy="304920"/>
          </a:xfrm>
          <a:prstGeom prst="ellipse">
            <a:avLst/>
          </a:prstGeom>
          <a:gradFill rotWithShape="0">
            <a:gsLst>
              <a:gs pos="0">
                <a:srgbClr val="84a5ca"/>
              </a:gs>
              <a:gs pos="100000">
                <a:srgbClr val="5f5f5f"/>
              </a:gs>
            </a:gsLst>
            <a:lin ang="123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20056200">
            <a:off x="628200" y="3544560"/>
            <a:ext cx="1067040" cy="304920"/>
          </a:xfrm>
          <a:prstGeom prst="ellipse">
            <a:avLst/>
          </a:prstGeom>
          <a:gradFill rotWithShape="0">
            <a:gsLst>
              <a:gs pos="0">
                <a:srgbClr val="84a5ca"/>
              </a:gs>
              <a:gs pos="100000">
                <a:srgbClr val="5f5f5f"/>
              </a:gs>
            </a:gsLst>
            <a:lin ang="123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357280" y="1487520"/>
            <a:ext cx="1143000" cy="1101600"/>
          </a:xfrm>
          <a:prstGeom prst="ellipse">
            <a:avLst/>
          </a:prstGeom>
          <a:gradFill rotWithShape="0">
            <a:gsLst>
              <a:gs pos="0">
                <a:srgbClr val="28bfee"/>
              </a:gs>
              <a:gs pos="100000">
                <a:srgbClr val="0d415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7320" y="2805120"/>
            <a:ext cx="1141200" cy="1101600"/>
          </a:xfrm>
          <a:prstGeom prst="ellipse">
            <a:avLst/>
          </a:prstGeom>
          <a:gradFill rotWithShape="0">
            <a:gsLst>
              <a:gs pos="0">
                <a:srgbClr val="49cacd"/>
              </a:gs>
              <a:gs pos="100000">
                <a:srgbClr val="163f4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41400" y="427212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467ce8"/>
              </a:gs>
              <a:gs pos="100000">
                <a:srgbClr val="182c5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409920" y="372744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44444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35680" y="1684440"/>
            <a:ext cx="1079280" cy="1103040"/>
          </a:xfrm>
          <a:prstGeom prst="ellipse">
            <a:avLst/>
          </a:prstGeom>
          <a:gradFill rotWithShape="0">
            <a:gsLst>
              <a:gs pos="0">
                <a:srgbClr val="878fa5"/>
              </a:gs>
              <a:gs pos="100000">
                <a:srgbClr val="2e313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547640" y="2924280"/>
            <a:ext cx="27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东方红一号地球卫星绕地球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圈需要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11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钟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4000" y="6237360"/>
            <a:ext cx="22320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rcRect l="59013" t="18097" r="8552" b="63349"/>
          <a:stretch/>
        </p:blipFill>
        <p:spPr>
          <a:xfrm>
            <a:off x="5219640" y="3716280"/>
            <a:ext cx="3527640" cy="2822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rcRect l="80346" t="77347" r="9804" b="12459"/>
          <a:stretch/>
        </p:blipFill>
        <p:spPr>
          <a:xfrm>
            <a:off x="7020000" y="1268280"/>
            <a:ext cx="128880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87280" y="1557360"/>
            <a:ext cx="5867640" cy="130176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316160" y="1677960"/>
            <a:ext cx="1130040" cy="1063800"/>
            <a:chOff x="1316160" y="1677960"/>
            <a:chExt cx="1130040" cy="1063800"/>
          </a:xfrm>
        </p:grpSpPr>
        <p:sp>
          <p:nvSpPr>
            <p:cNvPr id="232" name=""/>
            <p:cNvSpPr/>
            <p:nvPr/>
          </p:nvSpPr>
          <p:spPr>
            <a:xfrm>
              <a:off x="1316160" y="1677960"/>
              <a:ext cx="1130040" cy="106380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49cacd"/>
                </a:gs>
                <a:gs pos="100000">
                  <a:srgbClr val="328c8e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386720" y="1746360"/>
              <a:ext cx="563400" cy="53172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be1e2"/>
                </a:gs>
                <a:gs pos="50000">
                  <a:srgbClr val="49cacd">
                    <a:alpha val="0"/>
                  </a:srgbClr>
                </a:gs>
                <a:gs pos="100000">
                  <a:srgbClr val="9be1e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678320" y="19674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1</a:t>
              </a:r>
              <a:endParaRPr b="0" lang="en-US" sz="28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2602080" y="2035080"/>
            <a:ext cx="43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卫星绕地球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圈需要多少时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187280" y="3998880"/>
            <a:ext cx="5867640" cy="130176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dddddd"/>
              </a:gs>
              <a:gs pos="50000">
                <a:srgbClr val="f0f0f0"/>
              </a:gs>
              <a:gs pos="100000">
                <a:srgbClr val="dddddd"/>
              </a:gs>
            </a:gsLst>
            <a:lin ang="135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1330200" y="4149720"/>
            <a:ext cx="1130400" cy="1063800"/>
            <a:chOff x="1330200" y="4149720"/>
            <a:chExt cx="1130400" cy="1063800"/>
          </a:xfrm>
        </p:grpSpPr>
        <p:sp>
          <p:nvSpPr>
            <p:cNvPr id="238" name=""/>
            <p:cNvSpPr/>
            <p:nvPr/>
          </p:nvSpPr>
          <p:spPr>
            <a:xfrm>
              <a:off x="1330200" y="4149720"/>
              <a:ext cx="1130400" cy="106380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62cff1"/>
                </a:gs>
                <a:gs pos="100000">
                  <a:srgbClr val="28bfee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400760" y="4218120"/>
              <a:ext cx="563400" cy="53172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28bfee">
                    <a:alpha val="0"/>
                  </a:srgbClr>
                </a:gs>
                <a:gs pos="100000">
                  <a:srgbClr val="a3e3f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692720" y="44406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2</a:t>
              </a:r>
              <a:endParaRPr b="0" lang="en-US" sz="28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2602080" y="4478400"/>
            <a:ext cx="44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卫星绕地球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圈需要多少时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4000" y="6237360"/>
            <a:ext cx="22320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6191280" y="131760"/>
            <a:ext cx="2952720" cy="704880"/>
            <a:chOff x="6191280" y="131760"/>
            <a:chExt cx="2952720" cy="704880"/>
          </a:xfrm>
        </p:grpSpPr>
        <p:sp>
          <p:nvSpPr>
            <p:cNvPr id="244" name=""/>
            <p:cNvSpPr/>
            <p:nvPr/>
          </p:nvSpPr>
          <p:spPr>
            <a:xfrm>
              <a:off x="6191280" y="131760"/>
              <a:ext cx="2735280" cy="7048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335640" y="189000"/>
              <a:ext cx="1130400" cy="57600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49cacd"/>
                </a:gs>
                <a:gs pos="100000">
                  <a:srgbClr val="328c8e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407280" y="227160"/>
              <a:ext cx="563400" cy="28728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be1e2"/>
                </a:gs>
                <a:gs pos="50000">
                  <a:srgbClr val="49cacd">
                    <a:alpha val="0"/>
                  </a:srgbClr>
                </a:gs>
                <a:gs pos="100000">
                  <a:srgbClr val="9be1e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675120" y="18900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三</a:t>
              </a:r>
              <a:endParaRPr b="0" lang="en-US" sz="32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344000" y="246240"/>
              <a:ext cx="18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彩云"/>
                </a:rPr>
                <a:t>头脑风暴</a:t>
              </a:r>
              <a:endParaRPr b="0" lang="en-US" sz="28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3464280" y="318780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14×2 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456720" y="570852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14×20 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489560" y="3213000"/>
            <a:ext cx="127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= 228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2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632120" y="5734080"/>
            <a:ext cx="141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= 2280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20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24000" y="6237360"/>
            <a:ext cx="22320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rcRect l="22837" t="27905" r="68189" b="63485"/>
          <a:stretch/>
        </p:blipFill>
        <p:spPr>
          <a:xfrm>
            <a:off x="324000" y="2278080"/>
            <a:ext cx="1657080" cy="22320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22478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124000" y="1341360"/>
            <a:ext cx="2862360" cy="1728720"/>
          </a:xfrm>
          <a:prstGeom prst="cloudCallout">
            <a:avLst>
              <a:gd name="adj1" fmla="val -49833"/>
              <a:gd name="adj2" fmla="val 75893"/>
            </a:avLst>
          </a:prstGeom>
          <a:solidFill>
            <a:srgbClr val="66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340000" y="1852560"/>
            <a:ext cx="237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卫星绕地球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2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圈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需要多少时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511600" y="313524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2394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278160" y="49608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 1 4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63600" y="536904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 2 8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2556000" y="5877000"/>
            <a:ext cx="2016000" cy="505800"/>
            <a:chOff x="2556000" y="5877000"/>
            <a:chExt cx="2016000" cy="505800"/>
          </a:xfrm>
        </p:grpSpPr>
        <p:sp>
          <p:nvSpPr>
            <p:cNvPr id="262" name=""/>
            <p:cNvSpPr/>
            <p:nvPr/>
          </p:nvSpPr>
          <p:spPr>
            <a:xfrm>
              <a:off x="2556000" y="5877000"/>
              <a:ext cx="20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060360" y="5923080"/>
              <a:ext cx="111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 3 9 4</a:t>
              </a:r>
              <a:endParaRPr b="0" lang="en-US" sz="24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3279960" y="3881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702520" y="4303800"/>
            <a:ext cx="47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556000" y="4889520"/>
            <a:ext cx="20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4520" y="4361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788280" y="4384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494160" y="3881520"/>
            <a:ext cx="3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788280" y="3881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71" name="">
            <a:hlinkClick r:id="" action="ppaction://hlinkshowjump?jump=nextslide"/>
          </p:cNvPr>
          <p:cNvSpPr/>
          <p:nvPr/>
        </p:nvSpPr>
        <p:spPr>
          <a:xfrm>
            <a:off x="611280" y="6165720"/>
            <a:ext cx="431640" cy="4669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66920"/>
              <a:gd name="textAreaBottom" fmla="*/ 439200 h 466920"/>
            </a:gdLst>
            <a:ahLst/>
            <a:rect l="textAreaLeft" t="textAreaTop" r="textAreaRight" b="textAreaBottom"/>
            <a:pathLst>
              <a:path w="21600" h="23364">
                <a:moveTo>
                  <a:pt x="0" y="0"/>
                </a:moveTo>
                <a:lnTo>
                  <a:pt x="21600" y="0"/>
                </a:lnTo>
                <a:lnTo>
                  <a:pt x="21600" y="23364"/>
                </a:lnTo>
                <a:lnTo>
                  <a:pt x="0" y="23364"/>
                </a:lnTo>
                <a:close/>
              </a:path>
              <a:path fill="lightenLess" w="21600" h="233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64">
                <a:moveTo>
                  <a:pt x="21600" y="0"/>
                </a:moveTo>
                <a:lnTo>
                  <a:pt x="21600" y="23364"/>
                </a:lnTo>
                <a:lnTo>
                  <a:pt x="20200" y="21964"/>
                </a:lnTo>
                <a:lnTo>
                  <a:pt x="20200" y="1400"/>
                </a:lnTo>
                <a:close/>
              </a:path>
              <a:path fill="darkenLess" w="21600" h="23364">
                <a:moveTo>
                  <a:pt x="21600" y="23364"/>
                </a:moveTo>
                <a:lnTo>
                  <a:pt x="0" y="23364"/>
                </a:lnTo>
                <a:lnTo>
                  <a:pt x="1400" y="21964"/>
                </a:lnTo>
                <a:lnTo>
                  <a:pt x="20200" y="21964"/>
                </a:lnTo>
                <a:close/>
              </a:path>
              <a:path fill="lighten" w="21600" h="23364">
                <a:moveTo>
                  <a:pt x="0" y="233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64"/>
                </a:lnTo>
                <a:close/>
              </a:path>
              <a:path fill="darken" w="21600" h="23364">
                <a:moveTo>
                  <a:pt x="3794" y="4676"/>
                </a:moveTo>
                <a:lnTo>
                  <a:pt x="17806" y="11682"/>
                </a:lnTo>
                <a:lnTo>
                  <a:pt x="3794" y="18688"/>
                </a:lnTo>
                <a:close/>
              </a:path>
            </a:pathLst>
          </a:custGeom>
          <a:solidFill>
            <a:srgbClr val="49ca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2987640" y="3068640"/>
            <a:ext cx="4368600" cy="520560"/>
            <a:chOff x="2987640" y="3068640"/>
            <a:chExt cx="4368600" cy="520560"/>
          </a:xfrm>
        </p:grpSpPr>
        <p:sp>
          <p:nvSpPr>
            <p:cNvPr id="273" name=""/>
            <p:cNvSpPr/>
            <p:nvPr/>
          </p:nvSpPr>
          <p:spPr>
            <a:xfrm>
              <a:off x="2987640" y="3068640"/>
              <a:ext cx="235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14 × 21 =</a:t>
              </a:r>
              <a:endParaRPr b="0" lang="en-US" sz="2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124240" y="3106800"/>
              <a:ext cx="22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分）</a:t>
              </a:r>
              <a:r>
                <a:rPr b="0" lang="zh-CN" sz="1800" spc="-1" strike="noStrike" u="sng">
                  <a:solidFill>
                    <a:srgbClr val="666699"/>
                  </a:solidFill>
                  <a:uFillTx/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4427640" y="4941720"/>
            <a:ext cx="3097080" cy="459720"/>
            <a:chOff x="4427640" y="4941720"/>
            <a:chExt cx="3097080" cy="459720"/>
          </a:xfrm>
        </p:grpSpPr>
        <p:sp>
          <p:nvSpPr>
            <p:cNvPr id="276" name=""/>
            <p:cNvSpPr/>
            <p:nvPr/>
          </p:nvSpPr>
          <p:spPr>
            <a:xfrm>
              <a:off x="4427640" y="5183280"/>
              <a:ext cx="165708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227640" y="4941720"/>
              <a:ext cx="12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14 ×1</a:t>
              </a:r>
              <a:endParaRPr b="0" lang="en-US" sz="24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4427640" y="5392800"/>
            <a:ext cx="3313080" cy="459720"/>
            <a:chOff x="4427640" y="5392800"/>
            <a:chExt cx="3313080" cy="459720"/>
          </a:xfrm>
        </p:grpSpPr>
        <p:sp>
          <p:nvSpPr>
            <p:cNvPr id="279" name=""/>
            <p:cNvSpPr/>
            <p:nvPr/>
          </p:nvSpPr>
          <p:spPr>
            <a:xfrm>
              <a:off x="4427640" y="5621400"/>
              <a:ext cx="165708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227640" y="5392800"/>
              <a:ext cx="151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14 ×20</a:t>
              </a:r>
              <a:endParaRPr b="0" lang="en-US" sz="24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2943720" y="6308640"/>
            <a:ext cx="35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答：卫星绕地球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圈需要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39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。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6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250920" y="6237360"/>
            <a:ext cx="22320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130200" y="2494080"/>
            <a:ext cx="34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下面这道题做得对吗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请大家先估算一下。错在哪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怎样改正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33512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 2 1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098800" y="371808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×    1 4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835280" y="412416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413080" y="412416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 8 4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413080" y="44784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 2 1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835280" y="491652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441880" y="50068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 0 5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508720" y="33512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 2 1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194440" y="371808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×    1 4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930920" y="412416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508720" y="412416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 8 4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46360" y="447840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 2 1   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930920" y="491652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356080" y="500688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 6 9 4 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780000" y="4221000"/>
            <a:ext cx="976320" cy="48600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rcRect l="6955" t="29227" r="70438" b="65676"/>
          <a:stretch/>
        </p:blipFill>
        <p:spPr>
          <a:xfrm>
            <a:off x="324000" y="1197000"/>
            <a:ext cx="2952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1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5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324000" y="6237360"/>
            <a:ext cx="22320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152720" y="1477800"/>
            <a:ext cx="136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用竖式计算</a:t>
            </a:r>
            <a:r>
              <a:rPr b="0" lang="zh-CN" sz="1800" spc="-1" strike="noStrike">
                <a:solidFill>
                  <a:srgbClr val="666699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152800" y="221616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21×13 =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053320" y="220500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32×22 =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2050920" y="2205000"/>
            <a:ext cx="1841760" cy="2528640"/>
            <a:chOff x="2050920" y="2205000"/>
            <a:chExt cx="1841760" cy="2528640"/>
          </a:xfrm>
        </p:grpSpPr>
        <p:grpSp>
          <p:nvGrpSpPr>
            <p:cNvPr id="305" name=""/>
            <p:cNvGrpSpPr/>
            <p:nvPr/>
          </p:nvGrpSpPr>
          <p:grpSpPr>
            <a:xfrm>
              <a:off x="2050920" y="2708280"/>
              <a:ext cx="1512720" cy="2025360"/>
              <a:chOff x="2050920" y="2708280"/>
              <a:chExt cx="1512720" cy="2025360"/>
            </a:xfrm>
          </p:grpSpPr>
          <p:sp>
            <p:nvSpPr>
              <p:cNvPr id="306" name=""/>
              <p:cNvSpPr/>
              <p:nvPr/>
            </p:nvSpPr>
            <p:spPr>
              <a:xfrm>
                <a:off x="2628720" y="2708280"/>
                <a:ext cx="688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2 2 1</a:t>
                </a:r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314440" y="3074760"/>
                <a:ext cx="951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×    1 3</a:t>
                </a:r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050920" y="3481200"/>
                <a:ext cx="151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628720" y="3481200"/>
                <a:ext cx="688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6 6 3</a:t>
                </a:r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466360" y="3835080"/>
                <a:ext cx="880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2 2 1   </a:t>
                </a:r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050920" y="4273200"/>
                <a:ext cx="151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484000" y="4365360"/>
                <a:ext cx="942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2 8 7 3 </a:t>
                </a:r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  <p:sp>
          <p:nvSpPr>
            <p:cNvPr id="313" name=""/>
            <p:cNvSpPr/>
            <p:nvPr/>
          </p:nvSpPr>
          <p:spPr>
            <a:xfrm>
              <a:off x="3206160" y="220500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873</a:t>
              </a: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5076720" y="2205000"/>
            <a:ext cx="1751400" cy="2528640"/>
            <a:chOff x="5076720" y="2205000"/>
            <a:chExt cx="1751400" cy="2528640"/>
          </a:xfrm>
        </p:grpSpPr>
        <p:grpSp>
          <p:nvGrpSpPr>
            <p:cNvPr id="315" name=""/>
            <p:cNvGrpSpPr/>
            <p:nvPr/>
          </p:nvGrpSpPr>
          <p:grpSpPr>
            <a:xfrm>
              <a:off x="5076720" y="2708280"/>
              <a:ext cx="1513080" cy="2025360"/>
              <a:chOff x="5076720" y="2708280"/>
              <a:chExt cx="1513080" cy="2025360"/>
            </a:xfrm>
          </p:grpSpPr>
          <p:sp>
            <p:nvSpPr>
              <p:cNvPr id="316" name=""/>
              <p:cNvSpPr/>
              <p:nvPr/>
            </p:nvSpPr>
            <p:spPr>
              <a:xfrm>
                <a:off x="5654880" y="2708280"/>
                <a:ext cx="688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 3 2</a:t>
                </a:r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340600" y="3074760"/>
                <a:ext cx="951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×    2 2</a:t>
                </a:r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076720" y="3481200"/>
                <a:ext cx="151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654880" y="3500280"/>
                <a:ext cx="688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2 6 4</a:t>
                </a:r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492880" y="3835080"/>
                <a:ext cx="688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2 6 4</a:t>
                </a:r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076720" y="4273200"/>
                <a:ext cx="151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510160" y="4365360"/>
                <a:ext cx="942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2 9 0 4 </a:t>
                </a:r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6141600" y="220500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904</a:t>
              </a: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9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9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2T12:36:14Z</dcterms:created>
  <dc:creator>goober</dc:creator>
  <dc:description/>
  <dc:language>en-US</dc:language>
  <cp:lastModifiedBy>Sky123.Org</cp:lastModifiedBy>
  <dcterms:modified xsi:type="dcterms:W3CDTF">2012-10-13T02:20:11Z</dcterms:modified>
  <cp:revision>74</cp:revision>
  <dc:subject/>
  <dc:title>PowerPoint Template</dc:title>
</cp:coreProperties>
</file>