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8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B21-28E5-410E-8E84-FE4AB5B8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8A1-F78D-4AE7-A825-01A381AF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64A-5481-4900-83B0-AFB39109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DB5-2AD9-4BAE-92B8-D56AB1AD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A3537-3C67-4B01-91FF-58A7DE6A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95B34-B56D-488F-BB7E-78FA4A05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1DC62-211E-4B3D-89F8-BDB2D043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76645-A38F-4773-AE32-23692AB9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913B-9D27-459A-BF27-C7985ADD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A8AB6-13E3-4AA2-9E41-E3C71453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BA55F-450D-41E0-8D78-AC05BB8C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8C2-327F-450A-8609-7C1DE688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B1F09-E8B0-44D0-8E42-7EC650D0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5EE1-6823-484E-801D-E77904F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9256D-7FD4-4803-88DB-0BF3252D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4C7E-5C56-45C5-A529-76CB2D7D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197C1-6EEC-4747-8A9B-1F16C65A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4B87-F218-403F-ABFA-4EED42A8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038B-FF83-448B-90FB-036AC0B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AA30-5C85-4DC1-B6E8-0DF62722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2388-9621-4F1C-B612-889F718E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B0752-18DA-4BB7-B663-12FD5FDE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96E-DD01-4DD3-9F10-6FCED06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34BD-9F57-44C0-B0DD-FE26008D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2543-9A5A-438D-B09B-9A07375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89DC-DB44-4A6F-A4E6-1BA8154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8A88-2E0D-4F3C-9C5A-C2CAA77E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DBC7-A4F2-4BAF-BE2B-2AF9E673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4A18-21BA-4D9D-B047-37EAFF3E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DDC2-C14F-4F8D-923B-D27C2EEB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86E-67BE-445E-8462-45DA6070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315-A625-4065-93FA-00ECED80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396-89CD-4B99-B40B-4EAAD13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173-9B72-4C42-A5B4-ED321298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0D9-D641-42DA-BDF7-2EBF2664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917-9D3E-4015-9655-0E774BA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B197-23FB-47E0-B8F7-8B2EFC495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5767560"/>
            <a:ext cx="2268360" cy="10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7007-1F74-4498-AC16-6D936F9800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8BF2-821B-4603-B52F-E59BF8E70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3240876_1505024651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试一试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:(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用竖式计算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312×54=        56×128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611280" y="836640"/>
            <a:ext cx="503280" cy="43164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00720" y="291600"/>
            <a:ext cx="4186080" cy="37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Garamond"/>
                <a:ea typeface="华文新魏"/>
              </a:rPr>
              <a:t>东方红一号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”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423540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东方红一号卫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Dong Fang Hong I/China 1)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是中国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日发射的第一颗人造地球卫星。按当时各国发射卫星的时间先后排列，中国是继苏、美、法、日之后，世界上第五个用自制火箭发射国产卫星的国家，由此开创了中国航天史的新纪元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{41CEDFE8-E9E1-4858-9E09-9920F359F6B4}0"/>
          <p:cNvPicPr/>
          <p:nvPr/>
        </p:nvPicPr>
        <p:blipFill>
          <a:blip r:embed="rId1"/>
          <a:stretch/>
        </p:blipFill>
        <p:spPr>
          <a:xfrm>
            <a:off x="900000" y="404640"/>
            <a:ext cx="35528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13"/>
          <p:cNvSpPr txBox="1"/>
          <p:nvPr/>
        </p:nvSpPr>
        <p:spPr>
          <a:xfrm>
            <a:off x="1476360" y="2924280"/>
            <a:ext cx="669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卫 星 运 行 时 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4"/>
          <p:cNvSpPr/>
          <p:nvPr/>
        </p:nvSpPr>
        <p:spPr>
          <a:xfrm>
            <a:off x="4932360" y="1844640"/>
            <a:ext cx="3672000" cy="2305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4" descr="u=119338599,1734143057&amp;gp=-12[1]"/>
          <p:cNvPicPr/>
          <p:nvPr/>
        </p:nvPicPr>
        <p:blipFill>
          <a:blip r:embed="rId1"/>
          <a:stretch/>
        </p:blipFill>
        <p:spPr>
          <a:xfrm>
            <a:off x="250920" y="1413000"/>
            <a:ext cx="3960720" cy="342396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8"/>
          <p:cNvSpPr txBox="1"/>
          <p:nvPr/>
        </p:nvSpPr>
        <p:spPr>
          <a:xfrm>
            <a:off x="1116000" y="476280"/>
            <a:ext cx="23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你知道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3348000" y="5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WordArt 21" descr=""/>
          <p:cNvPicPr/>
          <p:nvPr/>
        </p:nvPicPr>
        <p:blipFill>
          <a:blip r:embed="rId2"/>
          <a:stretch/>
        </p:blipFill>
        <p:spPr>
          <a:xfrm>
            <a:off x="4925880" y="2266920"/>
            <a:ext cx="3565800" cy="1494000"/>
          </a:xfrm>
          <a:prstGeom prst="rect">
            <a:avLst/>
          </a:prstGeom>
          <a:ln w="0">
            <a:noFill/>
          </a:ln>
        </p:spPr>
      </p:pic>
      <p:pic>
        <p:nvPicPr>
          <p:cNvPr id="153" name="WordArt 23" descr=""/>
          <p:cNvPicPr/>
          <p:nvPr/>
        </p:nvPicPr>
        <p:blipFill>
          <a:blip r:embed="rId3"/>
          <a:stretch/>
        </p:blipFill>
        <p:spPr>
          <a:xfrm>
            <a:off x="3846600" y="4645080"/>
            <a:ext cx="5236920" cy="5428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5">
            <a:hlinkClick r:id="rId4" action="ppaction://hlinksldjump"/>
          </p:cNvPr>
          <p:cNvSpPr/>
          <p:nvPr/>
        </p:nvSpPr>
        <p:spPr>
          <a:xfrm>
            <a:off x="50328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6">
            <a:hlinkClick r:id="rId5" action="ppaction://hlinksldjump"/>
          </p:cNvPr>
          <p:cNvSpPr/>
          <p:nvPr/>
        </p:nvSpPr>
        <p:spPr>
          <a:xfrm>
            <a:off x="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7">
            <a:hlinkClick r:id="rId6" action="ppaction://hlinksldjump"/>
          </p:cNvPr>
          <p:cNvSpPr/>
          <p:nvPr/>
        </p:nvSpPr>
        <p:spPr>
          <a:xfrm>
            <a:off x="100800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8">
            <a:hlinkClick r:id="rId7" action="ppaction://hlinksldjump"/>
          </p:cNvPr>
          <p:cNvSpPr/>
          <p:nvPr/>
        </p:nvSpPr>
        <p:spPr>
          <a:xfrm>
            <a:off x="151128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643280" y="530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4×2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6588000" y="537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4×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8030880" y="5373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j0193444[1]"/>
          <p:cNvPicPr/>
          <p:nvPr/>
        </p:nvPicPr>
        <p:blipFill>
          <a:blip r:embed="rId1"/>
          <a:stretch/>
        </p:blipFill>
        <p:spPr>
          <a:xfrm>
            <a:off x="6877080" y="4508640"/>
            <a:ext cx="1584360" cy="1557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547640" y="2492280"/>
            <a:ext cx="511344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14×20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2280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14 ×1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＝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14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2280 ﹢114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＝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2394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1"/>
          <p:cNvSpPr txBox="1"/>
          <p:nvPr/>
        </p:nvSpPr>
        <p:spPr>
          <a:xfrm>
            <a:off x="1187280" y="1125360"/>
            <a:ext cx="237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方法一： 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4" name="Picture 14" descr="j0157995"/>
          <p:cNvPicPr/>
          <p:nvPr/>
        </p:nvPicPr>
        <p:blipFill>
          <a:blip r:embed="rId2"/>
          <a:stretch/>
        </p:blipFill>
        <p:spPr>
          <a:xfrm>
            <a:off x="1187280" y="5805360"/>
            <a:ext cx="5793120" cy="18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j0157763"/>
          <p:cNvPicPr/>
          <p:nvPr/>
        </p:nvPicPr>
        <p:blipFill>
          <a:blip r:embed="rId3"/>
          <a:stretch/>
        </p:blipFill>
        <p:spPr>
          <a:xfrm>
            <a:off x="7451640" y="1125360"/>
            <a:ext cx="935280" cy="33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900000" y="90792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方法二：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403280" y="2492280"/>
            <a:ext cx="57610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14×7 ×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798× 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23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j0193444[1]"/>
          <p:cNvPicPr/>
          <p:nvPr/>
        </p:nvPicPr>
        <p:blipFill>
          <a:blip r:embed="rId3"/>
          <a:stretch/>
        </p:blipFill>
        <p:spPr>
          <a:xfrm>
            <a:off x="6877080" y="4508640"/>
            <a:ext cx="1584360" cy="1557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j0157995"/>
          <p:cNvPicPr/>
          <p:nvPr/>
        </p:nvPicPr>
        <p:blipFill>
          <a:blip r:embed="rId4"/>
          <a:stretch/>
        </p:blipFill>
        <p:spPr>
          <a:xfrm>
            <a:off x="1187280" y="5805360"/>
            <a:ext cx="5793120" cy="182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j0157763"/>
          <p:cNvPicPr/>
          <p:nvPr/>
        </p:nvPicPr>
        <p:blipFill>
          <a:blip r:embed="rId5"/>
          <a:stretch/>
        </p:blipFill>
        <p:spPr>
          <a:xfrm>
            <a:off x="7451640" y="1125360"/>
            <a:ext cx="935280" cy="33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39344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j0232744[1]"/>
          <p:cNvPicPr/>
          <p:nvPr/>
        </p:nvPicPr>
        <p:blipFill>
          <a:blip r:embed="rId1"/>
          <a:stretch/>
        </p:blipFill>
        <p:spPr>
          <a:xfrm>
            <a:off x="5867280" y="5229360"/>
            <a:ext cx="839880" cy="1123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232744[1]"/>
          <p:cNvPicPr/>
          <p:nvPr/>
        </p:nvPicPr>
        <p:blipFill>
          <a:blip r:embed="rId2"/>
          <a:stretch/>
        </p:blipFill>
        <p:spPr>
          <a:xfrm>
            <a:off x="7308720" y="5300640"/>
            <a:ext cx="8636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232744[1]"/>
          <p:cNvPicPr/>
          <p:nvPr/>
        </p:nvPicPr>
        <p:blipFill>
          <a:blip r:embed="rId3"/>
          <a:stretch/>
        </p:blipFill>
        <p:spPr>
          <a:xfrm>
            <a:off x="1116000" y="5373720"/>
            <a:ext cx="863640" cy="83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j0232744[1]"/>
          <p:cNvPicPr/>
          <p:nvPr/>
        </p:nvPicPr>
        <p:blipFill>
          <a:blip r:embed="rId4"/>
          <a:stretch/>
        </p:blipFill>
        <p:spPr>
          <a:xfrm>
            <a:off x="7667640" y="4941720"/>
            <a:ext cx="86364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1692360" y="2492280"/>
          <a:ext cx="5113080" cy="1743120"/>
        </p:xfrm>
        <a:graphic>
          <a:graphicData uri="http://schemas.openxmlformats.org/drawingml/2006/table">
            <a:tbl>
              <a:tblPr/>
              <a:tblGrid>
                <a:gridCol w="1189080"/>
                <a:gridCol w="1476360"/>
                <a:gridCol w="1368360"/>
                <a:gridCol w="107928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63"/>
          <p:cNvSpPr/>
          <p:nvPr/>
        </p:nvSpPr>
        <p:spPr>
          <a:xfrm>
            <a:off x="1332000" y="1268280"/>
            <a:ext cx="65530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5"/>
          <p:cNvSpPr/>
          <p:nvPr/>
        </p:nvSpPr>
        <p:spPr>
          <a:xfrm>
            <a:off x="6372360" y="5229360"/>
            <a:ext cx="216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8"/>
          <p:cNvSpPr/>
          <p:nvPr/>
        </p:nvSpPr>
        <p:spPr>
          <a:xfrm>
            <a:off x="2843280" y="450864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80﹢1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93"/>
          <p:cNvSpPr txBox="1"/>
          <p:nvPr/>
        </p:nvSpPr>
        <p:spPr>
          <a:xfrm>
            <a:off x="539640" y="620640"/>
            <a:ext cx="410364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方法三：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3752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j0344515[1]"/>
          <p:cNvPicPr/>
          <p:nvPr/>
        </p:nvPicPr>
        <p:blipFill>
          <a:blip r:embed="rId1"/>
          <a:stretch/>
        </p:blipFill>
        <p:spPr>
          <a:xfrm>
            <a:off x="7020000" y="5589720"/>
            <a:ext cx="1106280" cy="691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2987640" y="1484280"/>
            <a:ext cx="3672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 4 …… 114×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2 8 ………114×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3 9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050920" y="2852640"/>
            <a:ext cx="79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971640" y="10526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方法四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WordArt 15"/>
          <p:cNvSpPr txBox="1"/>
          <p:nvPr/>
        </p:nvSpPr>
        <p:spPr>
          <a:xfrm>
            <a:off x="1908000" y="5300640"/>
            <a:ext cx="511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说一说乘法竖式计算要注意哪些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7" name="Picture 16" descr="j0149481"/>
          <p:cNvPicPr/>
          <p:nvPr/>
        </p:nvPicPr>
        <p:blipFill>
          <a:blip r:embed="rId2"/>
          <a:stretch/>
        </p:blipFill>
        <p:spPr>
          <a:xfrm>
            <a:off x="7308720" y="2781360"/>
            <a:ext cx="10638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楷体_GB2312"/>
                <a:ea typeface="楷体_GB2312"/>
              </a:rPr>
              <a:t>思考</a:t>
            </a:r>
            <a:r>
              <a:rPr b="1" lang="en-US" sz="4000" spc="-1" strike="noStrike">
                <a:solidFill>
                  <a:srgbClr val="e5e5ff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e5e5ff"/>
                </a:solidFill>
                <a:latin typeface="楷体_GB2312"/>
                <a:ea typeface="楷体_GB2312"/>
              </a:rPr>
              <a:t>用竖式计算两位数乘三位数时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步算什么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怎么算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二步算什么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怎么算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三步算什么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2:23:33Z</dcterms:created>
  <dc:creator>董泽宇</dc:creator>
  <dc:description/>
  <dc:language>en-US</dc:language>
  <cp:lastModifiedBy>tk</cp:lastModifiedBy>
  <dcterms:modified xsi:type="dcterms:W3CDTF">2011-10-15T07:41:03Z</dcterms:modified>
  <cp:revision>19</cp:revision>
  <dc:subject/>
  <dc:title>幻灯片 1</dc:title>
</cp:coreProperties>
</file>