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84B-0836-412F-B4D6-06992E52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E5E-5A82-4FBE-98DC-6576A7E6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F8B-83C7-41ED-97F4-AEC96370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772-CAF7-4671-A626-B91E4173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2268-2EFD-492F-AD2B-1071BE16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E78C-9F08-4025-9B4C-2CF70C2A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9263-BC52-4467-8A70-C864BA86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1270-5696-46EF-B926-B5462C93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D03C-FBBD-4454-A50E-0EFEDA69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C6AB-3A99-4085-876D-C64C8B7D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AC12-7256-4F51-A1C4-5E9724D2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EBF-5D69-4D00-9F48-961E9251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A0D1-B379-43C7-AE4D-29712BC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1271-1F36-463E-BBD9-E2F8C828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CEA9-EA5B-472C-AE83-673E7CDF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50C5-F2BC-4158-A2E0-74FB2C0C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2110-AAE7-4D49-81E4-92084844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16E-40CA-4373-9B08-0F813667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929-C8D9-4DE4-9D30-558C7355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88C-F5BC-4EF9-A079-B85775E4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FE5-FFDC-4DE4-8BB8-FAE2AB1C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9CD-B0F7-4A9C-B6FE-5FAEAB6D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ED8-1504-4AED-B495-7541608A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8D0-583A-409F-ADCB-8CE75D17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ECFC-F7F1-4F9F-B644-A83EAED83F6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15D3-2679-42EF-B5EC-DA56BF690A19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838080" y="1981080"/>
            <a:ext cx="74678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7572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飞夺泸定桥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007572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6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守城的两个团敌人，早已在城墙和山坡上筑好工事。他们凭着天险，疯狂地向红军喊叫：“来吧，看你们飞过来吧！”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合课文插图，默读课文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画出红四团夺桥时的动作的词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说说从这些词语中你能体会到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487692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0006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0"/>
            <a:ext cx="739116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二连担任突击队，二十二位英雄拿着冲锋枪、短枪，背着马刀，带着手榴弹，冒着敌人密集的枪弹，攀着铁链向对岸冲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1356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380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572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二连担任突击队，二十二位英雄向对岸冲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在这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千钧一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的时刻，传来了团长和政委的喊声：“同志们！为了革命事业，为了最后的胜利，冲呀！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布置：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学习了课文，你想对英雄们说些什么？请描写下来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收集与红军长征有关的故事，并复述。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54860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9051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渡河水湍急，两岸都是高山峻岭，只有一座铁索桥可以通过。这座铁索桥，就是红军要夺取的泸定桥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11305" t="9831" r="11170" b="505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大家自由朗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—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，思考：红军战士是怎么抢时间到达泸定桥的？　　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要求：用“——”和“～～”分别画出红军遇到了哪些困难和怎样克服困难的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14300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8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早上，红四团接到上级命令：“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早晨夺下泸定桥！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时间只剩下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个小时了，红四团离泸定桥还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里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晚上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钟，离泸定桥还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里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403848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从接到任务到夺下泸定下只有</a:t>
            </a:r>
            <a:r>
              <a:rPr b="1" lang="zh-CN" sz="2400" spc="-1" strike="noStrike" u="sng">
                <a:solidFill>
                  <a:srgbClr val="007572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时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红四团平均每小时行军约</a:t>
            </a:r>
            <a:r>
              <a:rPr b="1" lang="zh-CN" sz="2400" spc="-1" strike="noStrike" u="sng">
                <a:solidFill>
                  <a:srgbClr val="007572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里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晚上七点后，平均行军约</a:t>
            </a:r>
            <a:r>
              <a:rPr b="1" lang="zh-CN" sz="2400" spc="-1" strike="noStrike" u="sng">
                <a:solidFill>
                  <a:srgbClr val="007572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里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609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间紧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26708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小时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4952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555E-006 L -0.23334 -0.02659 E">
                                      <p:cBhvr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4879 L -0.25833 -0.04879 E">
                                      <p:cBhvr>
                                        <p:cTn id="3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19653E-006 L -0.22917 -0.09318 E">
                                      <p:cBhvr>
                                        <p:cTn id="3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05120" y="2362320"/>
            <a:ext cx="4495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敌军——两个团、两个旅增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军——一个团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981000"/>
            <a:ext cx="1798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力量悬殊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2286000"/>
            <a:ext cx="7543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战士们一整天没顾上吃饭。天又下起雨来，把他们全身都淋透了，可是战胜敌人的决心使他们忘记了饥饿和疲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漆黑的夜里，他们冒着倾盆大雨，踩着泥泞继续前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1371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条件恶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952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762120"/>
            <a:ext cx="7772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请同学们展开想象，战士们是怎样克服恶劣的条件的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摔倒在泥泞的路上时…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实在走不动了…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天黑得伸手不见五指时…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豆大的雨点打在人脸上觉得像刀割一样疼时…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99752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泸定桥一共十三根铁链，两边各有两根稍高的铁链，算是桥栏；地下并排九根，铺上木板，就是桥面。人走在上面摇摇晃晃，就像荡秋千一样。可是现在，连木板也被敌人抽掉了，只剩下铁链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303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褐色的河水像瀑布一样，在几十丈深的河谷里倾泻下来，冲到岩石上，飞溅起一丈多高的浪花，水声震耳欲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11305" t="9831" r="11170" b="50543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2-10-12T00:30:4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