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28.jpeg" ContentType="image/jpeg"/>
  <Override PartName="/ppt/media/image27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chimes.wav" ContentType="audio/x-wav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EE9-13A7-4172-9B57-1D27B502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7A1-4913-4B93-951E-3F1F83B7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B1A-FB4C-4FC8-AA29-55AA2307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495-208F-46D4-87D8-C685958E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C40-B2F5-410A-86E1-7B1162B3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E15B-EDA3-4803-B1B1-A6FAE3C0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B65-3F67-402A-AFE6-B8B11161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78DE-8124-4FF9-8A14-BBC81C6C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C932-9218-424A-B8BA-3D4FFA5B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F66-75E6-4C01-827F-FA0E9A7F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BF5-AF50-486E-9A05-4F997C69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D91-1130-4A8D-9CBB-55A91752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EFBD-20BA-4F84-9175-3EE882302A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tail.cn.china.cn/provide/detail,1261156635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p3.iecool.com/show/49/4189.htm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hyperlink" Target="http://image.baidu.com/i?ct=503316480&amp;z=0&amp;tn=baiduimagedetail&amp;word=%CC%FA%B0%E5&amp;in=16100&amp;cl=2&amp;cm=1&amp;sc=0&amp;lm=-1&amp;pn=3&amp;rn=1&amp;di=872853444&amp;ln=2000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995640" y="378936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484360" y="4437000"/>
            <a:ext cx="914400" cy="1168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340000" y="1125360"/>
            <a:ext cx="4537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质量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2280" y="380880"/>
            <a:ext cx="876312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、质量为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2500mg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的物体，它可能是（     ）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A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．一只羊的质量　　　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．一块橡皮的质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．一本物理书的质量　 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D</a:t>
            </a: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．一只蚂蚁的质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1197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3516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3.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有关质量说法错误的是 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(          )                                     A.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质量是物体所含物质的多少                                                        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B.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质量是物体本身的一种属性                                             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C.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质量不随物体的形状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状态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位置的改变而改变              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D.</a:t>
            </a:r>
            <a:r>
              <a:rPr b="1" lang="zh-CN" sz="4800" spc="-1" strike="noStrike">
                <a:solidFill>
                  <a:srgbClr val="3333ff"/>
                </a:solidFill>
                <a:latin typeface="黑体"/>
                <a:ea typeface="黑体"/>
              </a:rPr>
              <a:t>随着温度的改变物体的质量改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1066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9912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请在下面横线上填上确切的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一个初中生的质量约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45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一只乒乓球的质量大约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（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一头大象的质量大约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5.8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（）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一只苹果的质量约为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150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52720" y="141300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k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67640" y="2205000"/>
            <a:ext cx="48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4720" y="306864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3789360"/>
            <a:ext cx="50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质量的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716360" y="1916280"/>
          <a:ext cx="4248360" cy="424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1916280"/>
                    <a:ext cx="4248360" cy="4249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5280" y="1916280"/>
            <a:ext cx="4392720" cy="4249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87280" y="620640"/>
            <a:ext cx="64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生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常见的质量测量工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08000" y="12682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imes New Roman"/>
              </a:rPr>
              <a:t>电子秤　　　　　　磅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616572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那么我们实验室常用称质量的仪器是什么呢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5989680"/>
            <a:ext cx="19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天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天平的构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826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天平的结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>
            <a:off x="3203280" y="620640"/>
            <a:ext cx="1152360" cy="50472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831960"/>
            <a:ext cx="13082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468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分度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29240" y="739800"/>
            <a:ext cx="1238040" cy="968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86000"/>
            <a:ext cx="10810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指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58560" y="3976560"/>
            <a:ext cx="1406520" cy="4604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4124520"/>
            <a:ext cx="1066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游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8027640" y="3428640"/>
            <a:ext cx="431640" cy="360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01080" y="4063680"/>
            <a:ext cx="96984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平衡螺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1280" y="3716280"/>
            <a:ext cx="1729080" cy="1584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9640" y="5239080"/>
            <a:ext cx="12952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标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360" y="30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托盘天平的构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3284640"/>
            <a:ext cx="1008360" cy="2089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51640" y="5301000"/>
            <a:ext cx="12952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横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4" action="ppaction://hlinksldjump"/>
          </p:cNvPr>
          <p:cNvSpPr/>
          <p:nvPr/>
        </p:nvSpPr>
        <p:spPr>
          <a:xfrm>
            <a:off x="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2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dae2"/>
                </a:solidFill>
                <a:latin typeface="Arial"/>
                <a:ea typeface="楷体_GB2312"/>
              </a:rPr>
              <a:t>天平的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5" action="ppaction://hlinksldjump"/>
          </p:cNvPr>
          <p:cNvSpPr/>
          <p:nvPr/>
        </p:nvSpPr>
        <p:spPr>
          <a:xfrm>
            <a:off x="8459640" y="6551640"/>
            <a:ext cx="684360" cy="333360"/>
          </a:xfrm>
          <a:custGeom>
            <a:avLst/>
            <a:gdLst>
              <a:gd name="textAreaLeft" fmla="*/ 21600 w 684360"/>
              <a:gd name="textAreaRight" fmla="*/ 662760 w 684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44318" h="21600">
                <a:moveTo>
                  <a:pt x="0" y="0"/>
                </a:moveTo>
                <a:lnTo>
                  <a:pt x="44318" y="0"/>
                </a:lnTo>
                <a:lnTo>
                  <a:pt x="44318" y="21600"/>
                </a:lnTo>
                <a:lnTo>
                  <a:pt x="0" y="21600"/>
                </a:lnTo>
                <a:close/>
              </a:path>
              <a:path fill="lightenLess" w="44318" h="21600">
                <a:moveTo>
                  <a:pt x="0" y="0"/>
                </a:moveTo>
                <a:lnTo>
                  <a:pt x="44318" y="0"/>
                </a:lnTo>
                <a:lnTo>
                  <a:pt x="42918" y="1400"/>
                </a:lnTo>
                <a:lnTo>
                  <a:pt x="1400" y="1400"/>
                </a:lnTo>
                <a:close/>
              </a:path>
              <a:path fill="darken" w="44318" h="21600">
                <a:moveTo>
                  <a:pt x="44318" y="0"/>
                </a:moveTo>
                <a:lnTo>
                  <a:pt x="44318" y="21600"/>
                </a:lnTo>
                <a:lnTo>
                  <a:pt x="42918" y="20200"/>
                </a:lnTo>
                <a:lnTo>
                  <a:pt x="42918" y="1400"/>
                </a:lnTo>
                <a:close/>
              </a:path>
              <a:path fill="darkenLess" w="44318" h="21600">
                <a:moveTo>
                  <a:pt x="443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8" y="20200"/>
                </a:lnTo>
                <a:close/>
              </a:path>
              <a:path fill="lighten" w="443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8" h="21600">
                <a:moveTo>
                  <a:pt x="15153" y="3794"/>
                </a:moveTo>
                <a:lnTo>
                  <a:pt x="29166" y="10800"/>
                </a:lnTo>
                <a:lnTo>
                  <a:pt x="15153" y="17806"/>
                </a:lnTo>
                <a:close/>
              </a:path>
            </a:pathLst>
          </a:custGeom>
          <a:solidFill>
            <a:srgbClr val="d2d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280" y="4670280"/>
            <a:ext cx="3600360" cy="218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8360" y="189000"/>
            <a:ext cx="3527280" cy="2252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3476520" cy="1906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03680" y="235080"/>
            <a:ext cx="28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" rIns="468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天平的使用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16360" y="3357720"/>
            <a:ext cx="942840" cy="6476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2565360"/>
            <a:ext cx="8650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5157720"/>
            <a:ext cx="100008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4869000"/>
            <a:ext cx="100800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1125360"/>
            <a:ext cx="576360" cy="505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95640" y="981000"/>
            <a:ext cx="435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把天平放在水平台。把游码放在标尺左端零刻线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280" y="2924280"/>
            <a:ext cx="460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、调节平衡螺母使指针指在分度盘的中线处，这时横粱平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11640" y="4724280"/>
            <a:ext cx="4176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把被测物体放在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左盘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里用镊子向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右盘里加减砝码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调节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游码在横梁上的位置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，直到横梁恢复平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85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850"/>
                            </p:stCondLst>
                            <p:childTnLst>
                              <p:par>
                                <p:cTn id="4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850"/>
                            </p:stCondLst>
                            <p:childTnLst>
                              <p:par>
                                <p:cTn id="417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6350"/>
                            </p:stCondLst>
                            <p:childTnLst>
                              <p:par>
                                <p:cTn id="4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8350"/>
                            </p:stCondLst>
                            <p:childTnLst>
                              <p:par>
                                <p:cTn id="427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633420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549360"/>
            <a:ext cx="822960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天平的使用注意事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不要超过称量．每台天平能够称的最大质量叫做天平的称量．用天平称物体的质量不能超过天平的称量．用镊子往盘里加减砝码时要轻拿轻放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保持天平干燥、清洁．不要把潮湿的物体和化学药品直接放在天平盘里．不要用手直接拿砝码，不要把砝码弄湿弄脏，以免锈蚀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用天平测量液体的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1523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先测量空瓶的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2096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再测量空瓶和液体的总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3124080"/>
            <a:ext cx="761976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用空瓶和液体的总质量减去空瓶的质量就等于液体的质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用天平测量微小物体的质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28522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测量该物体多个的总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用总质量除个数就是一个微小物体的质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2"/>
          </p:cNvPr>
          <p:cNvPicPr/>
          <p:nvPr/>
        </p:nvPicPr>
        <p:blipFill>
          <a:blip r:embed="rId3"/>
          <a:srcRect l="36541" t="0" r="17295" b="6662"/>
          <a:stretch/>
        </p:blipFill>
        <p:spPr>
          <a:xfrm>
            <a:off x="611280" y="189000"/>
            <a:ext cx="3529080" cy="302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rcRect l="0" t="22316" r="0" b="23106"/>
          <a:stretch/>
        </p:blipFill>
        <p:spPr>
          <a:xfrm>
            <a:off x="4427640" y="189000"/>
            <a:ext cx="3673440" cy="309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573360"/>
            <a:ext cx="3741840" cy="2637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411280" y="1125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铁钉和铁锤含铁的多少一样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581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杯水和半杯水哪个含水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33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5.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下列操作不正确的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990720"/>
            <a:ext cx="849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A.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调节天平平衡时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如右盘下沉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则应调节右侧平衡螺母向左移                                                                           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B.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称量时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左盘放被侧物体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右盘放砝码                              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C.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称量时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可用手增减砝码使天平平衡                               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D.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称量完毕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将砝码及时放会砝码盒</a:t>
            </a:r>
            <a:r>
              <a:rPr b="1" lang="zh-CN" sz="44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80000" y="0"/>
            <a:ext cx="12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、托盘天平调节好以后，在称量物体质量时，发现指针尖指在分度盘正中刻度线的右方，这时应当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(      )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Ａ　把右端的平衡螺母向左移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Ｂ　把右端的平衡螺母向右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Ｃ　把游码向右移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Ｄ　换用小一些的砝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8000" y="1989000"/>
            <a:ext cx="7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99172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一个人在用天平测量物体的质量的时候，不小心把被测物体放到了右盘，砝码放到了左盘，砝码有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50g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一个，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20g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两个，游码刻度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3g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。该物体的质量是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90 g           B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93g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87g          D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73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95880" y="2971800"/>
            <a:ext cx="9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Arial"/>
              </a:rPr>
              <a:t>说说看：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现有七个外形相同的小球，其中六个是实心的，一个是空心的，用天平最多称量两次，你能把那个空心球找出来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89000"/>
            <a:ext cx="35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一、质量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(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98100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定义　物体中所含物质的多少叫做质量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227664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质量的国际单位是千克　符号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k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3573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克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437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毫克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37372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吨   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3789360"/>
            <a:ext cx="345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t = 10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kg = 100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g = 1000 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300720" y="3645000"/>
            <a:ext cx="2492280" cy="27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881080" cy="3095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8360" y="371628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将苹果从地球拿到月球上去，苹果的质量有没有变化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276720" y="260280"/>
            <a:ext cx="2879640" cy="3006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300720" y="260280"/>
            <a:ext cx="2664000" cy="2952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067280" y="1052640"/>
            <a:ext cx="1358640" cy="107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6948360" y="981000"/>
            <a:ext cx="1368720" cy="107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232416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067280" y="2781360"/>
            <a:ext cx="2611440" cy="2233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2280" y="522936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质量是物体的属性，不随形状、状态、位置而变化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16360" y="378936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3213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量会改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39640" y="333360"/>
            <a:ext cx="2376720" cy="2143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87640" y="1268280"/>
            <a:ext cx="1008000" cy="289080"/>
          </a:xfrm>
          <a:prstGeom prst="rightArrow">
            <a:avLst>
              <a:gd name="adj1" fmla="val 50000"/>
              <a:gd name="adj2" fmla="val 87173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067280" y="260280"/>
            <a:ext cx="2592360" cy="2089080"/>
            <a:chOff x="4067280" y="260280"/>
            <a:chExt cx="2592360" cy="2089080"/>
          </a:xfrm>
        </p:grpSpPr>
        <p:pic>
          <p:nvPicPr>
            <p:cNvPr id="71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067280" y="260280"/>
              <a:ext cx="2592360" cy="20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43280" y="1197000"/>
              <a:ext cx="19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00"/>
                  </a:solidFill>
                  <a:latin typeface="Times New Roman"/>
                </a:rPr>
                <a:t>铁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6804000" y="76500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质量会改变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819520" y="36576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19520" y="76320"/>
            <a:ext cx="2971800" cy="2590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5880" y="3581280"/>
            <a:ext cx="2590920" cy="238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>
            <a:lum contrast="24000"/>
          </a:blip>
          <a:stretch/>
        </p:blipFill>
        <p:spPr>
          <a:xfrm>
            <a:off x="6248520" y="76320"/>
            <a:ext cx="2666880" cy="2590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304920" y="76320"/>
            <a:ext cx="220968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6320" y="2895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 Narrow"/>
              </a:rPr>
              <a:t>一个鸡蛋大约</a:t>
            </a:r>
            <a:r>
              <a:rPr b="1" lang="zh-CN" sz="2400" spc="-1" strike="noStrike">
                <a:solidFill>
                  <a:srgbClr val="ff3399"/>
                </a:solidFill>
                <a:latin typeface="Arial Narrow"/>
              </a:rPr>
              <a:t>5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29718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 Narrow"/>
              </a:rPr>
              <a:t>约</a:t>
            </a: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15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2895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 Narrow"/>
              </a:rPr>
              <a:t>大约</a:t>
            </a:r>
            <a:r>
              <a:rPr b="1" lang="zh-CN" sz="2800" spc="-1" strike="noStrike">
                <a:solidFill>
                  <a:srgbClr val="ff3399"/>
                </a:solidFill>
                <a:latin typeface="Arial Narrow"/>
              </a:rPr>
              <a:t>2 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61722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 Narrow"/>
              </a:rPr>
              <a:t>大约</a:t>
            </a:r>
            <a:r>
              <a:rPr b="1" lang="zh-CN" sz="3200" spc="-1" strike="noStrike">
                <a:solidFill>
                  <a:srgbClr val="ff3399"/>
                </a:solidFill>
                <a:latin typeface="Arial Narrow"/>
              </a:rPr>
              <a:t>6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6095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 Narrow"/>
              </a:rPr>
              <a:t>可达</a:t>
            </a:r>
            <a:r>
              <a:rPr b="1" lang="zh-CN" sz="2800" spc="-1" strike="noStrike">
                <a:solidFill>
                  <a:srgbClr val="ff3399"/>
                </a:solidFill>
                <a:latin typeface="Arial Narrow"/>
              </a:rPr>
              <a:t>150 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76320" y="3657600"/>
            <a:ext cx="259056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880" y="6248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 Narrow"/>
              </a:rPr>
              <a:t>约</a:t>
            </a:r>
            <a:r>
              <a:rPr b="1" lang="en-US" sz="2800" spc="-1" strike="noStrike">
                <a:solidFill>
                  <a:srgbClr val="ff3399"/>
                </a:solidFill>
                <a:latin typeface="Arial Narrow"/>
              </a:rPr>
              <a:t>50—80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11280" y="16286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</a:rPr>
              <a:t>你知道生活中常用的质量单位吗？国外又有哪些常用质量单位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87120" y="404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Arial"/>
              </a:rPr>
              <a:t>小常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54600" y="1314360"/>
            <a:ext cx="668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生活中：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斤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=500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克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两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=50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2781360"/>
            <a:ext cx="558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国外：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磅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=453.5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4437000"/>
            <a:ext cx="683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钻石：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克拉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=0.2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克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=200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毫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9280" y="1257480"/>
            <a:ext cx="9144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关于物体的质量，下面说法正确 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( )   A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．同一块铁，做成铁锤质量大，做成铁管质量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．一块铝熔化成液体后，质量变小了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．一块铜在地球上时的质量比在月球上时的质量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．一块铜的质量不随它的形状、温度、状态、位置的改变而改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532720" y="14130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0"/>
            <a:ext cx="208908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随堂练习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30T08:40:15Z</dcterms:created>
  <dc:creator>www.dearedu.com</dc:creator>
  <dc:description>www.dearedu.com</dc:description>
  <cp:keywords>www.dearedu.com</cp:keywords>
  <dc:language>en-US</dc:language>
  <cp:lastModifiedBy>微软用户</cp:lastModifiedBy>
  <dcterms:modified xsi:type="dcterms:W3CDTF">2012-09-05T00:30:45Z</dcterms:modified>
  <cp:revision>7</cp:revision>
  <dc:subject>www.dearedu.com</dc:subject>
  <dc:title>www.dearedu.com</dc:title>
</cp:coreProperties>
</file>