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7.gif" ContentType="image/gif"/>
  <Override PartName="/ppt/media/image16.gif" ContentType="image/gif"/>
  <Override PartName="/ppt/media/image14.jpeg" ContentType="image/jpeg"/>
  <Override PartName="/ppt/media/image15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FDA9-36D5-442F-AE52-E9E18266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10CF-EC23-493D-BB9D-69803F242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3313-D085-4F74-AFCD-D4691F773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5C7D-615B-42B7-823F-6833574D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9DF2-DA64-406A-8D33-12229091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D2F-CE12-444E-98D1-B2817E3C3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D3DE-B034-4E97-809C-8C1F81F2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CEAB-AF92-4E6B-B431-D99122C4C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9C15-1FE4-4FD8-AA99-15D06CBB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90FC-EC75-4B3A-9674-06A7E8D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969-D2CF-43D6-A4C1-2EB9691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03BC-AC05-4111-9568-F6F06E33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41E7A-54C2-44C2-BCEF-C8F982921FD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8172360" y="6535800"/>
            <a:ext cx="720720" cy="277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zwwhjl.com/news/3.asp?articleid=167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hebeimusic.com/thread-42659-1-1.html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tech.driverchina.com/html/mp3dg/16574714071_5.htm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16000" y="1989000"/>
            <a:ext cx="684072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Unit12 Lesson 1 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华文新魏"/>
                <a:ea typeface="华文新魏"/>
              </a:rPr>
              <a:t>Visiting Britain</a:t>
            </a:r>
            <a:r>
              <a:rPr b="1" lang="zh-CN" sz="7000" spc="-1" strike="noStrike">
                <a:solidFill>
                  <a:srgbClr val="0000ff"/>
                </a:solidFill>
                <a:latin typeface="华文新魏"/>
                <a:ea typeface="华文新魏"/>
              </a:rPr>
              <a:t> 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44600" y="476280"/>
            <a:ext cx="8375400" cy="45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Xiaojin was writing the letter to ___?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make an apology to Aunt me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tell Aunt Mei something about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invite Aunt Mei to visit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26920" y="2205000"/>
            <a:ext cx="64800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44600" y="0"/>
            <a:ext cx="8375400" cy="79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Once Xiaojin had a meal at a restaurant. When she paid the bill, she found it was 19 pounds and the tip was not inculded, so she left__for the waiter?                                                     A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B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0.19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￡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.When hiking in the English countryside,one had better__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not wander through the fie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not eat the mushroom he picks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wear warm clot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292720" y="270828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684360" y="6021360"/>
            <a:ext cx="718920" cy="71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73200" y="1626840"/>
            <a:ext cx="8146800" cy="32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From the letter, we know many things about Britain except___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.what for breakf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. tipp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C.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971640" y="3933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716360" y="5157720"/>
            <a:ext cx="1209600" cy="1428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39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Step3 Careful-reading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9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   </a:t>
            </a:r>
            <a:r>
              <a:rPr b="1" i="1" lang="zh-CN" sz="39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re these sentences true or false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) 1. You can only eat English food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) 2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unt Mei is visiting for one week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) 3. You d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 always need to leave a tip after a meal in a restaur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) 4. Some British mushroom aren’t safe to ea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) 5. British people never laug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) 6. There are many Chinese restaurants in Brit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) 7. Most British people are frien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   ) 8. It is always foggy in Lond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541080" y="9079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541080" y="148428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541080" y="206064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612360" y="314172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41080" y="3645000"/>
            <a:ext cx="42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407664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"/>
          <p:cNvSpPr/>
          <p:nvPr/>
        </p:nvSpPr>
        <p:spPr>
          <a:xfrm>
            <a:off x="611280" y="5013360"/>
            <a:ext cx="28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539640" y="5589720"/>
            <a:ext cx="4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835280" y="5661000"/>
            <a:ext cx="1152360" cy="5205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isn’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2987640" y="1052640"/>
            <a:ext cx="1430640" cy="459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not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ear Aunt Me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How times flies! It has been six months since I came here. I ow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ou an apology___not writing to you more often.I’ve been busy studying and trying to ____all the new things around me, for I’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till________culture sh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’ m  glad you’ll visit me soon and I’ll tell you something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ondon. London is  an international City____there are 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ternational restaurant and there is at least one Chinese restau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n every town. You have to get___to the tipping system here.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uggest___10% of the bill for the waiter or the waitress. You can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some traveller’s cheques as it’s easy to____them at banks or hotels.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nk we should consider_____in the English countryside for a f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nights so as to enjoy hiking and taste some mushrooms. Don’t for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o bring a warm coat for it can get___cold and foggy here. One la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hing, don’t worry about how to get along with the peop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because the ____of them are quite friend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I am look forward to your vis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Love Xiaoj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4320" y="0"/>
            <a:ext cx="366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Arial"/>
              </a:rPr>
              <a:t>Step4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2484360" y="1268280"/>
            <a:ext cx="6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Fo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540000" y="213372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experien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5508720" y="2708280"/>
            <a:ext cx="8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3057480" y="3429000"/>
            <a:ext cx="20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Used/accusto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042920" y="3573360"/>
            <a:ext cx="107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leaving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4858920" y="42210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ex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3275640" y="4437000"/>
            <a:ext cx="9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stay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2771640" y="1700280"/>
            <a:ext cx="18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absor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4284360" y="5229360"/>
            <a:ext cx="84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ret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330560" y="587700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maj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39640" y="1844640"/>
            <a:ext cx="763272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anguage points</a:t>
            </a:r>
            <a:endParaRPr b="1" lang="en-US" sz="6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964720" cy="52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owe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(v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r Green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ow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d me 100,000 yu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owe sb. an apology for …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因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欠某人一个道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owe … to …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把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归功于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owe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 his success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hard wor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他把自己的成就归功于努力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620280"/>
            <a:ext cx="8540640" cy="527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apologize (v.) to sb. for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9999"/>
                </a:solidFill>
                <a:latin typeface="Times New Roman"/>
              </a:rPr>
              <a:t>    </a:t>
            </a:r>
            <a:r>
              <a:rPr b="1" lang="en-GB" sz="3600" spc="-1" strike="noStrike">
                <a:solidFill>
                  <a:srgbClr val="3333ff"/>
                </a:solidFill>
                <a:latin typeface="Times New Roman"/>
              </a:rPr>
              <a:t>apology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(n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make / offer an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pology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to sb. for s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eres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昨天上学迟到向老师道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eresa made an </a:t>
            </a:r>
            <a:r>
              <a:rPr b="1" lang="en-GB" sz="3600" spc="-1" strike="noStrike">
                <a:solidFill>
                  <a:srgbClr val="333399"/>
                </a:solidFill>
                <a:latin typeface="Times New Roman"/>
              </a:rPr>
              <a:t>apology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to the teacher for being late for schoo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= Teresa apologized to the teacher for 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842320" cy="494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advi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to do / </a:t>
            </a:r>
            <a:r>
              <a:rPr b="1" lang="zh-CN" sz="3600" spc="-1" strike="noStrike">
                <a:solidFill>
                  <a:srgbClr val="3333ff"/>
                </a:solidFill>
                <a:latin typeface="Times New Roman"/>
              </a:rPr>
              <a:t>sugges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o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r. Li advises us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to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practi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peaking English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r. Li suggests us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practisi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speaking English every da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李老师建议我们每天都练习说英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560" y="-360"/>
            <a:ext cx="8713800" cy="58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4 .</a:t>
            </a:r>
            <a:r>
              <a:rPr b="1" lang="en-GB" sz="3600" spc="-1" strike="noStrike">
                <a:solidFill>
                  <a:srgbClr val="3333ff"/>
                </a:solidFill>
                <a:latin typeface="Times New Roman"/>
                <a:ea typeface="华文新魏"/>
              </a:rPr>
              <a:t> consider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(v.) + n. / doing / clause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考虑认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I’m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considering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changing my job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我正考虑换份工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onsider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that you are wro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认为你错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imes New Roman"/>
              </a:rPr>
              <a:t>★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onsider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as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…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为，把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看作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GB" sz="3600" spc="-1" strike="noStrike">
                <a:solidFill>
                  <a:srgbClr val="0000ff"/>
                </a:solidFill>
                <a:latin typeface="Times New Roman"/>
              </a:rPr>
              <a:t>consider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him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i="1" lang="en-GB" sz="3600" spc="-1" strike="noStrike" u="sng">
                <a:solidFill>
                  <a:srgbClr val="000000"/>
                </a:solidFill>
                <a:uFillTx/>
                <a:latin typeface="Times New Roman"/>
              </a:rPr>
              <a:t>as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n example to learn from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们把他看作是学习的榜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68360" y="907920"/>
            <a:ext cx="82803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hat’s the full name of the UK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the United Kingdom of Great Britain and Northern Ire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. How many parts does the UK consist of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four parts:Scotland, England, Wales, and Northern Irelan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7080" y="206280"/>
            <a:ext cx="3663000" cy="703440"/>
          </a:xfrm>
          <a:prstGeom prst="rect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Step1 Warm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11280" y="-36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Discussion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1125360"/>
            <a:ext cx="6705720" cy="29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If your English friend is coming to visit you in Anqing, what will you advise him or her to do or not to do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新干线火车"/>
          <p:cNvPicPr/>
          <p:nvPr/>
        </p:nvPicPr>
        <p:blipFill>
          <a:blip r:embed="rId2"/>
          <a:stretch/>
        </p:blipFill>
        <p:spPr>
          <a:xfrm>
            <a:off x="2195640" y="4076640"/>
            <a:ext cx="6948360" cy="27813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6"/>
          <p:cNvSpPr/>
          <p:nvPr/>
        </p:nvSpPr>
        <p:spPr>
          <a:xfrm>
            <a:off x="6659640" y="3573360"/>
            <a:ext cx="2160360" cy="79236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437920" y="0"/>
            <a:ext cx="6705720" cy="32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You can discuss 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the weather, </a:t>
            </a:r>
            <a:r>
              <a:rPr b="1" lang="zh-CN" sz="3600" spc="-1" strike="noStrike">
                <a:solidFill>
                  <a:srgbClr val="ff0066"/>
                </a:solidFill>
                <a:latin typeface="Comic Sans MS"/>
              </a:rPr>
              <a:t>customs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00cc"/>
                </a:solidFill>
                <a:latin typeface="Comic Sans MS"/>
              </a:rPr>
              <a:t>accommodation,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Comic Sans MS"/>
              </a:rPr>
              <a:t>money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zh-CN" sz="3600" spc="-1" strike="noStrike">
                <a:solidFill>
                  <a:srgbClr val="006600"/>
                </a:solidFill>
                <a:latin typeface="Comic Sans MS"/>
              </a:rPr>
              <a:t>eating out,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808080"/>
                </a:solidFill>
                <a:latin typeface="Comic Sans MS"/>
              </a:rPr>
              <a:t>travel,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600" spc="-1" strike="noStrike">
                <a:solidFill>
                  <a:srgbClr val="99cc00"/>
                </a:solidFill>
                <a:latin typeface="Comic Sans MS"/>
              </a:rPr>
              <a:t>differences</a:t>
            </a:r>
            <a:r>
              <a:rPr b="1" lang="zh-CN" sz="3600" spc="-1" strike="noStrike">
                <a:solidFill>
                  <a:srgbClr val="99cc00"/>
                </a:solidFill>
                <a:latin typeface="Comic Sans MS"/>
                <a:ea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200305cfeima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48000" y="3716280"/>
            <a:ext cx="4969080" cy="28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AutoShape 4"/>
          <p:cNvSpPr/>
          <p:nvPr/>
        </p:nvSpPr>
        <p:spPr>
          <a:xfrm>
            <a:off x="755640" y="1413000"/>
            <a:ext cx="6913440" cy="3600360"/>
          </a:xfrm>
          <a:prstGeom prst="wedgeRoundRectCallout">
            <a:avLst>
              <a:gd name="adj1" fmla="val -52986"/>
              <a:gd name="adj2" fmla="val 73763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826920" y="1916280"/>
            <a:ext cx="654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Homework of tod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Comic Sans MS"/>
              </a:rPr>
              <a:t>Translate the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00"/>
                </a:solidFill>
                <a:latin typeface="Comic Sans MS"/>
              </a:rPr>
              <a:t>following sentenc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到他做出这种事情我感到吃惊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be surprised to 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今年夏天我们抽不出时间去渡假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afford t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他正在考虑买一辆小汽车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onsi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要避免再犯同样的错误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avoi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不要冒险在这污染了的河里游泳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ris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迫不及待地想要知道考试成绩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can’t wai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685800" y="16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49320" y="981000"/>
            <a:ext cx="820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I was surprised to see that he did such a th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720" y="1916280"/>
            <a:ext cx="8977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0000"/>
                </a:solidFill>
                <a:latin typeface="Times New Roman"/>
              </a:rPr>
              <a:t>We can’t afford to go away for a holiday this summ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0" y="2852640"/>
            <a:ext cx="78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He is considering buying a c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-8640" y="3860640"/>
            <a:ext cx="886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You should avoid making the same mistake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-6480" y="4797360"/>
            <a:ext cx="89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You shouldn’t risk swimming in the polluted ri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0" y="5805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Tom can’t waiting to know the result of the exa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2411280" y="2276640"/>
            <a:ext cx="3961080" cy="23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Thank you</a:t>
            </a: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新魏"/>
              </a:rPr>
              <a:t>！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89000"/>
            <a:ext cx="338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23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Do you know the following famous places and people of the UK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649840" y="476280"/>
            <a:ext cx="317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Times New Roman"/>
              </a:rPr>
              <a:t>London 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216000" y="214200"/>
            <a:ext cx="8928000" cy="6697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rcRect l="0" t="8178" r="0" b="706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47640" y="620640"/>
            <a:ext cx="18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Big B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3636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23960" y="333360"/>
            <a:ext cx="42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Buckingham Pala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533520"/>
            <a:ext cx="38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TOWER BRID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2600" y="1268280"/>
            <a:ext cx="4411800" cy="51850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495680" y="1268280"/>
            <a:ext cx="4648320" cy="5181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076720" y="476280"/>
            <a:ext cx="32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London  Ey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16000" y="836640"/>
            <a:ext cx="24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Spice Gir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843120"/>
            <a:ext cx="25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The Beat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9280" y="1916280"/>
            <a:ext cx="4321440" cy="4219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00720" y="1916280"/>
            <a:ext cx="4464000" cy="417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643280" y="1125360"/>
            <a:ext cx="3849840" cy="4633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014640" y="5734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David Beckh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735120" y="1125360"/>
            <a:ext cx="3765600" cy="46339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68160" y="219240"/>
            <a:ext cx="160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981000"/>
            <a:ext cx="8375760" cy="67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1. Xiaojin was writing the letter to__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Aunt Mei’s visit to Lond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B. after Aunt Mei’s visit to London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C. during Aunt Mei’s visit to Lo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. Xiaojin was writing the letter to ___?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. make an apology to Aunt me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. tell Aunt Mei something about Lo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. invite Aunt Mei to visit Lond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3.Once Xiaojin had a meal at a restaurant. When she paid the bill, she found it was 19 pounds and the tip was not inculded, so she left__for the waiter?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9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B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19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4.When hiking in the English countryside,one had better__?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. not wander through the fiel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. not eat the mushroom he picks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. wear warm clot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5. From the letter, we know many things about Britain except___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A.what for breakf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B. tipping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. edu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7640" y="-360"/>
            <a:ext cx="5435640" cy="9730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6600cc"/>
              </a:gs>
              <a:gs pos="100000">
                <a:srgbClr val="000000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tep2 Fast-rea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1413000"/>
            <a:ext cx="83152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9560" indent="-439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9560" indent="-439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6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6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67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6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981000"/>
            <a:ext cx="8375760" cy="51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Xiaojin was writing the letter to____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efore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unt Mei’s visit to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after Aunt Mei’s visit to Lond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during Aunt Mei’s visit to London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206064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50920" y="1413000"/>
            <a:ext cx="831528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9560" indent="-439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39560" indent="-43956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00:44:14Z</dcterms:created>
  <dc:creator>学英语报社教研部</dc:creator>
  <dc:description/>
  <dc:language>en-US</dc:language>
  <cp:lastModifiedBy>USER</cp:lastModifiedBy>
  <dcterms:modified xsi:type="dcterms:W3CDTF">2012-09-18T04:06:22Z</dcterms:modified>
  <cp:revision>350</cp:revision>
  <dc:subject/>
  <dc:title>PowerPoint 演示文稿</dc:title>
</cp:coreProperties>
</file>