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DEF-A68C-4409-A8A1-4F15E0CA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D0E-C905-4422-8110-57909AC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B58-55F4-4311-8F5C-609D6CA5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4CD-14AF-426C-BC0E-4B31D7B2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0401D-4569-4378-AB79-AC343ADF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D8447-4A4F-4CC8-8B87-E9C95107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B531C-2006-4D5B-BFC9-E40F41BC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38D75-F68E-4712-8C4B-D222A45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C317E-39BB-4516-896C-E05BF43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9F8B6-C779-4052-A2FA-D1797C8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0AB6D-E669-4742-B869-294B7AA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8C3-5671-4916-BCDF-23D2F454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F2F00-5855-4E3B-B504-9588653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B7AC-EE91-4915-9572-D16CE1C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2741F-86FA-4BF9-92F9-19357FB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B9ACA-F217-4EBE-A3BA-35E1BB36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41B3F-E92F-433C-AC07-BFB0ED3D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EA0C9-3FDF-40F4-AC22-824A809F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FB7B6-57D3-4F70-9479-52A91169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F83CF-3041-4E79-860E-EDD52C3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B6779-4304-4A9F-B913-6AB2836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6CD5A-46D8-47F5-B4E2-6F2BEB8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864-3A46-4891-933F-9F933B0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71444-5F7C-4C79-AE8B-39BD466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49E17-2002-4E6E-AE39-3617849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AA660-8D53-4483-A1F0-422B8B3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32AC4-8A7F-4195-B28E-C150BA0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B08CA-5C4B-4948-AD6F-2CD3286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A0D55-7455-4189-9FE4-EC923F13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75FEF-5B2C-408E-8C5F-B7710C9A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72C1-47AE-45DC-ACCE-BAF69BCE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0037-A77F-4F35-98CA-E546B3A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87F0-E093-432F-9804-7AB19560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074-4DF9-4B28-8182-938DE3E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29EC-3916-4B62-9775-B6E84C4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D331-F4FC-45C1-9A60-A4805F39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DF87-E74C-41B7-B7B4-DE3F2D3B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D49E-7C42-47DE-88A2-DD1D208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2E53-EAA8-4C77-8BF5-D410709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419E-0C6B-4504-8841-6D0F2A3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7D48-8FA2-4A3C-8D82-FE13F90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EFB1-88C3-45CD-99A3-26510F03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6DB7-A6F0-43AA-8BD5-D87822C8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0EB9-9655-4A46-BFBF-02611699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487-6BC5-482C-8EA7-E9BDD13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993F-5B09-49BC-B56A-897319E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EEDB-765B-46AE-9770-6DD5B7F7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1DBC-805D-4793-8462-ED124603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E419-64EA-4EEE-86A6-A3375F2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3E8AD-A05C-43F5-AEBC-EAAF8F48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79F9-3BEA-44FD-BAFA-33CF035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45FA-F6ED-410A-896B-20AF522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0F60-0B06-41F0-8ACF-1AE4141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31EC6-A3BB-4A49-BA22-E0F26B6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8DCA-799D-4B32-8D50-A971CF69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4B6-EC63-45EA-96CD-734CCF9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4FA3-4F43-47A9-9FB3-280A19D6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D15-7B6B-46D4-BBAD-5A2DE07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78B-5BA2-4E59-8F2F-A668C6DE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112-A348-461C-9C5E-D983F57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3B31-71ED-4347-AB49-3CEF9585B5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29C-3A9B-4377-832F-4D0C27D3DBA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EF6C-CA2F-470E-96CF-0D9622E16A5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D3A-0BE1-4565-9D45-2C1619E60A3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D993-AFFD-448D-9D78-B8325E9A4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2720" cy="3860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788000" cy="4005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56000" y="69228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不幸者的悲苦生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125360"/>
            <a:ext cx="2411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老王的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苦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836640"/>
            <a:ext cx="360360" cy="237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836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职业：三轮单干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360" y="170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理缺陷：眼睛不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68360" y="2637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生活状况：困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47440" y="981000"/>
            <a:ext cx="2397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632560" y="2781360"/>
          <a:ext cx="35114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2560" y="2781360"/>
                    <a:ext cx="35114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227664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老王的“善”体现在文中的哪些地方？找出相应的语句，读一读，谈谈自己的感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老王的“善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20606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1916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送冰、送人、拉“货”（相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送香油和鸡蛋（相别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-324000" y="-1467000"/>
            <a:ext cx="9753840" cy="9753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43600" y="0"/>
            <a:ext cx="7898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Garamond"/>
              </a:rPr>
              <a:t>美丽而善良的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653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Garamond"/>
              </a:rPr>
              <a:t>杨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59280" y="549360"/>
            <a:ext cx="33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杨绛，原名杨季康，生于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1911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年，江苏无锡人。作家、文学翻译家。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1932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年毕业于苏州东吴大学。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1935—1938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年留学英法。回国后曾任教于清华大学。散文集《干校六记》、《将饮茶》等，长篇小说《洗澡》。主要译著有《堂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·</a:t>
            </a:r>
            <a:r>
              <a:rPr b="1" lang="zh-CN" sz="2800" spc="-1" strike="noStrike">
                <a:solidFill>
                  <a:srgbClr val="ffff66"/>
                </a:solidFill>
                <a:latin typeface="Garamond"/>
              </a:rPr>
              <a:t>吉诃德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4025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1636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钱钟书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910—1998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，江苏无锡人。学者，作家，著有小说《围城》和学术著作《谈艺录》、《管锥编》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8360" y="47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回忆录《我们仨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</a:rPr>
              <a:t>创作背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创作年代：作于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1984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年，是一篇回忆性的散文，作者记叙了自己从前同老王交往的几个片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社会背景：“文化大革命”时期，是一个荒唐动乱的年代，作者夫妇被认为是“反动学术权威”。但是，任何歪风邪气对老王都没有丝毫影响，他照样尊重作者夫妇。由此与老王的交往深深的印刻在了作者的脑海之中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读一读，写一写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Garamond"/>
                <a:ea typeface="幼圆"/>
              </a:rPr>
              <a:t>yǔ        huáng             pì        tā                 d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伛       惶 恐      荒 僻      塌 败     取缔</a:t>
            </a:r>
            <a:r>
              <a:rPr b="1" lang="zh-CN" sz="3200" spc="-1" strike="noStrike">
                <a:solidFill>
                  <a:srgbClr val="ffff66"/>
                </a:solidFill>
                <a:latin typeface="Garamond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Garamond"/>
                <a:ea typeface="幼圆"/>
              </a:rPr>
              <a:t>kū lóu   zh</a:t>
            </a:r>
            <a:r>
              <a:rPr b="1" lang="zh-CN" sz="3200" spc="-1" strike="noStrike">
                <a:solidFill>
                  <a:srgbClr val="ffff66"/>
                </a:solidFill>
                <a:latin typeface="Garamond"/>
              </a:rPr>
              <a:t>ì</a:t>
            </a:r>
            <a:r>
              <a:rPr b="1" lang="zh-CN" sz="3200" spc="-1" strike="noStrike">
                <a:solidFill>
                  <a:srgbClr val="ffff66"/>
                </a:solidFill>
                <a:latin typeface="Garamond"/>
                <a:ea typeface="幼圆"/>
              </a:rPr>
              <a:t>           kuì zu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骷髅    滞 笨      愧 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通读全文，整体感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读、记、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916280"/>
            <a:ext cx="7669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王是个什么人？（职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身体状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的生活境遇又如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具备哪些品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老王的“苦”体现在文中的哪些地方？找出相应的语句并谈谈你的感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3:19:58Z</dcterms:created>
  <dc:creator>lenovo</dc:creator>
  <dc:description/>
  <dc:language>en-US</dc:language>
  <cp:lastModifiedBy>lenovo</cp:lastModifiedBy>
  <dcterms:modified xsi:type="dcterms:W3CDTF">2012-09-22T08:36:10Z</dcterms:modified>
  <cp:revision>34</cp:revision>
  <dc:subject/>
  <dc:title>老王 杨绛</dc:title>
</cp:coreProperties>
</file>